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mb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2E4-A713-4335-A9EB-2FCCD0CE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FAB-BDF1-40E4-88CB-C7E352D4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90F-EF41-490C-8874-BB287AC8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DB8-3111-4694-973E-9E2A491D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C2F-A52D-478D-A802-36034CF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886-D648-41FE-9908-6A0FA68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A57-6062-4AE7-B21A-231C2794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85C-5F71-4C8E-969E-C040613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15F-4080-4A6D-B1B3-42033E1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7A2-3F9E-4C6F-BF29-913BAE0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126-DD0A-443F-96AD-069EB5A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122-5EC3-45B0-9C8D-7CAD739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DC1-A10A-4F6A-AFA5-9FD445CB97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83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fat sausages sizzling in a 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grpSp>
        <p:nvGrpSpPr>
          <p:cNvPr id="10382" name=""/>
          <p:cNvGrpSpPr/>
          <p:nvPr/>
        </p:nvGrpSpPr>
        <p:grpSpPr>
          <a:xfrm>
            <a:off x="2556000" y="3789360"/>
            <a:ext cx="1800000" cy="1452600"/>
            <a:chOff x="2556000" y="3789360"/>
            <a:chExt cx="1800000" cy="1452600"/>
          </a:xfrm>
        </p:grpSpPr>
        <p:grpSp>
          <p:nvGrpSpPr>
            <p:cNvPr id="10383" name=""/>
            <p:cNvGrpSpPr/>
            <p:nvPr/>
          </p:nvGrpSpPr>
          <p:grpSpPr>
            <a:xfrm>
              <a:off x="3059280" y="3789360"/>
              <a:ext cx="1296720" cy="660240"/>
              <a:chOff x="3059280" y="3789360"/>
              <a:chExt cx="1296720" cy="660240"/>
            </a:xfrm>
          </p:grpSpPr>
          <p:sp>
            <p:nvSpPr>
              <p:cNvPr id="10384" name=""/>
              <p:cNvSpPr/>
              <p:nvPr/>
            </p:nvSpPr>
            <p:spPr>
              <a:xfrm>
                <a:off x="312120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3263760" y="387684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3421080" y="3876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3127680" y="393552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3263760" y="393552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3127680" y="39506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3074400" y="3808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3138480" y="3791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3066120" y="3953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3059280" y="384300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3231720" y="379548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3231720" y="38178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3304440" y="379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3372480" y="389412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3472200" y="38941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3300120" y="396828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3372480" y="39682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3223080" y="396828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3295440" y="39682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3132000" y="400392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3223080" y="4010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3069720" y="3794400"/>
                <a:ext cx="127908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3891240" y="439956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3991680" y="442764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989520" y="4427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4123440" y="440712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4123440" y="4437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4238640" y="436032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4238640" y="44071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4304520" y="430380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4304520" y="4360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4334400" y="420948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4340880" y="4303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4257720" y="413424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4334400" y="42066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4161960" y="411372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4257720" y="413280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4036680" y="408924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416196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3917520" y="406044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4036680" y="40892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3793680" y="4025880"/>
                <a:ext cx="1296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3917520" y="4060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3697920" y="398196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3791880" y="4025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3619440" y="394452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3697920" y="39819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3521160" y="389592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3619440" y="394452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3442680" y="383832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3521160" y="38959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3376800" y="379908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3442680" y="3838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3278520" y="378936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3376800" y="37990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3187080" y="378936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3274560" y="37893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3087000" y="381780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3185280" y="381780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3061800" y="388332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3085200" y="388044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3061800" y="395856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3061800" y="395856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3099600" y="403236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3097800" y="40323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3185280" y="410436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3185280" y="41043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3310920" y="4176720"/>
                <a:ext cx="1296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3310920" y="41767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3431880" y="424404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3430080" y="424404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3570120" y="431172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3570120" y="43117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3736080" y="435852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3734280" y="4358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3891240" y="43977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3206160" y="3827160"/>
                <a:ext cx="106416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4172760" y="429264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4255920" y="422064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4255920" y="4292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4204440" y="41598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4262040" y="4217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4017600" y="411372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3831840" y="406836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401760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3655440" y="4002480"/>
                <a:ext cx="18468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3831840" y="40683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3533760" y="3933360"/>
                <a:ext cx="1296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3652920" y="40024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3419280" y="387684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3533760" y="39333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3344400" y="382248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3419280" y="387684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3253320" y="382248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3344400" y="3821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3197880" y="384444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3248640" y="384300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3197880" y="390564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3197880" y="390204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3212640" y="398412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3210480" y="39841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3300120" y="406044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3297960" y="4060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3438000" y="412344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3438000" y="41234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3596040" y="420012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3596040" y="42001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3789360" y="428184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3787560" y="42818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3966120" y="432108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3966120" y="432108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4172760" y="434448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3257640" y="3832920"/>
                <a:ext cx="101268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4243320" y="42613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4249440" y="420336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4262040" y="426132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4204440" y="41598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4249440" y="420228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4044600" y="413280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3891240" y="409824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4042800" y="4132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3715200" y="404640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3891240" y="4098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3561840" y="397260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371268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3461400" y="391464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3561840" y="397260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3370320" y="384768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3461400" y="391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3300120" y="382824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3370320" y="3847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3251160" y="38304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3297960" y="38271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3248640" y="3872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3246840" y="38721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3295440" y="391824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3289320" y="391824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3382920" y="39333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3382920" y="39319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3467880" y="398700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3467880" y="398700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3570120" y="404640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356796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3693600" y="408924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3693600" y="4089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3861720" y="414072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3859560" y="4140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4004280" y="4180320"/>
                <a:ext cx="1296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4004280" y="418032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4127760" y="421128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4127760" y="42094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4176720" y="4247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4190040" y="424404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4176720" y="429264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4176720" y="429120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4190040" y="431460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4183560" y="433044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4243320" y="43146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3912840" y="431172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3791880" y="430668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3912840" y="431172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3676320" y="425340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378936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3515040" y="422064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3676320" y="425340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3461400" y="415008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3515040" y="4220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3304440" y="406692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3461400" y="41482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3152880" y="390096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3304440" y="4066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4161960" y="418500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3278520" y="384768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3270240" y="3840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3306240" y="384084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3304440" y="384084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3361680" y="387864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3378600" y="38786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3278520" y="389592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3361680" y="392616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3278520" y="389592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7" name=""/>
            <p:cNvGrpSpPr/>
            <p:nvPr/>
          </p:nvGrpSpPr>
          <p:grpSpPr>
            <a:xfrm>
              <a:off x="2556000" y="4508640"/>
              <a:ext cx="1158840" cy="733320"/>
              <a:chOff x="2556000" y="4508640"/>
              <a:chExt cx="1158840" cy="733320"/>
            </a:xfrm>
          </p:grpSpPr>
          <p:sp>
            <p:nvSpPr>
              <p:cNvPr id="10568" name=""/>
              <p:cNvSpPr/>
              <p:nvPr/>
            </p:nvSpPr>
            <p:spPr>
              <a:xfrm>
                <a:off x="2611440" y="4825800"/>
                <a:ext cx="1440" cy="133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2738880" y="460584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2879280" y="46058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2617200" y="4671000"/>
                <a:ext cx="127080" cy="295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2738880" y="4671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2617200" y="468792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2569320" y="452952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2626560" y="451044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2562120" y="469152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2556000" y="45680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2710080" y="4515480"/>
                <a:ext cx="72360" cy="381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2710080" y="4539960"/>
                <a:ext cx="756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2775240" y="451548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2835720" y="4625280"/>
                <a:ext cx="95040" cy="94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2925000" y="462528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2771280" y="47070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2835720" y="4707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2702520" y="4707000"/>
                <a:ext cx="70200" cy="590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2766960" y="4707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2620800" y="4746960"/>
                <a:ext cx="85320" cy="226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2702520" y="475452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2565360" y="4514040"/>
                <a:ext cx="1143000" cy="721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3299760" y="5186520"/>
                <a:ext cx="95040" cy="450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3389040" y="5217840"/>
                <a:ext cx="119880" cy="241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3387600" y="5217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3506760" y="5194800"/>
                <a:ext cx="110160" cy="471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3506760" y="522792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3610080" y="5142960"/>
                <a:ext cx="70200" cy="64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3610080" y="51948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3668760" y="5079960"/>
                <a:ext cx="45720" cy="709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3668760" y="514296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3695760" y="4975200"/>
                <a:ext cx="19080" cy="1080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3701160" y="507996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3627000" y="4891680"/>
                <a:ext cx="81360" cy="885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3695760" y="4972320"/>
                <a:ext cx="12960" cy="82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3541320" y="4869000"/>
                <a:ext cx="92520" cy="3312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3627000" y="48902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3429360" y="484164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354132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3322800" y="4809960"/>
                <a:ext cx="111960" cy="432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3429360" y="48416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3212280" y="477144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3322800" y="48099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3126960" y="4722840"/>
                <a:ext cx="92520" cy="594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3210840" y="47714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3056400" y="4681080"/>
                <a:ext cx="79560" cy="52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3126960" y="4722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2968920" y="462708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3056400" y="46810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2898720" y="456300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2968920" y="462708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2839680" y="451944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2898720" y="45630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2751840" y="4508640"/>
                <a:ext cx="93240" cy="226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2839680" y="4519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2670120" y="4508640"/>
                <a:ext cx="85320" cy="432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2748600" y="45086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2580840" y="453996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2668680" y="453996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2558160" y="4613040"/>
                <a:ext cx="36000" cy="8496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2579040" y="46098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2558160" y="469656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2558160" y="469656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2592000" y="4778640"/>
                <a:ext cx="87480" cy="90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2590200" y="47786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2668680" y="4858560"/>
                <a:ext cx="121680" cy="90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2668680" y="48585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2780640" y="4939200"/>
                <a:ext cx="115920" cy="8496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2780640" y="49392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2889000" y="5013720"/>
                <a:ext cx="131400" cy="8712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2887200" y="50137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3012480" y="5088960"/>
                <a:ext cx="153720" cy="65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3012480" y="508896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3160800" y="5140800"/>
                <a:ext cx="144720" cy="576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3159360" y="51408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3299760" y="51843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2687400" y="4550400"/>
                <a:ext cx="950760" cy="5814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3551040" y="506772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3625200" y="498780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3625200" y="506772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3579480" y="491976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3630960" y="498420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3412440" y="4869000"/>
                <a:ext cx="174600" cy="6120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3246480" y="4818600"/>
                <a:ext cx="171360" cy="6264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341244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3088800" y="474552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3246480" y="481860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2980080" y="4668840"/>
                <a:ext cx="115920" cy="87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3086640" y="47455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2877480" y="4605840"/>
                <a:ext cx="111960" cy="734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2980080" y="4668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2810880" y="45453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2877480" y="4605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2729160" y="4545360"/>
                <a:ext cx="89280" cy="345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2810880" y="45439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2679840" y="456948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2725200" y="456804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2679840" y="4637520"/>
                <a:ext cx="26280" cy="9216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2679840" y="463392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2692800" y="4725000"/>
                <a:ext cx="87840" cy="95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2691360" y="47250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2771280" y="4809960"/>
                <a:ext cx="131400" cy="817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2769480" y="4809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2894400" y="4879800"/>
                <a:ext cx="148320" cy="9720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2894400" y="48798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3035520" y="4965120"/>
                <a:ext cx="178200" cy="10476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3035520" y="4965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3208320" y="5055840"/>
                <a:ext cx="161640" cy="5724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3206880" y="5055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3366360" y="5099400"/>
                <a:ext cx="190080" cy="399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3366360" y="5099400"/>
                <a:ext cx="360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3551040" y="51253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2733120" y="4557240"/>
                <a:ext cx="905040" cy="559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3614040" y="5032800"/>
                <a:ext cx="29880" cy="694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3619800" y="4968720"/>
                <a:ext cx="24120" cy="6768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3630960" y="503280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3579480" y="4919760"/>
                <a:ext cx="52920" cy="550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3619800" y="4966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3436560" y="4890240"/>
                <a:ext cx="150480" cy="399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3299760" y="4851720"/>
                <a:ext cx="140760" cy="500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3435120" y="48902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3142080" y="4794120"/>
                <a:ext cx="165240" cy="694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3299760" y="485172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3004920" y="4712400"/>
                <a:ext cx="144360" cy="9216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313992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2915640" y="4647960"/>
                <a:ext cx="99000" cy="745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3004920" y="47124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2833920" y="4573440"/>
                <a:ext cx="91080" cy="8496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2915640" y="4647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2771280" y="4551840"/>
                <a:ext cx="70200" cy="33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2833920" y="4573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2727360" y="4554000"/>
                <a:ext cx="53280" cy="5544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2769480" y="4550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2725200" y="4600800"/>
                <a:ext cx="49680" cy="6084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2723760" y="46008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2766960" y="46515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2761560" y="465156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2845440" y="466884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2845440" y="46670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2921400" y="4728240"/>
                <a:ext cx="99000" cy="763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2921400" y="472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3012480" y="4794120"/>
                <a:ext cx="118080" cy="5904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301068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3123000" y="484164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3123000" y="484164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3273120" y="4899240"/>
                <a:ext cx="131400" cy="568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3271320" y="4899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3400560" y="4942800"/>
                <a:ext cx="115920" cy="464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3400560" y="4942800"/>
                <a:ext cx="3960" cy="133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3511080" y="497736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3511080" y="49752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3554640" y="501732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3566520" y="501372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3554640" y="5067720"/>
                <a:ext cx="20880" cy="507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3554640" y="5066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3566520" y="5092200"/>
                <a:ext cx="56520" cy="3132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3560760" y="510984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3614040" y="509220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3318840" y="5088960"/>
                <a:ext cx="157680" cy="500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3210840" y="5083200"/>
                <a:ext cx="113760" cy="190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3318840" y="50889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3107520" y="5024160"/>
                <a:ext cx="102960" cy="781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3208320" y="5088960"/>
                <a:ext cx="2160" cy="133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2963160" y="4987800"/>
                <a:ext cx="149760" cy="500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3107520" y="502416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2915640" y="4909320"/>
                <a:ext cx="57240" cy="88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2963160" y="49878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2775240" y="481716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2915640" y="490752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2639880" y="4632480"/>
                <a:ext cx="148320" cy="191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2775240" y="48171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3541320" y="4947840"/>
                <a:ext cx="81360" cy="12168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2751840" y="457344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2744640" y="4565880"/>
                <a:ext cx="36000" cy="6768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2776680" y="4565880"/>
                <a:ext cx="78120" cy="4860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2775240" y="456588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826000" y="4608000"/>
                <a:ext cx="37800" cy="65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841480" y="460800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751840" y="4627080"/>
                <a:ext cx="79560" cy="4860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826000" y="4660560"/>
                <a:ext cx="7560" cy="154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751840" y="462708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51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2" name=""/>
          <p:cNvSpPr/>
          <p:nvPr/>
        </p:nvSpPr>
        <p:spPr>
          <a:xfrm>
            <a:off x="-114840" y="18720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f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usages sizzling in a 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10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10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10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grpSp>
        <p:nvGrpSpPr>
          <p:cNvPr id="10754" name=""/>
          <p:cNvGrpSpPr/>
          <p:nvPr/>
        </p:nvGrpSpPr>
        <p:grpSpPr>
          <a:xfrm>
            <a:off x="3059280" y="3789360"/>
            <a:ext cx="1296720" cy="660240"/>
            <a:chOff x="3059280" y="3789360"/>
            <a:chExt cx="1296720" cy="660240"/>
          </a:xfrm>
        </p:grpSpPr>
        <p:sp>
          <p:nvSpPr>
            <p:cNvPr id="10755" name=""/>
            <p:cNvSpPr/>
            <p:nvPr/>
          </p:nvSpPr>
          <p:spPr>
            <a:xfrm>
              <a:off x="3121200" y="4074840"/>
              <a:ext cx="1800" cy="118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3263760" y="3876840"/>
              <a:ext cx="165960" cy="6876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3421080" y="3876840"/>
              <a:ext cx="864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3127680" y="3935520"/>
              <a:ext cx="142560" cy="2628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9" name=""/>
            <p:cNvSpPr/>
            <p:nvPr/>
          </p:nvSpPr>
          <p:spPr>
            <a:xfrm>
              <a:off x="3263760" y="3935520"/>
              <a:ext cx="7920" cy="104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0" name=""/>
            <p:cNvSpPr/>
            <p:nvPr/>
          </p:nvSpPr>
          <p:spPr>
            <a:xfrm>
              <a:off x="3127680" y="3950640"/>
              <a:ext cx="3960" cy="11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1" name=""/>
            <p:cNvSpPr/>
            <p:nvPr/>
          </p:nvSpPr>
          <p:spPr>
            <a:xfrm>
              <a:off x="3074400" y="380808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2" name=""/>
            <p:cNvSpPr/>
            <p:nvPr/>
          </p:nvSpPr>
          <p:spPr>
            <a:xfrm>
              <a:off x="3138480" y="379116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3" name=""/>
            <p:cNvSpPr/>
            <p:nvPr/>
          </p:nvSpPr>
          <p:spPr>
            <a:xfrm>
              <a:off x="3066120" y="395388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4" name=""/>
            <p:cNvSpPr/>
            <p:nvPr/>
          </p:nvSpPr>
          <p:spPr>
            <a:xfrm>
              <a:off x="3059280" y="3843000"/>
              <a:ext cx="864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5" name=""/>
            <p:cNvSpPr/>
            <p:nvPr/>
          </p:nvSpPr>
          <p:spPr>
            <a:xfrm>
              <a:off x="3231720" y="3795480"/>
              <a:ext cx="81000" cy="345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6" name=""/>
            <p:cNvSpPr/>
            <p:nvPr/>
          </p:nvSpPr>
          <p:spPr>
            <a:xfrm>
              <a:off x="3231720" y="381780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7" name=""/>
            <p:cNvSpPr/>
            <p:nvPr/>
          </p:nvSpPr>
          <p:spPr>
            <a:xfrm>
              <a:off x="3304440" y="379548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8" name=""/>
            <p:cNvSpPr/>
            <p:nvPr/>
          </p:nvSpPr>
          <p:spPr>
            <a:xfrm>
              <a:off x="3372480" y="3894120"/>
              <a:ext cx="106200" cy="8460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9" name=""/>
            <p:cNvSpPr/>
            <p:nvPr/>
          </p:nvSpPr>
          <p:spPr>
            <a:xfrm>
              <a:off x="3472200" y="38941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0" name=""/>
            <p:cNvSpPr/>
            <p:nvPr/>
          </p:nvSpPr>
          <p:spPr>
            <a:xfrm>
              <a:off x="3300120" y="3968280"/>
              <a:ext cx="82800" cy="169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1" name=""/>
            <p:cNvSpPr/>
            <p:nvPr/>
          </p:nvSpPr>
          <p:spPr>
            <a:xfrm>
              <a:off x="3372480" y="3968280"/>
              <a:ext cx="10440" cy="10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2" name=""/>
            <p:cNvSpPr/>
            <p:nvPr/>
          </p:nvSpPr>
          <p:spPr>
            <a:xfrm>
              <a:off x="3223080" y="3968280"/>
              <a:ext cx="78480" cy="5292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3" name=""/>
            <p:cNvSpPr/>
            <p:nvPr/>
          </p:nvSpPr>
          <p:spPr>
            <a:xfrm>
              <a:off x="3295440" y="3968280"/>
              <a:ext cx="6120" cy="10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4" name=""/>
            <p:cNvSpPr/>
            <p:nvPr/>
          </p:nvSpPr>
          <p:spPr>
            <a:xfrm>
              <a:off x="3132000" y="4003920"/>
              <a:ext cx="95400" cy="205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5" name=""/>
            <p:cNvSpPr/>
            <p:nvPr/>
          </p:nvSpPr>
          <p:spPr>
            <a:xfrm>
              <a:off x="3223080" y="4010760"/>
              <a:ext cx="612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6" name=""/>
            <p:cNvSpPr/>
            <p:nvPr/>
          </p:nvSpPr>
          <p:spPr>
            <a:xfrm>
              <a:off x="3069720" y="3794400"/>
              <a:ext cx="1279080" cy="649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7" name=""/>
            <p:cNvSpPr/>
            <p:nvPr/>
          </p:nvSpPr>
          <p:spPr>
            <a:xfrm>
              <a:off x="3891240" y="4399560"/>
              <a:ext cx="106200" cy="403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8" name=""/>
            <p:cNvSpPr/>
            <p:nvPr/>
          </p:nvSpPr>
          <p:spPr>
            <a:xfrm>
              <a:off x="3991680" y="4427640"/>
              <a:ext cx="134280" cy="2160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9" name=""/>
            <p:cNvSpPr/>
            <p:nvPr/>
          </p:nvSpPr>
          <p:spPr>
            <a:xfrm>
              <a:off x="3989520" y="442764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0" name=""/>
            <p:cNvSpPr/>
            <p:nvPr/>
          </p:nvSpPr>
          <p:spPr>
            <a:xfrm>
              <a:off x="4123440" y="4407120"/>
              <a:ext cx="123480" cy="4212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1" name=""/>
            <p:cNvSpPr/>
            <p:nvPr/>
          </p:nvSpPr>
          <p:spPr>
            <a:xfrm>
              <a:off x="4123440" y="443700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2" name=""/>
            <p:cNvSpPr/>
            <p:nvPr/>
          </p:nvSpPr>
          <p:spPr>
            <a:xfrm>
              <a:off x="4238640" y="4360320"/>
              <a:ext cx="78480" cy="576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3" name=""/>
            <p:cNvSpPr/>
            <p:nvPr/>
          </p:nvSpPr>
          <p:spPr>
            <a:xfrm>
              <a:off x="4238640" y="440712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4" name=""/>
            <p:cNvSpPr/>
            <p:nvPr/>
          </p:nvSpPr>
          <p:spPr>
            <a:xfrm>
              <a:off x="4304520" y="4303800"/>
              <a:ext cx="51120" cy="637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5" name=""/>
            <p:cNvSpPr/>
            <p:nvPr/>
          </p:nvSpPr>
          <p:spPr>
            <a:xfrm>
              <a:off x="4304520" y="4360320"/>
              <a:ext cx="14400" cy="90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6" name=""/>
            <p:cNvSpPr/>
            <p:nvPr/>
          </p:nvSpPr>
          <p:spPr>
            <a:xfrm>
              <a:off x="4334400" y="4209480"/>
              <a:ext cx="21240" cy="972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7" name=""/>
            <p:cNvSpPr/>
            <p:nvPr/>
          </p:nvSpPr>
          <p:spPr>
            <a:xfrm>
              <a:off x="4340880" y="4303800"/>
              <a:ext cx="15120" cy="5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8" name=""/>
            <p:cNvSpPr/>
            <p:nvPr/>
          </p:nvSpPr>
          <p:spPr>
            <a:xfrm>
              <a:off x="4257720" y="4134240"/>
              <a:ext cx="91080" cy="7992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9" name=""/>
            <p:cNvSpPr/>
            <p:nvPr/>
          </p:nvSpPr>
          <p:spPr>
            <a:xfrm>
              <a:off x="4334400" y="4206600"/>
              <a:ext cx="1440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0" name=""/>
            <p:cNvSpPr/>
            <p:nvPr/>
          </p:nvSpPr>
          <p:spPr>
            <a:xfrm>
              <a:off x="4161960" y="4113720"/>
              <a:ext cx="103680" cy="2988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1" name=""/>
            <p:cNvSpPr/>
            <p:nvPr/>
          </p:nvSpPr>
          <p:spPr>
            <a:xfrm>
              <a:off x="4257720" y="4132800"/>
              <a:ext cx="12600" cy="108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2" name=""/>
            <p:cNvSpPr/>
            <p:nvPr/>
          </p:nvSpPr>
          <p:spPr>
            <a:xfrm>
              <a:off x="4036680" y="4089240"/>
              <a:ext cx="131760" cy="3564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3" name=""/>
            <p:cNvSpPr/>
            <p:nvPr/>
          </p:nvSpPr>
          <p:spPr>
            <a:xfrm>
              <a:off x="4161960" y="41137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4" name=""/>
            <p:cNvSpPr/>
            <p:nvPr/>
          </p:nvSpPr>
          <p:spPr>
            <a:xfrm>
              <a:off x="3917520" y="4060440"/>
              <a:ext cx="125280" cy="388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5" name=""/>
            <p:cNvSpPr/>
            <p:nvPr/>
          </p:nvSpPr>
          <p:spPr>
            <a:xfrm>
              <a:off x="4036680" y="4089240"/>
              <a:ext cx="612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6" name=""/>
            <p:cNvSpPr/>
            <p:nvPr/>
          </p:nvSpPr>
          <p:spPr>
            <a:xfrm>
              <a:off x="3793680" y="4025880"/>
              <a:ext cx="129600" cy="4572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7" name=""/>
            <p:cNvSpPr/>
            <p:nvPr/>
          </p:nvSpPr>
          <p:spPr>
            <a:xfrm>
              <a:off x="3917520" y="406044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8" name=""/>
            <p:cNvSpPr/>
            <p:nvPr/>
          </p:nvSpPr>
          <p:spPr>
            <a:xfrm>
              <a:off x="3697920" y="3981960"/>
              <a:ext cx="103680" cy="5364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9" name=""/>
            <p:cNvSpPr/>
            <p:nvPr/>
          </p:nvSpPr>
          <p:spPr>
            <a:xfrm>
              <a:off x="3791880" y="4025880"/>
              <a:ext cx="9720" cy="11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0" name=""/>
            <p:cNvSpPr/>
            <p:nvPr/>
          </p:nvSpPr>
          <p:spPr>
            <a:xfrm>
              <a:off x="3619440" y="3944520"/>
              <a:ext cx="89280" cy="468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1" name=""/>
            <p:cNvSpPr/>
            <p:nvPr/>
          </p:nvSpPr>
          <p:spPr>
            <a:xfrm>
              <a:off x="3697920" y="398196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2" name=""/>
            <p:cNvSpPr/>
            <p:nvPr/>
          </p:nvSpPr>
          <p:spPr>
            <a:xfrm>
              <a:off x="3521160" y="3895920"/>
              <a:ext cx="108360" cy="576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3" name=""/>
            <p:cNvSpPr/>
            <p:nvPr/>
          </p:nvSpPr>
          <p:spPr>
            <a:xfrm>
              <a:off x="3619440" y="3944520"/>
              <a:ext cx="10080" cy="90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4" name=""/>
            <p:cNvSpPr/>
            <p:nvPr/>
          </p:nvSpPr>
          <p:spPr>
            <a:xfrm>
              <a:off x="3442680" y="3838320"/>
              <a:ext cx="89280" cy="669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5" name=""/>
            <p:cNvSpPr/>
            <p:nvPr/>
          </p:nvSpPr>
          <p:spPr>
            <a:xfrm>
              <a:off x="3521160" y="3895920"/>
              <a:ext cx="1044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6" name=""/>
            <p:cNvSpPr/>
            <p:nvPr/>
          </p:nvSpPr>
          <p:spPr>
            <a:xfrm>
              <a:off x="3376800" y="3799080"/>
              <a:ext cx="76320" cy="486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7" name=""/>
            <p:cNvSpPr/>
            <p:nvPr/>
          </p:nvSpPr>
          <p:spPr>
            <a:xfrm>
              <a:off x="3442680" y="383832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278520" y="3789360"/>
              <a:ext cx="104400" cy="2052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376800" y="3799080"/>
              <a:ext cx="10440" cy="10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187080" y="3789360"/>
              <a:ext cx="95400" cy="3888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274560" y="378936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3087000" y="3817800"/>
              <a:ext cx="108360" cy="716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3185280" y="3817800"/>
              <a:ext cx="9720" cy="104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3061800" y="3883320"/>
              <a:ext cx="40320" cy="7668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5" name=""/>
            <p:cNvSpPr/>
            <p:nvPr/>
          </p:nvSpPr>
          <p:spPr>
            <a:xfrm>
              <a:off x="3085200" y="3880440"/>
              <a:ext cx="16920" cy="90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6" name=""/>
            <p:cNvSpPr/>
            <p:nvPr/>
          </p:nvSpPr>
          <p:spPr>
            <a:xfrm>
              <a:off x="3061800" y="3958560"/>
              <a:ext cx="52920" cy="7848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7" name=""/>
            <p:cNvSpPr/>
            <p:nvPr/>
          </p:nvSpPr>
          <p:spPr>
            <a:xfrm>
              <a:off x="3061800" y="3958560"/>
              <a:ext cx="169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8" name=""/>
            <p:cNvSpPr/>
            <p:nvPr/>
          </p:nvSpPr>
          <p:spPr>
            <a:xfrm>
              <a:off x="3099600" y="4032360"/>
              <a:ext cx="97920" cy="81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9" name=""/>
            <p:cNvSpPr/>
            <p:nvPr/>
          </p:nvSpPr>
          <p:spPr>
            <a:xfrm>
              <a:off x="3097800" y="4032360"/>
              <a:ext cx="1692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0" name=""/>
            <p:cNvSpPr/>
            <p:nvPr/>
          </p:nvSpPr>
          <p:spPr>
            <a:xfrm>
              <a:off x="3185280" y="4104360"/>
              <a:ext cx="136080" cy="81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1" name=""/>
            <p:cNvSpPr/>
            <p:nvPr/>
          </p:nvSpPr>
          <p:spPr>
            <a:xfrm>
              <a:off x="3185280" y="4104360"/>
              <a:ext cx="12600" cy="9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2" name=""/>
            <p:cNvSpPr/>
            <p:nvPr/>
          </p:nvSpPr>
          <p:spPr>
            <a:xfrm>
              <a:off x="3310920" y="4176720"/>
              <a:ext cx="129600" cy="7632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3" name=""/>
            <p:cNvSpPr/>
            <p:nvPr/>
          </p:nvSpPr>
          <p:spPr>
            <a:xfrm>
              <a:off x="3310920" y="417672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4" name=""/>
            <p:cNvSpPr/>
            <p:nvPr/>
          </p:nvSpPr>
          <p:spPr>
            <a:xfrm>
              <a:off x="3431880" y="4244040"/>
              <a:ext cx="146880" cy="7848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5" name=""/>
            <p:cNvSpPr/>
            <p:nvPr/>
          </p:nvSpPr>
          <p:spPr>
            <a:xfrm>
              <a:off x="3430080" y="424404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6" name=""/>
            <p:cNvSpPr/>
            <p:nvPr/>
          </p:nvSpPr>
          <p:spPr>
            <a:xfrm>
              <a:off x="3570120" y="4311720"/>
              <a:ext cx="172080" cy="5904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7" name=""/>
            <p:cNvSpPr/>
            <p:nvPr/>
          </p:nvSpPr>
          <p:spPr>
            <a:xfrm>
              <a:off x="3570120" y="4311720"/>
              <a:ext cx="8640" cy="108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8" name=""/>
            <p:cNvSpPr/>
            <p:nvPr/>
          </p:nvSpPr>
          <p:spPr>
            <a:xfrm>
              <a:off x="3736080" y="4358520"/>
              <a:ext cx="162000" cy="5184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9" name=""/>
            <p:cNvSpPr/>
            <p:nvPr/>
          </p:nvSpPr>
          <p:spPr>
            <a:xfrm>
              <a:off x="3734280" y="435852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0" name=""/>
            <p:cNvSpPr/>
            <p:nvPr/>
          </p:nvSpPr>
          <p:spPr>
            <a:xfrm>
              <a:off x="3891240" y="439776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1" name=""/>
            <p:cNvSpPr/>
            <p:nvPr/>
          </p:nvSpPr>
          <p:spPr>
            <a:xfrm>
              <a:off x="3206160" y="3827160"/>
              <a:ext cx="1064160" cy="52344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2" name=""/>
            <p:cNvSpPr/>
            <p:nvPr/>
          </p:nvSpPr>
          <p:spPr>
            <a:xfrm>
              <a:off x="4172760" y="4292640"/>
              <a:ext cx="954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3" name=""/>
            <p:cNvSpPr/>
            <p:nvPr/>
          </p:nvSpPr>
          <p:spPr>
            <a:xfrm>
              <a:off x="4255920" y="4220640"/>
              <a:ext cx="20520" cy="7632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4" name=""/>
            <p:cNvSpPr/>
            <p:nvPr/>
          </p:nvSpPr>
          <p:spPr>
            <a:xfrm>
              <a:off x="4255920" y="4292640"/>
              <a:ext cx="14400" cy="93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5" name=""/>
            <p:cNvSpPr/>
            <p:nvPr/>
          </p:nvSpPr>
          <p:spPr>
            <a:xfrm>
              <a:off x="4204440" y="4159800"/>
              <a:ext cx="72000" cy="655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6" name=""/>
            <p:cNvSpPr/>
            <p:nvPr/>
          </p:nvSpPr>
          <p:spPr>
            <a:xfrm>
              <a:off x="4262040" y="4217400"/>
              <a:ext cx="14400" cy="79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7" name=""/>
            <p:cNvSpPr/>
            <p:nvPr/>
          </p:nvSpPr>
          <p:spPr>
            <a:xfrm>
              <a:off x="4017600" y="4113720"/>
              <a:ext cx="195480" cy="5508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8" name=""/>
            <p:cNvSpPr/>
            <p:nvPr/>
          </p:nvSpPr>
          <p:spPr>
            <a:xfrm>
              <a:off x="4204440" y="41576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9" name=""/>
            <p:cNvSpPr/>
            <p:nvPr/>
          </p:nvSpPr>
          <p:spPr>
            <a:xfrm>
              <a:off x="3831840" y="4068360"/>
              <a:ext cx="191880" cy="5616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0" name=""/>
            <p:cNvSpPr/>
            <p:nvPr/>
          </p:nvSpPr>
          <p:spPr>
            <a:xfrm>
              <a:off x="4017600" y="41137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1" name=""/>
            <p:cNvSpPr/>
            <p:nvPr/>
          </p:nvSpPr>
          <p:spPr>
            <a:xfrm>
              <a:off x="3655440" y="4002480"/>
              <a:ext cx="184680" cy="7704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2" name=""/>
            <p:cNvSpPr/>
            <p:nvPr/>
          </p:nvSpPr>
          <p:spPr>
            <a:xfrm>
              <a:off x="3831840" y="4068360"/>
              <a:ext cx="864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3" name=""/>
            <p:cNvSpPr/>
            <p:nvPr/>
          </p:nvSpPr>
          <p:spPr>
            <a:xfrm>
              <a:off x="3533760" y="3933360"/>
              <a:ext cx="129600" cy="7848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4" name=""/>
            <p:cNvSpPr/>
            <p:nvPr/>
          </p:nvSpPr>
          <p:spPr>
            <a:xfrm>
              <a:off x="3652920" y="400248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5" name=""/>
            <p:cNvSpPr/>
            <p:nvPr/>
          </p:nvSpPr>
          <p:spPr>
            <a:xfrm>
              <a:off x="3419280" y="3876840"/>
              <a:ext cx="125280" cy="662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6" name=""/>
            <p:cNvSpPr/>
            <p:nvPr/>
          </p:nvSpPr>
          <p:spPr>
            <a:xfrm>
              <a:off x="3533760" y="393336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7" name=""/>
            <p:cNvSpPr/>
            <p:nvPr/>
          </p:nvSpPr>
          <p:spPr>
            <a:xfrm>
              <a:off x="3344400" y="3822480"/>
              <a:ext cx="85320" cy="640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8" name=""/>
            <p:cNvSpPr/>
            <p:nvPr/>
          </p:nvSpPr>
          <p:spPr>
            <a:xfrm>
              <a:off x="3419280" y="387684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9" name=""/>
            <p:cNvSpPr/>
            <p:nvPr/>
          </p:nvSpPr>
          <p:spPr>
            <a:xfrm>
              <a:off x="3253320" y="3822480"/>
              <a:ext cx="99720" cy="309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0" name=""/>
            <p:cNvSpPr/>
            <p:nvPr/>
          </p:nvSpPr>
          <p:spPr>
            <a:xfrm>
              <a:off x="3344400" y="3821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1" name=""/>
            <p:cNvSpPr/>
            <p:nvPr/>
          </p:nvSpPr>
          <p:spPr>
            <a:xfrm>
              <a:off x="3197880" y="3844440"/>
              <a:ext cx="65880" cy="644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2" name=""/>
            <p:cNvSpPr/>
            <p:nvPr/>
          </p:nvSpPr>
          <p:spPr>
            <a:xfrm>
              <a:off x="3248640" y="3843000"/>
              <a:ext cx="15120" cy="10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3" name=""/>
            <p:cNvSpPr/>
            <p:nvPr/>
          </p:nvSpPr>
          <p:spPr>
            <a:xfrm>
              <a:off x="3197880" y="3905640"/>
              <a:ext cx="29520" cy="8280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4" name=""/>
            <p:cNvSpPr/>
            <p:nvPr/>
          </p:nvSpPr>
          <p:spPr>
            <a:xfrm>
              <a:off x="3197880" y="3902040"/>
              <a:ext cx="16920" cy="6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5" name=""/>
            <p:cNvSpPr/>
            <p:nvPr/>
          </p:nvSpPr>
          <p:spPr>
            <a:xfrm>
              <a:off x="3212640" y="3984120"/>
              <a:ext cx="98280" cy="8568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6" name=""/>
            <p:cNvSpPr/>
            <p:nvPr/>
          </p:nvSpPr>
          <p:spPr>
            <a:xfrm>
              <a:off x="3210480" y="3984120"/>
              <a:ext cx="16920" cy="7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7" name=""/>
            <p:cNvSpPr/>
            <p:nvPr/>
          </p:nvSpPr>
          <p:spPr>
            <a:xfrm>
              <a:off x="3300120" y="4060440"/>
              <a:ext cx="146880" cy="7344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8" name=""/>
            <p:cNvSpPr/>
            <p:nvPr/>
          </p:nvSpPr>
          <p:spPr>
            <a:xfrm>
              <a:off x="3297960" y="40604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9" name=""/>
            <p:cNvSpPr/>
            <p:nvPr/>
          </p:nvSpPr>
          <p:spPr>
            <a:xfrm>
              <a:off x="3438000" y="4123440"/>
              <a:ext cx="165960" cy="8748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438000" y="41234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596040" y="4200120"/>
              <a:ext cx="199440" cy="943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596040" y="4200120"/>
              <a:ext cx="8280" cy="11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789360" y="4281840"/>
              <a:ext cx="181080" cy="5148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3787560" y="428184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3966120" y="4321080"/>
              <a:ext cx="212760" cy="3600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3966120" y="4321080"/>
              <a:ext cx="396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7" name=""/>
            <p:cNvSpPr/>
            <p:nvPr/>
          </p:nvSpPr>
          <p:spPr>
            <a:xfrm>
              <a:off x="4172760" y="4344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8" name=""/>
            <p:cNvSpPr/>
            <p:nvPr/>
          </p:nvSpPr>
          <p:spPr>
            <a:xfrm>
              <a:off x="3257640" y="3832920"/>
              <a:ext cx="1012680" cy="5032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9" name=""/>
            <p:cNvSpPr/>
            <p:nvPr/>
          </p:nvSpPr>
          <p:spPr>
            <a:xfrm>
              <a:off x="4243320" y="4261320"/>
              <a:ext cx="33480" cy="622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0" name=""/>
            <p:cNvSpPr/>
            <p:nvPr/>
          </p:nvSpPr>
          <p:spPr>
            <a:xfrm>
              <a:off x="4249440" y="4203360"/>
              <a:ext cx="27000" cy="6120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1" name=""/>
            <p:cNvSpPr/>
            <p:nvPr/>
          </p:nvSpPr>
          <p:spPr>
            <a:xfrm>
              <a:off x="4262040" y="4261320"/>
              <a:ext cx="14400" cy="43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2" name=""/>
            <p:cNvSpPr/>
            <p:nvPr/>
          </p:nvSpPr>
          <p:spPr>
            <a:xfrm>
              <a:off x="4204440" y="4159800"/>
              <a:ext cx="5940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3" name=""/>
            <p:cNvSpPr/>
            <p:nvPr/>
          </p:nvSpPr>
          <p:spPr>
            <a:xfrm>
              <a:off x="4249440" y="4202280"/>
              <a:ext cx="1440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4" name=""/>
            <p:cNvSpPr/>
            <p:nvPr/>
          </p:nvSpPr>
          <p:spPr>
            <a:xfrm>
              <a:off x="4044600" y="4132800"/>
              <a:ext cx="168480" cy="3600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5" name=""/>
            <p:cNvSpPr/>
            <p:nvPr/>
          </p:nvSpPr>
          <p:spPr>
            <a:xfrm>
              <a:off x="4204440" y="41576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6" name=""/>
            <p:cNvSpPr/>
            <p:nvPr/>
          </p:nvSpPr>
          <p:spPr>
            <a:xfrm>
              <a:off x="3891240" y="4098240"/>
              <a:ext cx="157680" cy="4500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7" name=""/>
            <p:cNvSpPr/>
            <p:nvPr/>
          </p:nvSpPr>
          <p:spPr>
            <a:xfrm>
              <a:off x="4042800" y="4132800"/>
              <a:ext cx="6120" cy="10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8" name=""/>
            <p:cNvSpPr/>
            <p:nvPr/>
          </p:nvSpPr>
          <p:spPr>
            <a:xfrm>
              <a:off x="3715200" y="4046400"/>
              <a:ext cx="185040" cy="622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9" name=""/>
            <p:cNvSpPr/>
            <p:nvPr/>
          </p:nvSpPr>
          <p:spPr>
            <a:xfrm>
              <a:off x="3891240" y="40982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0" name=""/>
            <p:cNvSpPr/>
            <p:nvPr/>
          </p:nvSpPr>
          <p:spPr>
            <a:xfrm>
              <a:off x="3561840" y="3972600"/>
              <a:ext cx="161640" cy="8280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1" name=""/>
            <p:cNvSpPr/>
            <p:nvPr/>
          </p:nvSpPr>
          <p:spPr>
            <a:xfrm>
              <a:off x="3712680" y="404640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2" name=""/>
            <p:cNvSpPr/>
            <p:nvPr/>
          </p:nvSpPr>
          <p:spPr>
            <a:xfrm>
              <a:off x="3461400" y="3914640"/>
              <a:ext cx="110880" cy="6696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3" name=""/>
            <p:cNvSpPr/>
            <p:nvPr/>
          </p:nvSpPr>
          <p:spPr>
            <a:xfrm>
              <a:off x="3561840" y="397260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4" name=""/>
            <p:cNvSpPr/>
            <p:nvPr/>
          </p:nvSpPr>
          <p:spPr>
            <a:xfrm>
              <a:off x="3370320" y="3847680"/>
              <a:ext cx="101880" cy="7632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5" name=""/>
            <p:cNvSpPr/>
            <p:nvPr/>
          </p:nvSpPr>
          <p:spPr>
            <a:xfrm>
              <a:off x="3461400" y="391464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6" name=""/>
            <p:cNvSpPr/>
            <p:nvPr/>
          </p:nvSpPr>
          <p:spPr>
            <a:xfrm>
              <a:off x="3300120" y="3828240"/>
              <a:ext cx="78480" cy="295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7" name=""/>
            <p:cNvSpPr/>
            <p:nvPr/>
          </p:nvSpPr>
          <p:spPr>
            <a:xfrm>
              <a:off x="3370320" y="384768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8" name=""/>
            <p:cNvSpPr/>
            <p:nvPr/>
          </p:nvSpPr>
          <p:spPr>
            <a:xfrm>
              <a:off x="3251160" y="3830400"/>
              <a:ext cx="5940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9" name=""/>
            <p:cNvSpPr/>
            <p:nvPr/>
          </p:nvSpPr>
          <p:spPr>
            <a:xfrm>
              <a:off x="3297960" y="3827160"/>
              <a:ext cx="12600" cy="126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0" name=""/>
            <p:cNvSpPr/>
            <p:nvPr/>
          </p:nvSpPr>
          <p:spPr>
            <a:xfrm>
              <a:off x="3248640" y="3872160"/>
              <a:ext cx="55440" cy="5508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1" name=""/>
            <p:cNvSpPr/>
            <p:nvPr/>
          </p:nvSpPr>
          <p:spPr>
            <a:xfrm>
              <a:off x="3246840" y="3872160"/>
              <a:ext cx="1692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2" name=""/>
            <p:cNvSpPr/>
            <p:nvPr/>
          </p:nvSpPr>
          <p:spPr>
            <a:xfrm>
              <a:off x="3295440" y="3918240"/>
              <a:ext cx="95400" cy="2628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3" name=""/>
            <p:cNvSpPr/>
            <p:nvPr/>
          </p:nvSpPr>
          <p:spPr>
            <a:xfrm>
              <a:off x="3289320" y="3918240"/>
              <a:ext cx="15120" cy="126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4" name=""/>
            <p:cNvSpPr/>
            <p:nvPr/>
          </p:nvSpPr>
          <p:spPr>
            <a:xfrm>
              <a:off x="3382920" y="3933360"/>
              <a:ext cx="954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5" name=""/>
            <p:cNvSpPr/>
            <p:nvPr/>
          </p:nvSpPr>
          <p:spPr>
            <a:xfrm>
              <a:off x="3382920" y="393192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6" name=""/>
            <p:cNvSpPr/>
            <p:nvPr/>
          </p:nvSpPr>
          <p:spPr>
            <a:xfrm>
              <a:off x="3467880" y="3987000"/>
              <a:ext cx="110520" cy="6840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7" name=""/>
            <p:cNvSpPr/>
            <p:nvPr/>
          </p:nvSpPr>
          <p:spPr>
            <a:xfrm>
              <a:off x="3467880" y="3987000"/>
              <a:ext cx="1044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8" name=""/>
            <p:cNvSpPr/>
            <p:nvPr/>
          </p:nvSpPr>
          <p:spPr>
            <a:xfrm>
              <a:off x="3570120" y="4046400"/>
              <a:ext cx="132120" cy="5328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9" name=""/>
            <p:cNvSpPr/>
            <p:nvPr/>
          </p:nvSpPr>
          <p:spPr>
            <a:xfrm>
              <a:off x="3567960" y="404640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0" name=""/>
            <p:cNvSpPr/>
            <p:nvPr/>
          </p:nvSpPr>
          <p:spPr>
            <a:xfrm>
              <a:off x="3693600" y="4089240"/>
              <a:ext cx="174960" cy="637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1" name=""/>
            <p:cNvSpPr/>
            <p:nvPr/>
          </p:nvSpPr>
          <p:spPr>
            <a:xfrm>
              <a:off x="3693600" y="40892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2" name=""/>
            <p:cNvSpPr/>
            <p:nvPr/>
          </p:nvSpPr>
          <p:spPr>
            <a:xfrm>
              <a:off x="3861720" y="4140720"/>
              <a:ext cx="146880" cy="5112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3" name=""/>
            <p:cNvSpPr/>
            <p:nvPr/>
          </p:nvSpPr>
          <p:spPr>
            <a:xfrm>
              <a:off x="3859560" y="4140720"/>
              <a:ext cx="864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4" name=""/>
            <p:cNvSpPr/>
            <p:nvPr/>
          </p:nvSpPr>
          <p:spPr>
            <a:xfrm>
              <a:off x="4004280" y="4180320"/>
              <a:ext cx="129600" cy="41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5" name=""/>
            <p:cNvSpPr/>
            <p:nvPr/>
          </p:nvSpPr>
          <p:spPr>
            <a:xfrm>
              <a:off x="4004280" y="4180320"/>
              <a:ext cx="4320" cy="1188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6" name=""/>
            <p:cNvSpPr/>
            <p:nvPr/>
          </p:nvSpPr>
          <p:spPr>
            <a:xfrm>
              <a:off x="4127760" y="4211280"/>
              <a:ext cx="74520" cy="4392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7" name=""/>
            <p:cNvSpPr/>
            <p:nvPr/>
          </p:nvSpPr>
          <p:spPr>
            <a:xfrm>
              <a:off x="4127760" y="420948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8" name=""/>
            <p:cNvSpPr/>
            <p:nvPr/>
          </p:nvSpPr>
          <p:spPr>
            <a:xfrm>
              <a:off x="4176720" y="4247280"/>
              <a:ext cx="29520" cy="4500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9" name=""/>
            <p:cNvSpPr/>
            <p:nvPr/>
          </p:nvSpPr>
          <p:spPr>
            <a:xfrm>
              <a:off x="4190040" y="4244040"/>
              <a:ext cx="16200" cy="11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0" name=""/>
            <p:cNvSpPr/>
            <p:nvPr/>
          </p:nvSpPr>
          <p:spPr>
            <a:xfrm>
              <a:off x="4176720" y="4292640"/>
              <a:ext cx="23400" cy="457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1" name=""/>
            <p:cNvSpPr/>
            <p:nvPr/>
          </p:nvSpPr>
          <p:spPr>
            <a:xfrm>
              <a:off x="4176720" y="4291200"/>
              <a:ext cx="169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2" name=""/>
            <p:cNvSpPr/>
            <p:nvPr/>
          </p:nvSpPr>
          <p:spPr>
            <a:xfrm>
              <a:off x="4190040" y="4314600"/>
              <a:ext cx="63360" cy="2844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3" name=""/>
            <p:cNvSpPr/>
            <p:nvPr/>
          </p:nvSpPr>
          <p:spPr>
            <a:xfrm>
              <a:off x="4183560" y="4330440"/>
              <a:ext cx="16200" cy="151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4" name=""/>
            <p:cNvSpPr/>
            <p:nvPr/>
          </p:nvSpPr>
          <p:spPr>
            <a:xfrm>
              <a:off x="4243320" y="4314600"/>
              <a:ext cx="14400" cy="12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5" name=""/>
            <p:cNvSpPr/>
            <p:nvPr/>
          </p:nvSpPr>
          <p:spPr>
            <a:xfrm>
              <a:off x="3912840" y="4311720"/>
              <a:ext cx="176760" cy="4500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6" name=""/>
            <p:cNvSpPr/>
            <p:nvPr/>
          </p:nvSpPr>
          <p:spPr>
            <a:xfrm>
              <a:off x="3791880" y="4306680"/>
              <a:ext cx="127080" cy="169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7" name=""/>
            <p:cNvSpPr/>
            <p:nvPr/>
          </p:nvSpPr>
          <p:spPr>
            <a:xfrm>
              <a:off x="3912840" y="4311720"/>
              <a:ext cx="6120" cy="1188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8" name=""/>
            <p:cNvSpPr/>
            <p:nvPr/>
          </p:nvSpPr>
          <p:spPr>
            <a:xfrm>
              <a:off x="3676320" y="4253400"/>
              <a:ext cx="115200" cy="7020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9" name=""/>
            <p:cNvSpPr/>
            <p:nvPr/>
          </p:nvSpPr>
          <p:spPr>
            <a:xfrm>
              <a:off x="3789360" y="4311720"/>
              <a:ext cx="2520" cy="118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0" name=""/>
            <p:cNvSpPr/>
            <p:nvPr/>
          </p:nvSpPr>
          <p:spPr>
            <a:xfrm>
              <a:off x="3515040" y="4220640"/>
              <a:ext cx="167760" cy="4500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1" name=""/>
            <p:cNvSpPr/>
            <p:nvPr/>
          </p:nvSpPr>
          <p:spPr>
            <a:xfrm>
              <a:off x="3676320" y="4253400"/>
              <a:ext cx="6120" cy="1260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2" name=""/>
            <p:cNvSpPr/>
            <p:nvPr/>
          </p:nvSpPr>
          <p:spPr>
            <a:xfrm>
              <a:off x="3461400" y="4150080"/>
              <a:ext cx="64080" cy="79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3" name=""/>
            <p:cNvSpPr/>
            <p:nvPr/>
          </p:nvSpPr>
          <p:spPr>
            <a:xfrm>
              <a:off x="3515040" y="422064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4" name=""/>
            <p:cNvSpPr/>
            <p:nvPr/>
          </p:nvSpPr>
          <p:spPr>
            <a:xfrm>
              <a:off x="3304440" y="4066920"/>
              <a:ext cx="172080" cy="8928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5" name=""/>
            <p:cNvSpPr/>
            <p:nvPr/>
          </p:nvSpPr>
          <p:spPr>
            <a:xfrm>
              <a:off x="3461400" y="4148280"/>
              <a:ext cx="15120" cy="79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6" name=""/>
            <p:cNvSpPr/>
            <p:nvPr/>
          </p:nvSpPr>
          <p:spPr>
            <a:xfrm>
              <a:off x="3152880" y="3900960"/>
              <a:ext cx="165960" cy="17208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7" name=""/>
            <p:cNvSpPr/>
            <p:nvPr/>
          </p:nvSpPr>
          <p:spPr>
            <a:xfrm>
              <a:off x="3304440" y="4066920"/>
              <a:ext cx="14400" cy="6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8" name=""/>
            <p:cNvSpPr/>
            <p:nvPr/>
          </p:nvSpPr>
          <p:spPr>
            <a:xfrm>
              <a:off x="4161960" y="4185000"/>
              <a:ext cx="91080" cy="10944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9" name=""/>
            <p:cNvSpPr/>
            <p:nvPr/>
          </p:nvSpPr>
          <p:spPr>
            <a:xfrm>
              <a:off x="3278520" y="3847680"/>
              <a:ext cx="117000" cy="8568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0" name=""/>
            <p:cNvSpPr/>
            <p:nvPr/>
          </p:nvSpPr>
          <p:spPr>
            <a:xfrm>
              <a:off x="3270240" y="3840840"/>
              <a:ext cx="40320" cy="6120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1" name=""/>
            <p:cNvSpPr/>
            <p:nvPr/>
          </p:nvSpPr>
          <p:spPr>
            <a:xfrm>
              <a:off x="3306240" y="3840840"/>
              <a:ext cx="87480" cy="4392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304440" y="3840840"/>
              <a:ext cx="6120" cy="136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3361680" y="3878640"/>
              <a:ext cx="42120" cy="5904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378600" y="3878640"/>
              <a:ext cx="1692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3278520" y="3895920"/>
              <a:ext cx="89280" cy="4392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3361680" y="3926160"/>
              <a:ext cx="8640" cy="136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3278520" y="3895920"/>
              <a:ext cx="1692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8" name=""/>
          <p:cNvGrpSpPr/>
          <p:nvPr/>
        </p:nvGrpSpPr>
        <p:grpSpPr>
          <a:xfrm>
            <a:off x="2556000" y="4508640"/>
            <a:ext cx="1158840" cy="733320"/>
            <a:chOff x="2556000" y="4508640"/>
            <a:chExt cx="1158840" cy="733320"/>
          </a:xfrm>
        </p:grpSpPr>
        <p:sp>
          <p:nvSpPr>
            <p:cNvPr id="10939" name=""/>
            <p:cNvSpPr/>
            <p:nvPr/>
          </p:nvSpPr>
          <p:spPr>
            <a:xfrm>
              <a:off x="2611440" y="4825800"/>
              <a:ext cx="1440" cy="1332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0" name=""/>
            <p:cNvSpPr/>
            <p:nvPr/>
          </p:nvSpPr>
          <p:spPr>
            <a:xfrm>
              <a:off x="2738880" y="4605840"/>
              <a:ext cx="148320" cy="7668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1" name=""/>
            <p:cNvSpPr/>
            <p:nvPr/>
          </p:nvSpPr>
          <p:spPr>
            <a:xfrm>
              <a:off x="2879280" y="4605840"/>
              <a:ext cx="7920" cy="12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2" name=""/>
            <p:cNvSpPr/>
            <p:nvPr/>
          </p:nvSpPr>
          <p:spPr>
            <a:xfrm>
              <a:off x="2617200" y="4671000"/>
              <a:ext cx="127080" cy="2952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3" name=""/>
            <p:cNvSpPr/>
            <p:nvPr/>
          </p:nvSpPr>
          <p:spPr>
            <a:xfrm>
              <a:off x="2738880" y="467100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4" name=""/>
            <p:cNvSpPr/>
            <p:nvPr/>
          </p:nvSpPr>
          <p:spPr>
            <a:xfrm>
              <a:off x="2617200" y="4687920"/>
              <a:ext cx="3600" cy="1224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5" name=""/>
            <p:cNvSpPr/>
            <p:nvPr/>
          </p:nvSpPr>
          <p:spPr>
            <a:xfrm>
              <a:off x="2569320" y="4529520"/>
              <a:ext cx="3960" cy="140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6" name=""/>
            <p:cNvSpPr/>
            <p:nvPr/>
          </p:nvSpPr>
          <p:spPr>
            <a:xfrm>
              <a:off x="2626560" y="451044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7" name=""/>
            <p:cNvSpPr/>
            <p:nvPr/>
          </p:nvSpPr>
          <p:spPr>
            <a:xfrm>
              <a:off x="2562120" y="469152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8" name=""/>
            <p:cNvSpPr/>
            <p:nvPr/>
          </p:nvSpPr>
          <p:spPr>
            <a:xfrm>
              <a:off x="2556000" y="456804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9" name=""/>
            <p:cNvSpPr/>
            <p:nvPr/>
          </p:nvSpPr>
          <p:spPr>
            <a:xfrm>
              <a:off x="2710080" y="4515480"/>
              <a:ext cx="72360" cy="381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0" name=""/>
            <p:cNvSpPr/>
            <p:nvPr/>
          </p:nvSpPr>
          <p:spPr>
            <a:xfrm>
              <a:off x="2710080" y="4539960"/>
              <a:ext cx="756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1" name=""/>
            <p:cNvSpPr/>
            <p:nvPr/>
          </p:nvSpPr>
          <p:spPr>
            <a:xfrm>
              <a:off x="2775240" y="451548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2" name=""/>
            <p:cNvSpPr/>
            <p:nvPr/>
          </p:nvSpPr>
          <p:spPr>
            <a:xfrm>
              <a:off x="2835720" y="4625280"/>
              <a:ext cx="95040" cy="9432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3" name=""/>
            <p:cNvSpPr/>
            <p:nvPr/>
          </p:nvSpPr>
          <p:spPr>
            <a:xfrm>
              <a:off x="2925000" y="4625280"/>
              <a:ext cx="576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4" name=""/>
            <p:cNvSpPr/>
            <p:nvPr/>
          </p:nvSpPr>
          <p:spPr>
            <a:xfrm>
              <a:off x="2771280" y="4707000"/>
              <a:ext cx="74160" cy="1908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5" name=""/>
            <p:cNvSpPr/>
            <p:nvPr/>
          </p:nvSpPr>
          <p:spPr>
            <a:xfrm>
              <a:off x="2835720" y="470700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6" name=""/>
            <p:cNvSpPr/>
            <p:nvPr/>
          </p:nvSpPr>
          <p:spPr>
            <a:xfrm>
              <a:off x="2702520" y="4707000"/>
              <a:ext cx="70200" cy="5904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7" name=""/>
            <p:cNvSpPr/>
            <p:nvPr/>
          </p:nvSpPr>
          <p:spPr>
            <a:xfrm>
              <a:off x="2766960" y="4707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8" name=""/>
            <p:cNvSpPr/>
            <p:nvPr/>
          </p:nvSpPr>
          <p:spPr>
            <a:xfrm>
              <a:off x="2620800" y="4746960"/>
              <a:ext cx="85320" cy="2268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9" name=""/>
            <p:cNvSpPr/>
            <p:nvPr/>
          </p:nvSpPr>
          <p:spPr>
            <a:xfrm>
              <a:off x="2702520" y="4754520"/>
              <a:ext cx="576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0" name=""/>
            <p:cNvSpPr/>
            <p:nvPr/>
          </p:nvSpPr>
          <p:spPr>
            <a:xfrm>
              <a:off x="2565360" y="4514040"/>
              <a:ext cx="1143000" cy="721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1" name=""/>
            <p:cNvSpPr/>
            <p:nvPr/>
          </p:nvSpPr>
          <p:spPr>
            <a:xfrm>
              <a:off x="3299760" y="5186520"/>
              <a:ext cx="95040" cy="4500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2" name=""/>
            <p:cNvSpPr/>
            <p:nvPr/>
          </p:nvSpPr>
          <p:spPr>
            <a:xfrm>
              <a:off x="3389040" y="5217840"/>
              <a:ext cx="119880" cy="2412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3" name=""/>
            <p:cNvSpPr/>
            <p:nvPr/>
          </p:nvSpPr>
          <p:spPr>
            <a:xfrm>
              <a:off x="3387600" y="521784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4" name=""/>
            <p:cNvSpPr/>
            <p:nvPr/>
          </p:nvSpPr>
          <p:spPr>
            <a:xfrm>
              <a:off x="3506760" y="5194800"/>
              <a:ext cx="110160" cy="471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5" name=""/>
            <p:cNvSpPr/>
            <p:nvPr/>
          </p:nvSpPr>
          <p:spPr>
            <a:xfrm>
              <a:off x="3506760" y="5227920"/>
              <a:ext cx="396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6" name=""/>
            <p:cNvSpPr/>
            <p:nvPr/>
          </p:nvSpPr>
          <p:spPr>
            <a:xfrm>
              <a:off x="3610080" y="5142960"/>
              <a:ext cx="70200" cy="640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7" name=""/>
            <p:cNvSpPr/>
            <p:nvPr/>
          </p:nvSpPr>
          <p:spPr>
            <a:xfrm>
              <a:off x="3610080" y="519480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8" name=""/>
            <p:cNvSpPr/>
            <p:nvPr/>
          </p:nvSpPr>
          <p:spPr>
            <a:xfrm>
              <a:off x="3668760" y="5079960"/>
              <a:ext cx="45720" cy="709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9" name=""/>
            <p:cNvSpPr/>
            <p:nvPr/>
          </p:nvSpPr>
          <p:spPr>
            <a:xfrm>
              <a:off x="3668760" y="5142960"/>
              <a:ext cx="12960" cy="100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0" name=""/>
            <p:cNvSpPr/>
            <p:nvPr/>
          </p:nvSpPr>
          <p:spPr>
            <a:xfrm>
              <a:off x="3695760" y="4975200"/>
              <a:ext cx="19080" cy="1080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1" name=""/>
            <p:cNvSpPr/>
            <p:nvPr/>
          </p:nvSpPr>
          <p:spPr>
            <a:xfrm>
              <a:off x="3701160" y="5079960"/>
              <a:ext cx="13320" cy="64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2" name=""/>
            <p:cNvSpPr/>
            <p:nvPr/>
          </p:nvSpPr>
          <p:spPr>
            <a:xfrm>
              <a:off x="3627000" y="4891680"/>
              <a:ext cx="81360" cy="885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3" name=""/>
            <p:cNvSpPr/>
            <p:nvPr/>
          </p:nvSpPr>
          <p:spPr>
            <a:xfrm>
              <a:off x="3695760" y="4972320"/>
              <a:ext cx="12960" cy="82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4" name=""/>
            <p:cNvSpPr/>
            <p:nvPr/>
          </p:nvSpPr>
          <p:spPr>
            <a:xfrm>
              <a:off x="3541320" y="4869000"/>
              <a:ext cx="92520" cy="3312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5" name=""/>
            <p:cNvSpPr/>
            <p:nvPr/>
          </p:nvSpPr>
          <p:spPr>
            <a:xfrm>
              <a:off x="3627000" y="4890240"/>
              <a:ext cx="11160" cy="118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6" name=""/>
            <p:cNvSpPr/>
            <p:nvPr/>
          </p:nvSpPr>
          <p:spPr>
            <a:xfrm>
              <a:off x="3429360" y="4841640"/>
              <a:ext cx="117720" cy="3960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541320" y="4869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322800" y="4809960"/>
              <a:ext cx="111960" cy="4320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29360" y="48416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212280" y="4771440"/>
              <a:ext cx="115920" cy="5076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3322800" y="480996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3126960" y="4722840"/>
              <a:ext cx="92520" cy="5940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3210840" y="4771440"/>
              <a:ext cx="8640" cy="122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4" name=""/>
            <p:cNvSpPr/>
            <p:nvPr/>
          </p:nvSpPr>
          <p:spPr>
            <a:xfrm>
              <a:off x="3056400" y="4681080"/>
              <a:ext cx="79560" cy="522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5" name=""/>
            <p:cNvSpPr/>
            <p:nvPr/>
          </p:nvSpPr>
          <p:spPr>
            <a:xfrm>
              <a:off x="3126960" y="4722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6" name=""/>
            <p:cNvSpPr/>
            <p:nvPr/>
          </p:nvSpPr>
          <p:spPr>
            <a:xfrm>
              <a:off x="2968920" y="4627080"/>
              <a:ext cx="96840" cy="6408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7" name=""/>
            <p:cNvSpPr/>
            <p:nvPr/>
          </p:nvSpPr>
          <p:spPr>
            <a:xfrm>
              <a:off x="3056400" y="4681080"/>
              <a:ext cx="900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8" name=""/>
            <p:cNvSpPr/>
            <p:nvPr/>
          </p:nvSpPr>
          <p:spPr>
            <a:xfrm>
              <a:off x="2898720" y="4563000"/>
              <a:ext cx="79560" cy="7452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2968920" y="4627080"/>
              <a:ext cx="9360" cy="10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0" name=""/>
            <p:cNvSpPr/>
            <p:nvPr/>
          </p:nvSpPr>
          <p:spPr>
            <a:xfrm>
              <a:off x="2839680" y="4519440"/>
              <a:ext cx="68400" cy="540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1" name=""/>
            <p:cNvSpPr/>
            <p:nvPr/>
          </p:nvSpPr>
          <p:spPr>
            <a:xfrm>
              <a:off x="2898720" y="45630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2" name=""/>
            <p:cNvSpPr/>
            <p:nvPr/>
          </p:nvSpPr>
          <p:spPr>
            <a:xfrm>
              <a:off x="2751840" y="4508640"/>
              <a:ext cx="93240" cy="2268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3" name=""/>
            <p:cNvSpPr/>
            <p:nvPr/>
          </p:nvSpPr>
          <p:spPr>
            <a:xfrm>
              <a:off x="2839680" y="4519440"/>
              <a:ext cx="9360" cy="118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4" name=""/>
            <p:cNvSpPr/>
            <p:nvPr/>
          </p:nvSpPr>
          <p:spPr>
            <a:xfrm>
              <a:off x="2670120" y="4508640"/>
              <a:ext cx="85320" cy="4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5" name=""/>
            <p:cNvSpPr/>
            <p:nvPr/>
          </p:nvSpPr>
          <p:spPr>
            <a:xfrm>
              <a:off x="2748600" y="4508640"/>
              <a:ext cx="7200" cy="12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6" name=""/>
            <p:cNvSpPr/>
            <p:nvPr/>
          </p:nvSpPr>
          <p:spPr>
            <a:xfrm>
              <a:off x="2580840" y="4539960"/>
              <a:ext cx="96840" cy="795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7" name=""/>
            <p:cNvSpPr/>
            <p:nvPr/>
          </p:nvSpPr>
          <p:spPr>
            <a:xfrm>
              <a:off x="2668680" y="4539960"/>
              <a:ext cx="8640" cy="118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8" name=""/>
            <p:cNvSpPr/>
            <p:nvPr/>
          </p:nvSpPr>
          <p:spPr>
            <a:xfrm>
              <a:off x="2558160" y="4613040"/>
              <a:ext cx="36000" cy="8496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9" name=""/>
            <p:cNvSpPr/>
            <p:nvPr/>
          </p:nvSpPr>
          <p:spPr>
            <a:xfrm>
              <a:off x="2579040" y="4609800"/>
              <a:ext cx="15120" cy="100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0" name=""/>
            <p:cNvSpPr/>
            <p:nvPr/>
          </p:nvSpPr>
          <p:spPr>
            <a:xfrm>
              <a:off x="2558160" y="4696560"/>
              <a:ext cx="47520" cy="8712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1" name=""/>
            <p:cNvSpPr/>
            <p:nvPr/>
          </p:nvSpPr>
          <p:spPr>
            <a:xfrm>
              <a:off x="2558160" y="469656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2" name=""/>
            <p:cNvSpPr/>
            <p:nvPr/>
          </p:nvSpPr>
          <p:spPr>
            <a:xfrm>
              <a:off x="2592000" y="4778640"/>
              <a:ext cx="87480" cy="90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3" name=""/>
            <p:cNvSpPr/>
            <p:nvPr/>
          </p:nvSpPr>
          <p:spPr>
            <a:xfrm>
              <a:off x="2590200" y="477864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4" name=""/>
            <p:cNvSpPr/>
            <p:nvPr/>
          </p:nvSpPr>
          <p:spPr>
            <a:xfrm>
              <a:off x="2668680" y="4858560"/>
              <a:ext cx="121680" cy="90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5" name=""/>
            <p:cNvSpPr/>
            <p:nvPr/>
          </p:nvSpPr>
          <p:spPr>
            <a:xfrm>
              <a:off x="2668680" y="4858560"/>
              <a:ext cx="11160" cy="10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6" name=""/>
            <p:cNvSpPr/>
            <p:nvPr/>
          </p:nvSpPr>
          <p:spPr>
            <a:xfrm>
              <a:off x="2780640" y="4939200"/>
              <a:ext cx="115920" cy="8496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7" name=""/>
            <p:cNvSpPr/>
            <p:nvPr/>
          </p:nvSpPr>
          <p:spPr>
            <a:xfrm>
              <a:off x="2780640" y="49392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8" name=""/>
            <p:cNvSpPr/>
            <p:nvPr/>
          </p:nvSpPr>
          <p:spPr>
            <a:xfrm>
              <a:off x="2889000" y="5013720"/>
              <a:ext cx="131400" cy="8712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9" name=""/>
            <p:cNvSpPr/>
            <p:nvPr/>
          </p:nvSpPr>
          <p:spPr>
            <a:xfrm>
              <a:off x="2887200" y="50137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0" name=""/>
            <p:cNvSpPr/>
            <p:nvPr/>
          </p:nvSpPr>
          <p:spPr>
            <a:xfrm>
              <a:off x="3012480" y="5088960"/>
              <a:ext cx="153720" cy="6588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1" name=""/>
            <p:cNvSpPr/>
            <p:nvPr/>
          </p:nvSpPr>
          <p:spPr>
            <a:xfrm>
              <a:off x="3012480" y="5088960"/>
              <a:ext cx="756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2" name=""/>
            <p:cNvSpPr/>
            <p:nvPr/>
          </p:nvSpPr>
          <p:spPr>
            <a:xfrm>
              <a:off x="3160800" y="5140800"/>
              <a:ext cx="144720" cy="5760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3" name=""/>
            <p:cNvSpPr/>
            <p:nvPr/>
          </p:nvSpPr>
          <p:spPr>
            <a:xfrm>
              <a:off x="3159360" y="514080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4" name=""/>
            <p:cNvSpPr/>
            <p:nvPr/>
          </p:nvSpPr>
          <p:spPr>
            <a:xfrm>
              <a:off x="3299760" y="5184360"/>
              <a:ext cx="79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5" name=""/>
            <p:cNvSpPr/>
            <p:nvPr/>
          </p:nvSpPr>
          <p:spPr>
            <a:xfrm>
              <a:off x="2687400" y="4550400"/>
              <a:ext cx="950760" cy="58140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6" name=""/>
            <p:cNvSpPr/>
            <p:nvPr/>
          </p:nvSpPr>
          <p:spPr>
            <a:xfrm>
              <a:off x="3551040" y="5067720"/>
              <a:ext cx="85320" cy="698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7" name=""/>
            <p:cNvSpPr/>
            <p:nvPr/>
          </p:nvSpPr>
          <p:spPr>
            <a:xfrm>
              <a:off x="3625200" y="4987800"/>
              <a:ext cx="18360" cy="8496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8" name=""/>
            <p:cNvSpPr/>
            <p:nvPr/>
          </p:nvSpPr>
          <p:spPr>
            <a:xfrm>
              <a:off x="3625200" y="5067720"/>
              <a:ext cx="12960" cy="104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9" name=""/>
            <p:cNvSpPr/>
            <p:nvPr/>
          </p:nvSpPr>
          <p:spPr>
            <a:xfrm>
              <a:off x="3579480" y="4919760"/>
              <a:ext cx="64440" cy="727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0" name=""/>
            <p:cNvSpPr/>
            <p:nvPr/>
          </p:nvSpPr>
          <p:spPr>
            <a:xfrm>
              <a:off x="3630960" y="4984200"/>
              <a:ext cx="12960" cy="8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1" name=""/>
            <p:cNvSpPr/>
            <p:nvPr/>
          </p:nvSpPr>
          <p:spPr>
            <a:xfrm>
              <a:off x="3412440" y="4869000"/>
              <a:ext cx="174600" cy="6120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2" name=""/>
            <p:cNvSpPr/>
            <p:nvPr/>
          </p:nvSpPr>
          <p:spPr>
            <a:xfrm>
              <a:off x="3579480" y="491760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3" name=""/>
            <p:cNvSpPr/>
            <p:nvPr/>
          </p:nvSpPr>
          <p:spPr>
            <a:xfrm>
              <a:off x="3246480" y="4818600"/>
              <a:ext cx="171360" cy="6264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4" name=""/>
            <p:cNvSpPr/>
            <p:nvPr/>
          </p:nvSpPr>
          <p:spPr>
            <a:xfrm>
              <a:off x="3412440" y="4869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5" name=""/>
            <p:cNvSpPr/>
            <p:nvPr/>
          </p:nvSpPr>
          <p:spPr>
            <a:xfrm>
              <a:off x="3088800" y="4745520"/>
              <a:ext cx="165240" cy="8532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6" name=""/>
            <p:cNvSpPr/>
            <p:nvPr/>
          </p:nvSpPr>
          <p:spPr>
            <a:xfrm>
              <a:off x="3246480" y="4818600"/>
              <a:ext cx="7560" cy="12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7" name=""/>
            <p:cNvSpPr/>
            <p:nvPr/>
          </p:nvSpPr>
          <p:spPr>
            <a:xfrm>
              <a:off x="2980080" y="4668840"/>
              <a:ext cx="115920" cy="8712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8" name=""/>
            <p:cNvSpPr/>
            <p:nvPr/>
          </p:nvSpPr>
          <p:spPr>
            <a:xfrm>
              <a:off x="3086640" y="47455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9" name=""/>
            <p:cNvSpPr/>
            <p:nvPr/>
          </p:nvSpPr>
          <p:spPr>
            <a:xfrm>
              <a:off x="2877480" y="4605840"/>
              <a:ext cx="111960" cy="734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0" name=""/>
            <p:cNvSpPr/>
            <p:nvPr/>
          </p:nvSpPr>
          <p:spPr>
            <a:xfrm>
              <a:off x="2980080" y="4668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1" name=""/>
            <p:cNvSpPr/>
            <p:nvPr/>
          </p:nvSpPr>
          <p:spPr>
            <a:xfrm>
              <a:off x="2810880" y="4545360"/>
              <a:ext cx="76320" cy="712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2" name=""/>
            <p:cNvSpPr/>
            <p:nvPr/>
          </p:nvSpPr>
          <p:spPr>
            <a:xfrm>
              <a:off x="2877480" y="4605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3" name=""/>
            <p:cNvSpPr/>
            <p:nvPr/>
          </p:nvSpPr>
          <p:spPr>
            <a:xfrm>
              <a:off x="2729160" y="4545360"/>
              <a:ext cx="89280" cy="345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4" name=""/>
            <p:cNvSpPr/>
            <p:nvPr/>
          </p:nvSpPr>
          <p:spPr>
            <a:xfrm>
              <a:off x="2810880" y="454392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2679840" y="4569480"/>
              <a:ext cx="58680" cy="716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2725200" y="4568040"/>
              <a:ext cx="13320" cy="118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2679840" y="4637520"/>
              <a:ext cx="26280" cy="9216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2679840" y="4633920"/>
              <a:ext cx="15120" cy="720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2692800" y="4725000"/>
              <a:ext cx="87840" cy="9540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2691360" y="472500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2771280" y="4809960"/>
              <a:ext cx="131400" cy="8172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2" name=""/>
            <p:cNvSpPr/>
            <p:nvPr/>
          </p:nvSpPr>
          <p:spPr>
            <a:xfrm>
              <a:off x="2769480" y="480996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3" name=""/>
            <p:cNvSpPr/>
            <p:nvPr/>
          </p:nvSpPr>
          <p:spPr>
            <a:xfrm>
              <a:off x="2894400" y="4879800"/>
              <a:ext cx="148320" cy="9720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4" name=""/>
            <p:cNvSpPr/>
            <p:nvPr/>
          </p:nvSpPr>
          <p:spPr>
            <a:xfrm>
              <a:off x="2894400" y="487980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5" name=""/>
            <p:cNvSpPr/>
            <p:nvPr/>
          </p:nvSpPr>
          <p:spPr>
            <a:xfrm>
              <a:off x="3035520" y="4965120"/>
              <a:ext cx="178200" cy="1047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6" name=""/>
            <p:cNvSpPr/>
            <p:nvPr/>
          </p:nvSpPr>
          <p:spPr>
            <a:xfrm>
              <a:off x="3035520" y="4965120"/>
              <a:ext cx="7200" cy="12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7" name=""/>
            <p:cNvSpPr/>
            <p:nvPr/>
          </p:nvSpPr>
          <p:spPr>
            <a:xfrm>
              <a:off x="3208320" y="5055840"/>
              <a:ext cx="161640" cy="5724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8" name=""/>
            <p:cNvSpPr/>
            <p:nvPr/>
          </p:nvSpPr>
          <p:spPr>
            <a:xfrm>
              <a:off x="3206880" y="505584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9" name=""/>
            <p:cNvSpPr/>
            <p:nvPr/>
          </p:nvSpPr>
          <p:spPr>
            <a:xfrm>
              <a:off x="3366360" y="5099400"/>
              <a:ext cx="190080" cy="3996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0" name=""/>
            <p:cNvSpPr/>
            <p:nvPr/>
          </p:nvSpPr>
          <p:spPr>
            <a:xfrm>
              <a:off x="3366360" y="5099400"/>
              <a:ext cx="360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1" name=""/>
            <p:cNvSpPr/>
            <p:nvPr/>
          </p:nvSpPr>
          <p:spPr>
            <a:xfrm>
              <a:off x="3551040" y="512532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2" name=""/>
            <p:cNvSpPr/>
            <p:nvPr/>
          </p:nvSpPr>
          <p:spPr>
            <a:xfrm>
              <a:off x="2733120" y="4557240"/>
              <a:ext cx="905040" cy="5590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3" name=""/>
            <p:cNvSpPr/>
            <p:nvPr/>
          </p:nvSpPr>
          <p:spPr>
            <a:xfrm>
              <a:off x="3614040" y="5032800"/>
              <a:ext cx="29880" cy="694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4" name=""/>
            <p:cNvSpPr/>
            <p:nvPr/>
          </p:nvSpPr>
          <p:spPr>
            <a:xfrm>
              <a:off x="3619800" y="4968720"/>
              <a:ext cx="24120" cy="6768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5" name=""/>
            <p:cNvSpPr/>
            <p:nvPr/>
          </p:nvSpPr>
          <p:spPr>
            <a:xfrm>
              <a:off x="3630960" y="5032800"/>
              <a:ext cx="12960" cy="50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6" name=""/>
            <p:cNvSpPr/>
            <p:nvPr/>
          </p:nvSpPr>
          <p:spPr>
            <a:xfrm>
              <a:off x="3579480" y="4919760"/>
              <a:ext cx="52920" cy="550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7" name=""/>
            <p:cNvSpPr/>
            <p:nvPr/>
          </p:nvSpPr>
          <p:spPr>
            <a:xfrm>
              <a:off x="3619800" y="4966920"/>
              <a:ext cx="12960" cy="7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8" name=""/>
            <p:cNvSpPr/>
            <p:nvPr/>
          </p:nvSpPr>
          <p:spPr>
            <a:xfrm>
              <a:off x="3436560" y="4890240"/>
              <a:ext cx="150480" cy="3996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9" name=""/>
            <p:cNvSpPr/>
            <p:nvPr/>
          </p:nvSpPr>
          <p:spPr>
            <a:xfrm>
              <a:off x="3579480" y="491760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0" name=""/>
            <p:cNvSpPr/>
            <p:nvPr/>
          </p:nvSpPr>
          <p:spPr>
            <a:xfrm>
              <a:off x="3299760" y="4851720"/>
              <a:ext cx="140760" cy="5004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1" name=""/>
            <p:cNvSpPr/>
            <p:nvPr/>
          </p:nvSpPr>
          <p:spPr>
            <a:xfrm>
              <a:off x="3435120" y="48902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2" name=""/>
            <p:cNvSpPr/>
            <p:nvPr/>
          </p:nvSpPr>
          <p:spPr>
            <a:xfrm>
              <a:off x="3142080" y="4794120"/>
              <a:ext cx="165240" cy="694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3" name=""/>
            <p:cNvSpPr/>
            <p:nvPr/>
          </p:nvSpPr>
          <p:spPr>
            <a:xfrm>
              <a:off x="3299760" y="485172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4" name=""/>
            <p:cNvSpPr/>
            <p:nvPr/>
          </p:nvSpPr>
          <p:spPr>
            <a:xfrm>
              <a:off x="3004920" y="4712400"/>
              <a:ext cx="144360" cy="9216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5" name=""/>
            <p:cNvSpPr/>
            <p:nvPr/>
          </p:nvSpPr>
          <p:spPr>
            <a:xfrm>
              <a:off x="3139920" y="47941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6" name=""/>
            <p:cNvSpPr/>
            <p:nvPr/>
          </p:nvSpPr>
          <p:spPr>
            <a:xfrm>
              <a:off x="2915640" y="4647960"/>
              <a:ext cx="99000" cy="7452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7" name=""/>
            <p:cNvSpPr/>
            <p:nvPr/>
          </p:nvSpPr>
          <p:spPr>
            <a:xfrm>
              <a:off x="3004920" y="47124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8" name=""/>
            <p:cNvSpPr/>
            <p:nvPr/>
          </p:nvSpPr>
          <p:spPr>
            <a:xfrm>
              <a:off x="2833920" y="4573440"/>
              <a:ext cx="91080" cy="849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9" name=""/>
            <p:cNvSpPr/>
            <p:nvPr/>
          </p:nvSpPr>
          <p:spPr>
            <a:xfrm>
              <a:off x="2915640" y="464796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0" name=""/>
            <p:cNvSpPr/>
            <p:nvPr/>
          </p:nvSpPr>
          <p:spPr>
            <a:xfrm>
              <a:off x="2771280" y="4551840"/>
              <a:ext cx="70200" cy="331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1" name=""/>
            <p:cNvSpPr/>
            <p:nvPr/>
          </p:nvSpPr>
          <p:spPr>
            <a:xfrm>
              <a:off x="2833920" y="4573440"/>
              <a:ext cx="9360" cy="118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2" name=""/>
            <p:cNvSpPr/>
            <p:nvPr/>
          </p:nvSpPr>
          <p:spPr>
            <a:xfrm>
              <a:off x="2727360" y="4554000"/>
              <a:ext cx="53280" cy="5544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3" name=""/>
            <p:cNvSpPr/>
            <p:nvPr/>
          </p:nvSpPr>
          <p:spPr>
            <a:xfrm>
              <a:off x="2769480" y="4550400"/>
              <a:ext cx="11160" cy="136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4" name=""/>
            <p:cNvSpPr/>
            <p:nvPr/>
          </p:nvSpPr>
          <p:spPr>
            <a:xfrm>
              <a:off x="2725200" y="4600800"/>
              <a:ext cx="49680" cy="6084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5" name=""/>
            <p:cNvSpPr/>
            <p:nvPr/>
          </p:nvSpPr>
          <p:spPr>
            <a:xfrm>
              <a:off x="2723760" y="460080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6" name=""/>
            <p:cNvSpPr/>
            <p:nvPr/>
          </p:nvSpPr>
          <p:spPr>
            <a:xfrm>
              <a:off x="2766960" y="4651560"/>
              <a:ext cx="85320" cy="2952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7" name=""/>
            <p:cNvSpPr/>
            <p:nvPr/>
          </p:nvSpPr>
          <p:spPr>
            <a:xfrm>
              <a:off x="2761560" y="4651560"/>
              <a:ext cx="13320" cy="13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8" name=""/>
            <p:cNvSpPr/>
            <p:nvPr/>
          </p:nvSpPr>
          <p:spPr>
            <a:xfrm>
              <a:off x="2845440" y="4668840"/>
              <a:ext cx="85320" cy="698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9" name=""/>
            <p:cNvSpPr/>
            <p:nvPr/>
          </p:nvSpPr>
          <p:spPr>
            <a:xfrm>
              <a:off x="2845440" y="466704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0" name=""/>
            <p:cNvSpPr/>
            <p:nvPr/>
          </p:nvSpPr>
          <p:spPr>
            <a:xfrm>
              <a:off x="2921400" y="4728240"/>
              <a:ext cx="99000" cy="7632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1" name=""/>
            <p:cNvSpPr/>
            <p:nvPr/>
          </p:nvSpPr>
          <p:spPr>
            <a:xfrm>
              <a:off x="2921400" y="4728240"/>
              <a:ext cx="9360" cy="10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2" name=""/>
            <p:cNvSpPr/>
            <p:nvPr/>
          </p:nvSpPr>
          <p:spPr>
            <a:xfrm>
              <a:off x="3012480" y="4794120"/>
              <a:ext cx="118080" cy="5904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3" name=""/>
            <p:cNvSpPr/>
            <p:nvPr/>
          </p:nvSpPr>
          <p:spPr>
            <a:xfrm>
              <a:off x="3010680" y="47941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4" name=""/>
            <p:cNvSpPr/>
            <p:nvPr/>
          </p:nvSpPr>
          <p:spPr>
            <a:xfrm>
              <a:off x="3123000" y="4841640"/>
              <a:ext cx="156240" cy="709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5" name=""/>
            <p:cNvSpPr/>
            <p:nvPr/>
          </p:nvSpPr>
          <p:spPr>
            <a:xfrm>
              <a:off x="3123000" y="484164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6" name=""/>
            <p:cNvSpPr/>
            <p:nvPr/>
          </p:nvSpPr>
          <p:spPr>
            <a:xfrm>
              <a:off x="3273120" y="4899240"/>
              <a:ext cx="131400" cy="5688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7" name=""/>
            <p:cNvSpPr/>
            <p:nvPr/>
          </p:nvSpPr>
          <p:spPr>
            <a:xfrm>
              <a:off x="3271320" y="489924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8" name=""/>
            <p:cNvSpPr/>
            <p:nvPr/>
          </p:nvSpPr>
          <p:spPr>
            <a:xfrm>
              <a:off x="3400560" y="4942800"/>
              <a:ext cx="115920" cy="4644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9" name=""/>
            <p:cNvSpPr/>
            <p:nvPr/>
          </p:nvSpPr>
          <p:spPr>
            <a:xfrm>
              <a:off x="3400560" y="4942800"/>
              <a:ext cx="3960" cy="133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0" name=""/>
            <p:cNvSpPr/>
            <p:nvPr/>
          </p:nvSpPr>
          <p:spPr>
            <a:xfrm>
              <a:off x="3511080" y="4977360"/>
              <a:ext cx="66600" cy="4860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1" name=""/>
            <p:cNvSpPr/>
            <p:nvPr/>
          </p:nvSpPr>
          <p:spPr>
            <a:xfrm>
              <a:off x="3511080" y="4975200"/>
              <a:ext cx="79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2" name=""/>
            <p:cNvSpPr/>
            <p:nvPr/>
          </p:nvSpPr>
          <p:spPr>
            <a:xfrm>
              <a:off x="3554640" y="5017320"/>
              <a:ext cx="26280" cy="5004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3" name=""/>
            <p:cNvSpPr/>
            <p:nvPr/>
          </p:nvSpPr>
          <p:spPr>
            <a:xfrm>
              <a:off x="3566520" y="5013720"/>
              <a:ext cx="14760" cy="122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4" name=""/>
            <p:cNvSpPr/>
            <p:nvPr/>
          </p:nvSpPr>
          <p:spPr>
            <a:xfrm>
              <a:off x="3554640" y="5067720"/>
              <a:ext cx="20880" cy="5076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554640" y="506628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566520" y="5092200"/>
              <a:ext cx="56520" cy="313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560760" y="5109840"/>
              <a:ext cx="14760" cy="169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614040" y="5092200"/>
              <a:ext cx="12960" cy="13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3318840" y="5088960"/>
              <a:ext cx="157680" cy="5004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3210840" y="5083200"/>
              <a:ext cx="113760" cy="1908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3318840" y="508896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2" name=""/>
            <p:cNvSpPr/>
            <p:nvPr/>
          </p:nvSpPr>
          <p:spPr>
            <a:xfrm>
              <a:off x="3107520" y="5024160"/>
              <a:ext cx="102960" cy="7812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3" name=""/>
            <p:cNvSpPr/>
            <p:nvPr/>
          </p:nvSpPr>
          <p:spPr>
            <a:xfrm>
              <a:off x="3208320" y="5088960"/>
              <a:ext cx="2160" cy="1332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4" name=""/>
            <p:cNvSpPr/>
            <p:nvPr/>
          </p:nvSpPr>
          <p:spPr>
            <a:xfrm>
              <a:off x="2963160" y="4987800"/>
              <a:ext cx="149760" cy="5004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5" name=""/>
            <p:cNvSpPr/>
            <p:nvPr/>
          </p:nvSpPr>
          <p:spPr>
            <a:xfrm>
              <a:off x="3107520" y="5024160"/>
              <a:ext cx="5400" cy="136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6" name=""/>
            <p:cNvSpPr/>
            <p:nvPr/>
          </p:nvSpPr>
          <p:spPr>
            <a:xfrm>
              <a:off x="2915640" y="4909320"/>
              <a:ext cx="57240" cy="88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7" name=""/>
            <p:cNvSpPr/>
            <p:nvPr/>
          </p:nvSpPr>
          <p:spPr>
            <a:xfrm>
              <a:off x="2963160" y="49878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8" name=""/>
            <p:cNvSpPr/>
            <p:nvPr/>
          </p:nvSpPr>
          <p:spPr>
            <a:xfrm>
              <a:off x="2775240" y="4817160"/>
              <a:ext cx="153720" cy="9900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9" name=""/>
            <p:cNvSpPr/>
            <p:nvPr/>
          </p:nvSpPr>
          <p:spPr>
            <a:xfrm>
              <a:off x="2915640" y="4907520"/>
              <a:ext cx="13320" cy="8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0" name=""/>
            <p:cNvSpPr/>
            <p:nvPr/>
          </p:nvSpPr>
          <p:spPr>
            <a:xfrm>
              <a:off x="2639880" y="4632480"/>
              <a:ext cx="148320" cy="19116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1" name=""/>
            <p:cNvSpPr/>
            <p:nvPr/>
          </p:nvSpPr>
          <p:spPr>
            <a:xfrm>
              <a:off x="2775240" y="4817160"/>
              <a:ext cx="12960" cy="6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2" name=""/>
            <p:cNvSpPr/>
            <p:nvPr/>
          </p:nvSpPr>
          <p:spPr>
            <a:xfrm>
              <a:off x="3541320" y="4947840"/>
              <a:ext cx="81360" cy="12168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3" name=""/>
            <p:cNvSpPr/>
            <p:nvPr/>
          </p:nvSpPr>
          <p:spPr>
            <a:xfrm>
              <a:off x="2751840" y="4573440"/>
              <a:ext cx="104760" cy="9540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4" name=""/>
            <p:cNvSpPr/>
            <p:nvPr/>
          </p:nvSpPr>
          <p:spPr>
            <a:xfrm>
              <a:off x="2744640" y="4565880"/>
              <a:ext cx="36000" cy="6768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5" name=""/>
            <p:cNvSpPr/>
            <p:nvPr/>
          </p:nvSpPr>
          <p:spPr>
            <a:xfrm>
              <a:off x="2776680" y="4565880"/>
              <a:ext cx="78120" cy="486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6" name=""/>
            <p:cNvSpPr/>
            <p:nvPr/>
          </p:nvSpPr>
          <p:spPr>
            <a:xfrm>
              <a:off x="2775240" y="4565880"/>
              <a:ext cx="5400" cy="154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7" name=""/>
            <p:cNvSpPr/>
            <p:nvPr/>
          </p:nvSpPr>
          <p:spPr>
            <a:xfrm>
              <a:off x="2826000" y="4608000"/>
              <a:ext cx="37800" cy="6588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8" name=""/>
            <p:cNvSpPr/>
            <p:nvPr/>
          </p:nvSpPr>
          <p:spPr>
            <a:xfrm>
              <a:off x="2841480" y="4608000"/>
              <a:ext cx="151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9" name=""/>
            <p:cNvSpPr/>
            <p:nvPr/>
          </p:nvSpPr>
          <p:spPr>
            <a:xfrm>
              <a:off x="2751840" y="4627080"/>
              <a:ext cx="79560" cy="4860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0" name=""/>
            <p:cNvSpPr/>
            <p:nvPr/>
          </p:nvSpPr>
          <p:spPr>
            <a:xfrm>
              <a:off x="2826000" y="4660560"/>
              <a:ext cx="7560" cy="154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1" name=""/>
            <p:cNvSpPr/>
            <p:nvPr/>
          </p:nvSpPr>
          <p:spPr>
            <a:xfrm>
              <a:off x="2751840" y="4627080"/>
              <a:ext cx="151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2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3" name=""/>
          <p:cNvSpPr/>
          <p:nvPr/>
        </p:nvSpPr>
        <p:spPr>
          <a:xfrm>
            <a:off x="-38160" y="0"/>
            <a:ext cx="60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went pop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other went b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60" fill="hold"/>
                                        <p:tgtEl>
                                          <p:spTgt spid="10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60" fill="hold"/>
                                        <p:tgtEl>
                                          <p:spTgt spid="10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60" fill="hold"/>
                                        <p:tgtEl>
                                          <p:spTgt spid="10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55" dur="60" fill="hold"/>
                                        <p:tgtEl>
                                          <p:spTgt spid="10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6" dur="60" fill="hold"/>
                                        <p:tgtEl>
                                          <p:spTgt spid="10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7" dur="60" fill="hold"/>
                                        <p:tgtEl>
                                          <p:spTgt spid="10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8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1">
                                  <p:stCondLst>
                                    <p:cond delay="3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6" dur="1230" fill="hold"/>
                                        <p:tgtEl>
                                          <p:spTgt spid="1075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7" dur="1230"/>
                                        <p:tgtEl>
                                          <p:spTgt spid="10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9" dur="1230"/>
                                        <p:tgtEl>
                                          <p:spTgt spid="10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1">
                                  <p:stCondLst>
                                    <p:cond delay="6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5" dur="1230" fill="hold"/>
                                        <p:tgtEl>
                                          <p:spTgt spid="1093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6" dur="1230"/>
                                        <p:tgtEl>
                                          <p:spTgt spid="10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8" dur="1230"/>
                                        <p:tgtEl>
                                          <p:spTgt spid="10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sp>
        <p:nvSpPr>
          <p:cNvPr id="11125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6" name=""/>
          <p:cNvSpPr/>
          <p:nvPr/>
        </p:nvSpPr>
        <p:spPr>
          <a:xfrm>
            <a:off x="-114840" y="18720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usages sizzling in a 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726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14840" y="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f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usages sizzling in a 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11280" y="3357720"/>
            <a:ext cx="3912120" cy="1812600"/>
            <a:chOff x="611280" y="3357720"/>
            <a:chExt cx="3912120" cy="1812600"/>
          </a:xfrm>
        </p:grpSpPr>
        <p:grpSp>
          <p:nvGrpSpPr>
            <p:cNvPr id="46" name=""/>
            <p:cNvGrpSpPr/>
            <p:nvPr/>
          </p:nvGrpSpPr>
          <p:grpSpPr>
            <a:xfrm>
              <a:off x="1547640" y="3645000"/>
              <a:ext cx="1339560" cy="836640"/>
              <a:chOff x="1547640" y="3645000"/>
              <a:chExt cx="1339560" cy="836640"/>
            </a:xfrm>
          </p:grpSpPr>
          <p:sp>
            <p:nvSpPr>
              <p:cNvPr id="47" name=""/>
              <p:cNvSpPr/>
              <p:nvPr/>
            </p:nvSpPr>
            <p:spPr>
              <a:xfrm>
                <a:off x="1611720" y="4006800"/>
                <a:ext cx="180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758960" y="3756240"/>
                <a:ext cx="17136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21320" y="37562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618200" y="3830040"/>
                <a:ext cx="14724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58960" y="383004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18200" y="38494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63120" y="36691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29360" y="364716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54840" y="38538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47640" y="371304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25840" y="3652920"/>
                <a:ext cx="835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25840" y="36810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01080" y="365292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70920" y="3777840"/>
                <a:ext cx="10980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74600" y="37778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96400" y="3871440"/>
                <a:ext cx="8568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70920" y="38714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7200" y="3871440"/>
                <a:ext cx="8100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91720" y="38714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22880" y="3917160"/>
                <a:ext cx="986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7200" y="392544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58440" y="3651120"/>
                <a:ext cx="13215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07320" y="4418280"/>
                <a:ext cx="10980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11000" y="4453920"/>
                <a:ext cx="13860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08840" y="445392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47080" y="4428000"/>
                <a:ext cx="12744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47080" y="446580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66240" y="436860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66240" y="44280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834280" y="4296960"/>
                <a:ext cx="529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4280" y="436860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65240" y="4177440"/>
                <a:ext cx="219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71720" y="429696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86040" y="4082040"/>
                <a:ext cx="9396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865240" y="417384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87040" y="4056120"/>
                <a:ext cx="1072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786040" y="408024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57440" y="4024800"/>
                <a:ext cx="13608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87040" y="405612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34320" y="3988800"/>
                <a:ext cx="1296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557440" y="402480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06520" y="3944880"/>
                <a:ext cx="13392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434320" y="398880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07520" y="3889080"/>
                <a:ext cx="1072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04720" y="394488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26520" y="3841920"/>
                <a:ext cx="9216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07520" y="388908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25000" y="3780360"/>
                <a:ext cx="11196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26520" y="384192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43640" y="3706920"/>
                <a:ext cx="9216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25000" y="37803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75600" y="3657240"/>
                <a:ext cx="7884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43640" y="37069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74080" y="3645000"/>
                <a:ext cx="10800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75600" y="365724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79760" y="3645000"/>
                <a:ext cx="986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70120" y="364500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76440" y="3681000"/>
                <a:ext cx="11196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77960" y="36810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0160" y="3764160"/>
                <a:ext cx="4176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74280" y="3760200"/>
                <a:ext cx="1764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50160" y="3859560"/>
                <a:ext cx="5472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50160" y="385956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89400" y="3953160"/>
                <a:ext cx="10116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87240" y="39531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77960" y="4044240"/>
                <a:ext cx="14076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77960" y="404424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07560" y="4136040"/>
                <a:ext cx="13392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07560" y="41360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32480" y="4221360"/>
                <a:ext cx="15192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30680" y="4221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5400" y="4307040"/>
                <a:ext cx="17784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5400" y="43070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120" y="4366080"/>
                <a:ext cx="1674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44960" y="43660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07320" y="44161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99560" y="3692880"/>
                <a:ext cx="10994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8200" y="428292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84240" y="4191480"/>
                <a:ext cx="2124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84240" y="428292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30960" y="4114080"/>
                <a:ext cx="7452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0720" y="4187520"/>
                <a:ext cx="147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37640" y="4056120"/>
                <a:ext cx="20196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30960" y="41119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345760" y="3998880"/>
                <a:ext cx="1983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37640" y="405612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63960" y="3915360"/>
                <a:ext cx="19080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45760" y="3998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37960" y="3827520"/>
                <a:ext cx="13392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61080" y="3915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19520" y="3756240"/>
                <a:ext cx="1296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7960" y="382752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2120" y="3686760"/>
                <a:ext cx="8820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19520" y="37562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47800" y="3686760"/>
                <a:ext cx="10332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42120" y="36849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90920" y="3714480"/>
                <a:ext cx="6804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43480" y="37130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90920" y="3792240"/>
                <a:ext cx="306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90920" y="378792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06040" y="3891600"/>
                <a:ext cx="10152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03880" y="38916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96400" y="3988800"/>
                <a:ext cx="15192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94600" y="39888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38960" y="4068720"/>
                <a:ext cx="17136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38960" y="40687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02040" y="4165560"/>
                <a:ext cx="2062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02040" y="416556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01840" y="4269240"/>
                <a:ext cx="18720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00040" y="42692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84720" y="4318920"/>
                <a:ext cx="21996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84720" y="4318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98200" y="43484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52480" y="3700440"/>
                <a:ext cx="10461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70920" y="4243320"/>
                <a:ext cx="3456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77400" y="4169880"/>
                <a:ext cx="2772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90720" y="4243320"/>
                <a:ext cx="147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30960" y="4114080"/>
                <a:ext cx="6120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77400" y="416808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65720" y="4080240"/>
                <a:ext cx="17388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30960" y="41119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07320" y="4036680"/>
                <a:ext cx="16272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3920" y="408024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25160" y="3970800"/>
                <a:ext cx="191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407320" y="403668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66760" y="3877560"/>
                <a:ext cx="16704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22640" y="39708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63440" y="3804120"/>
                <a:ext cx="114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66760" y="38775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69120" y="3718800"/>
                <a:ext cx="10512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63440" y="38041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96400" y="369432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69120" y="371880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46000" y="3696840"/>
                <a:ext cx="615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94600" y="3692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43480" y="3750120"/>
                <a:ext cx="5760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41320" y="37501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91720" y="3808080"/>
                <a:ext cx="986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85240" y="380808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82080" y="382752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82080" y="3825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69920" y="3895560"/>
                <a:ext cx="114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69920" y="38955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75400" y="3970800"/>
                <a:ext cx="1364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73240" y="39708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03200" y="4024800"/>
                <a:ext cx="18072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03200" y="402480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76720" y="4090320"/>
                <a:ext cx="15192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74560" y="409032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23960" y="4140360"/>
                <a:ext cx="13392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23960" y="41403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51760" y="4179960"/>
                <a:ext cx="7704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51760" y="41774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02160" y="4225320"/>
                <a:ext cx="306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15840" y="422136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02160" y="428292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702160" y="428112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15840" y="4310640"/>
                <a:ext cx="6516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09360" y="433080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70920" y="431064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429640" y="4307040"/>
                <a:ext cx="18252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04720" y="430056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29640" y="430704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85200" y="4233240"/>
                <a:ext cx="11916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01840" y="430704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18520" y="4191480"/>
                <a:ext cx="17316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85200" y="42332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63440" y="4102200"/>
                <a:ext cx="6624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18520" y="41914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01080" y="3996720"/>
                <a:ext cx="17784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63440" y="410004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44480" y="3786120"/>
                <a:ext cx="17136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01080" y="3996720"/>
                <a:ext cx="147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87040" y="4146120"/>
                <a:ext cx="9396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74080" y="3718800"/>
                <a:ext cx="12096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65800" y="3710520"/>
                <a:ext cx="4176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02880" y="3710520"/>
                <a:ext cx="9036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01080" y="371052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60120" y="3758400"/>
                <a:ext cx="4356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77760" y="375840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74080" y="378036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60120" y="3818160"/>
                <a:ext cx="900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74080" y="378036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843280" y="3718080"/>
              <a:ext cx="1297080" cy="660240"/>
              <a:chOff x="2843280" y="3718080"/>
              <a:chExt cx="1297080" cy="660240"/>
            </a:xfrm>
          </p:grpSpPr>
          <p:sp>
            <p:nvSpPr>
              <p:cNvPr id="231" name=""/>
              <p:cNvSpPr/>
              <p:nvPr/>
            </p:nvSpPr>
            <p:spPr>
              <a:xfrm>
                <a:off x="2905200" y="400356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48120" y="380556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05080" y="38055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11680" y="386424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48120" y="386424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11680" y="3879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58400" y="3736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22480" y="3719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50120" y="38826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43280" y="3771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15720" y="372420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15720" y="3746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88440" y="3724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56480" y="382284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56560" y="38228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4120" y="389700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56480" y="389700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07440" y="389700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79440" y="38970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16000" y="393264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07440" y="39394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3720" y="3723120"/>
                <a:ext cx="127944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75600" y="432828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75680" y="435636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773880" y="4356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907800" y="433584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907800" y="43657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23000" y="428904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23000" y="433584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88880" y="423252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8880" y="42890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8760" y="413820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25240" y="423252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42080" y="406296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18760" y="413532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46320" y="404244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42080" y="40615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0680" y="401796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6320" y="4042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01520" y="398916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20680" y="40179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78040" y="3954600"/>
                <a:ext cx="12996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01520" y="39891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82280" y="391068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76240" y="39546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03440" y="387324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82280" y="391068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5520" y="382464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03440" y="38732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26680" y="376704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05520" y="382464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0800" y="372780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26680" y="37670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62520" y="371808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160800" y="372780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71080" y="371808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58920" y="37180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71000" y="374652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69280" y="37465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45800" y="381204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69200" y="380916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45800" y="388728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45800" y="388728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83960" y="396108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81800" y="39610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69280" y="403308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69280" y="403308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94920" y="4105440"/>
                <a:ext cx="12996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94920" y="41054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15880" y="417276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14080" y="417276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54120" y="424044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54120" y="424044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20440" y="428724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18280" y="42872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75600" y="43264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0160" y="3755880"/>
                <a:ext cx="106452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57120" y="42213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40280" y="414936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40280" y="42213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88800" y="408852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46400" y="41461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1960" y="404244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88800" y="4086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16200" y="399708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1960" y="4042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39800" y="3931200"/>
                <a:ext cx="18504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16200" y="399708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318120" y="3862080"/>
                <a:ext cx="12996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37280" y="39312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03280" y="380556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18120" y="386208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28400" y="375120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03280" y="38055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37320" y="375120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8400" y="374976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981880" y="377316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32640" y="377172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81880" y="383436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1880" y="383076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96640" y="391284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94480" y="39128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084120" y="398916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82320" y="3989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22360" y="405216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22360" y="40521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380040" y="412884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80040" y="412884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73360" y="421056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71560" y="4210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50480" y="424980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50480" y="424980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57120" y="427320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41640" y="3761640"/>
                <a:ext cx="10130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27680" y="419004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33800" y="413208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046400" y="419004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88800" y="408852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33800" y="41310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28960" y="406152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88800" y="4086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75600" y="402696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27160" y="406152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9200" y="397512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75600" y="40269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45840" y="390132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496680" y="39751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45760" y="384336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45840" y="3901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154320" y="377640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45760" y="384336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84120" y="375696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54320" y="37764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35160" y="375912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82320" y="37558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32640" y="38008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30840" y="3800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79440" y="384696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73320" y="384696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67280" y="386208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67280" y="386064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52240" y="391572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52240" y="39157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54120" y="397512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52320" y="39751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77600" y="401796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77600" y="40179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45720" y="406944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43920" y="406944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88280" y="4109040"/>
                <a:ext cx="12996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88280" y="410904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12120" y="414000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12120" y="41382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61080" y="417600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74040" y="417276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61080" y="422136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61080" y="421992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4040" y="424332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67920" y="425916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27680" y="42433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697200" y="424044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576240" y="423540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97200" y="424044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60680" y="418212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73360" y="42404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99040" y="414936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60680" y="418212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45760" y="407880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99040" y="414936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88440" y="399564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45760" y="40770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36880" y="382968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088440" y="399564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46320" y="411372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062520" y="377640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54240" y="376956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90240" y="376956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88440" y="376956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45680" y="380736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62600" y="380736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62520" y="382464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45680" y="385488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62520" y="38246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11280" y="3357720"/>
              <a:ext cx="3912120" cy="1812600"/>
              <a:chOff x="611280" y="3357720"/>
              <a:chExt cx="3912120" cy="181260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755640" y="4078440"/>
                <a:ext cx="1305000" cy="803160"/>
                <a:chOff x="755640" y="4078440"/>
                <a:chExt cx="1305000" cy="803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17920" y="4425840"/>
                  <a:ext cx="1800" cy="147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961560" y="4185000"/>
                  <a:ext cx="167040" cy="8388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119600" y="4185000"/>
                  <a:ext cx="8640" cy="1332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24400" y="4255920"/>
                  <a:ext cx="143280" cy="3204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961560" y="425592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24400" y="427464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70760" y="4101480"/>
                  <a:ext cx="432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35200" y="408060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62480" y="427860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55640" y="4143600"/>
                  <a:ext cx="8640" cy="144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929160" y="4086000"/>
                  <a:ext cx="81360" cy="4212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29160" y="4113000"/>
                  <a:ext cx="864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02240" y="408600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070640" y="4206240"/>
                  <a:ext cx="106920" cy="10332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171440" y="4206240"/>
                  <a:ext cx="648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97920" y="4295880"/>
                  <a:ext cx="83520" cy="2088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070640" y="4295880"/>
                  <a:ext cx="108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920520" y="4295880"/>
                  <a:ext cx="78840" cy="6444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93240" y="429588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28720" y="4339440"/>
                  <a:ext cx="96120" cy="2484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920520" y="434772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6440" y="4084560"/>
                  <a:ext cx="1287000" cy="78984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593000" y="4820760"/>
                  <a:ext cx="106920" cy="4932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693800" y="4854960"/>
                  <a:ext cx="135000" cy="2664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692000" y="485496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826640" y="4830120"/>
                  <a:ext cx="124200" cy="5148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826640" y="4866480"/>
                  <a:ext cx="432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942560" y="4773240"/>
                  <a:ext cx="78840" cy="7020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942560" y="483012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008800" y="4704480"/>
                  <a:ext cx="51480" cy="7776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008800" y="477324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039040" y="4589640"/>
                  <a:ext cx="21600" cy="11808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045520" y="4704480"/>
                  <a:ext cx="15120" cy="720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961640" y="4498200"/>
                  <a:ext cx="91800" cy="9720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039040" y="4586040"/>
                  <a:ext cx="14400" cy="90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865520" y="4473000"/>
                  <a:ext cx="104400" cy="3636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961640" y="4496400"/>
                  <a:ext cx="12600" cy="1296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739160" y="4443120"/>
                  <a:ext cx="132480" cy="4356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865520" y="447300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619280" y="4408200"/>
                  <a:ext cx="126000" cy="4752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739160" y="444312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494720" y="4366080"/>
                  <a:ext cx="130680" cy="5544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619280" y="440820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398600" y="4312800"/>
                  <a:ext cx="104400" cy="6516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492920" y="4366080"/>
                  <a:ext cx="10080" cy="1332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19400" y="4267440"/>
                  <a:ext cx="89640" cy="5724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98600" y="43128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220400" y="4208400"/>
                  <a:ext cx="108720" cy="7020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319400" y="426744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141560" y="4137840"/>
                  <a:ext cx="89640" cy="8172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220400" y="420840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075320" y="4089960"/>
                  <a:ext cx="77040" cy="5904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141560" y="4137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76320" y="4078440"/>
                  <a:ext cx="105120" cy="2484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075320" y="4089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84520" y="4078440"/>
                  <a:ext cx="96120" cy="4752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972360" y="4078440"/>
                  <a:ext cx="7920" cy="1332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360" y="4113000"/>
                  <a:ext cx="108720" cy="8748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82360" y="4113000"/>
                  <a:ext cx="10080" cy="1296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58160" y="4192920"/>
                  <a:ext cx="40680" cy="9324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1560" y="4188960"/>
                  <a:ext cx="16920" cy="1116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58160" y="4284360"/>
                  <a:ext cx="53280" cy="9540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58160" y="428436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6320" y="4374360"/>
                  <a:ext cx="98640" cy="9864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94520" y="437436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82360" y="4461840"/>
                  <a:ext cx="136800" cy="9936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82360" y="44618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008720" y="4549680"/>
                  <a:ext cx="130680" cy="9288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008720" y="45496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130400" y="4631760"/>
                  <a:ext cx="147960" cy="9540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128600" y="4631760"/>
                  <a:ext cx="108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269720" y="4713840"/>
                  <a:ext cx="173160" cy="7200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69720" y="4713840"/>
                  <a:ext cx="8640" cy="1296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436760" y="4770720"/>
                  <a:ext cx="163080" cy="6300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434960" y="477072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93000" y="4818600"/>
                  <a:ext cx="864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903600" y="4124160"/>
                  <a:ext cx="1071000" cy="63684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76320" y="4690800"/>
                  <a:ext cx="96120" cy="7668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59840" y="4603320"/>
                  <a:ext cx="20880" cy="9288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59840" y="469080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908360" y="4528800"/>
                  <a:ext cx="72360" cy="799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966320" y="4599360"/>
                  <a:ext cx="14400" cy="936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720080" y="4473000"/>
                  <a:ext cx="196920" cy="6696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08360" y="4526640"/>
                  <a:ext cx="1260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533240" y="4417920"/>
                  <a:ext cx="192960" cy="6840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720080" y="447300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55760" y="4338000"/>
                  <a:ext cx="186120" cy="9360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33240" y="4417920"/>
                  <a:ext cx="8640" cy="1332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233360" y="4253760"/>
                  <a:ext cx="130680" cy="9540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353240" y="4338000"/>
                  <a:ext cx="108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117800" y="4185000"/>
                  <a:ext cx="126000" cy="8064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233360" y="425376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042560" y="4118760"/>
                  <a:ext cx="86040" cy="781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117800" y="41850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950760" y="4118760"/>
                  <a:ext cx="100440" cy="3780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42560" y="4116960"/>
                  <a:ext cx="10800" cy="14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95320" y="4145400"/>
                  <a:ext cx="66240" cy="7812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946080" y="4143600"/>
                  <a:ext cx="15120" cy="129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95320" y="4219560"/>
                  <a:ext cx="29880" cy="10080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5320" y="4215600"/>
                  <a:ext cx="16920" cy="792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909720" y="4315320"/>
                  <a:ext cx="98640" cy="10440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07920" y="431532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997920" y="4408200"/>
                  <a:ext cx="147960" cy="8964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996120" y="4408200"/>
                  <a:ext cx="1260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36880" y="4484880"/>
                  <a:ext cx="167040" cy="10656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36880" y="4484880"/>
                  <a:ext cx="8640" cy="1296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295640" y="4578120"/>
                  <a:ext cx="200880" cy="11448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295640" y="457812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490400" y="4677840"/>
                  <a:ext cx="182160" cy="6300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488600" y="467784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668240" y="4725360"/>
                  <a:ext cx="214200" cy="4356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668240" y="4725360"/>
                  <a:ext cx="432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876320" y="475380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955080" y="4131720"/>
                  <a:ext cx="1019160" cy="61236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947240" y="4652640"/>
                  <a:ext cx="33480" cy="7596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953360" y="4582080"/>
                  <a:ext cx="27000" cy="7416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966320" y="4652640"/>
                  <a:ext cx="14400" cy="540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908360" y="4528800"/>
                  <a:ext cx="59760" cy="604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953360" y="4580640"/>
                  <a:ext cx="14400" cy="90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747440" y="4496400"/>
                  <a:ext cx="169560" cy="4356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908360" y="4526640"/>
                  <a:ext cx="1260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93000" y="4454280"/>
                  <a:ext cx="158760" cy="5508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745640" y="449640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415520" y="4391280"/>
                  <a:ext cx="186120" cy="7596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593000" y="4454280"/>
                  <a:ext cx="8640" cy="1296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61440" y="4301640"/>
                  <a:ext cx="162720" cy="10080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413360" y="4391280"/>
                  <a:ext cx="108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160640" y="4231080"/>
                  <a:ext cx="111600" cy="8172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261440" y="43016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068480" y="4149360"/>
                  <a:ext cx="102600" cy="9288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160640" y="42310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997920" y="4125960"/>
                  <a:ext cx="78840" cy="3600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068480" y="41493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948600" y="4128120"/>
                  <a:ext cx="59760" cy="604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96120" y="4124160"/>
                  <a:ext cx="12600" cy="1512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946080" y="417924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944280" y="417924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993240" y="4235040"/>
                  <a:ext cx="96120" cy="3204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987120" y="4235040"/>
                  <a:ext cx="15120" cy="1512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081440" y="4253760"/>
                  <a:ext cx="96120" cy="7668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081440" y="425196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167120" y="4318920"/>
                  <a:ext cx="111240" cy="8352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167120" y="431892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69720" y="4391280"/>
                  <a:ext cx="133200" cy="6480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267560" y="4391280"/>
                  <a:ext cx="108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93920" y="4443120"/>
                  <a:ext cx="176040" cy="7776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393920" y="4443120"/>
                  <a:ext cx="8640" cy="1296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63120" y="4506120"/>
                  <a:ext cx="147960" cy="6228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61320" y="4506120"/>
                  <a:ext cx="8640" cy="1476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706400" y="4554000"/>
                  <a:ext cx="130680" cy="5076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06400" y="4554000"/>
                  <a:ext cx="4320" cy="1440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830960" y="4591800"/>
                  <a:ext cx="74880" cy="5328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830960" y="4589640"/>
                  <a:ext cx="864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880280" y="4635720"/>
                  <a:ext cx="29880" cy="5472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893600" y="4631760"/>
                  <a:ext cx="16560" cy="1332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880280" y="4690800"/>
                  <a:ext cx="23400" cy="5544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0280" y="468900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893600" y="4717440"/>
                  <a:ext cx="63720" cy="3456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887120" y="4736880"/>
                  <a:ext cx="16560" cy="183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947240" y="4717440"/>
                  <a:ext cx="14400" cy="1512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614600" y="4713840"/>
                  <a:ext cx="177840" cy="5508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492920" y="4707720"/>
                  <a:ext cx="128160" cy="2088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614600" y="4713840"/>
                  <a:ext cx="6120" cy="1476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376640" y="4642920"/>
                  <a:ext cx="115920" cy="8568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490400" y="4713840"/>
                  <a:ext cx="2520" cy="1476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214280" y="4603320"/>
                  <a:ext cx="168840" cy="5508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376640" y="4642920"/>
                  <a:ext cx="6120" cy="151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160640" y="4517280"/>
                  <a:ext cx="64440" cy="9684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214280" y="460332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02240" y="4416120"/>
                  <a:ext cx="173160" cy="10836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160640" y="4515120"/>
                  <a:ext cx="15120" cy="936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49960" y="4214160"/>
                  <a:ext cx="167040" cy="20952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002240" y="441612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865520" y="4559400"/>
                  <a:ext cx="91800" cy="13320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976320" y="4149360"/>
                  <a:ext cx="117720" cy="10440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968040" y="414144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004400" y="4141440"/>
                  <a:ext cx="87840" cy="5328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002240" y="4141440"/>
                  <a:ext cx="6120" cy="169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59840" y="4187160"/>
                  <a:ext cx="42480" cy="7200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77120" y="418716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976320" y="4208400"/>
                  <a:ext cx="89640" cy="5328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059840" y="4244760"/>
                  <a:ext cx="8640" cy="1692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976320" y="420840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124000" y="3357720"/>
                <a:ext cx="1511280" cy="620640"/>
                <a:chOff x="2124000" y="3357720"/>
                <a:chExt cx="1511280" cy="6206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196360" y="3626280"/>
                  <a:ext cx="2160" cy="11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362680" y="3440160"/>
                  <a:ext cx="193320" cy="6480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45560" y="3440160"/>
                  <a:ext cx="10080" cy="104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203560" y="3494880"/>
                  <a:ext cx="165960" cy="2484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362680" y="3494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3560" y="350928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141640" y="337536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16160" y="33591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31920" y="351252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24000" y="340812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24880" y="3363480"/>
                  <a:ext cx="94320" cy="3240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324880" y="3384360"/>
                  <a:ext cx="10080" cy="115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409840" y="3363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488680" y="3456360"/>
                  <a:ext cx="123840" cy="7956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605320" y="34563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404440" y="3525840"/>
                  <a:ext cx="96480" cy="1620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488680" y="352584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15160" y="3525840"/>
                  <a:ext cx="91440" cy="4968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399400" y="352584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208600" y="3559320"/>
                  <a:ext cx="111240" cy="1908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315160" y="356580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36240" y="3362400"/>
                  <a:ext cx="1490400" cy="61020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093840" y="3931560"/>
                  <a:ext cx="123840" cy="3816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210480" y="3957840"/>
                  <a:ext cx="156600" cy="2052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208320" y="395784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364200" y="3938400"/>
                  <a:ext cx="144000" cy="3960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364200" y="3966480"/>
                  <a:ext cx="5040" cy="115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498480" y="3894480"/>
                  <a:ext cx="91440" cy="5436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498480" y="3938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575160" y="3841560"/>
                  <a:ext cx="59760" cy="6012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575160" y="389448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610080" y="3752640"/>
                  <a:ext cx="24840" cy="9108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617640" y="3841560"/>
                  <a:ext cx="17640" cy="540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520800" y="3682080"/>
                  <a:ext cx="106200" cy="7488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610080" y="37501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409200" y="3662640"/>
                  <a:ext cx="120960" cy="2808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520800" y="368064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263040" y="3639600"/>
                  <a:ext cx="153360" cy="3348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409200" y="366264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124080" y="3612600"/>
                  <a:ext cx="146160" cy="3672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63040" y="363960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980080" y="3580200"/>
                  <a:ext cx="151200" cy="4284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124080" y="361260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68480" y="3538800"/>
                  <a:ext cx="120960" cy="5040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977920" y="3580200"/>
                  <a:ext cx="11520" cy="104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776680" y="3503880"/>
                  <a:ext cx="104040" cy="4428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68480" y="353880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662200" y="3458160"/>
                  <a:ext cx="126000" cy="5436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776680" y="3503880"/>
                  <a:ext cx="11880" cy="864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570760" y="3403800"/>
                  <a:ext cx="104040" cy="6300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662200" y="345816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494080" y="3366720"/>
                  <a:ext cx="89280" cy="4536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570760" y="340380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379600" y="3357720"/>
                  <a:ext cx="1216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494080" y="336672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273040" y="3357720"/>
                  <a:ext cx="111240" cy="3672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374920" y="335772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156400" y="3384360"/>
                  <a:ext cx="126000" cy="6732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70880" y="338436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126880" y="3446280"/>
                  <a:ext cx="47160" cy="7200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154240" y="3443040"/>
                  <a:ext cx="19800" cy="86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126880" y="3516840"/>
                  <a:ext cx="61920" cy="7344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26880" y="3516840"/>
                  <a:ext cx="19800" cy="288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71160" y="3586320"/>
                  <a:ext cx="114120" cy="7632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169000" y="3586320"/>
                  <a:ext cx="19800" cy="72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270880" y="3654000"/>
                  <a:ext cx="158760" cy="7668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270880" y="3654000"/>
                  <a:ext cx="14400" cy="86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417040" y="3722040"/>
                  <a:ext cx="151200" cy="7164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417040" y="372204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558160" y="3785400"/>
                  <a:ext cx="171360" cy="7344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556000" y="378540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719440" y="3848760"/>
                  <a:ext cx="200520" cy="5544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719440" y="384876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912760" y="3892680"/>
                  <a:ext cx="189000" cy="4860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910600" y="389268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093840" y="3929760"/>
                  <a:ext cx="10080" cy="115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295360" y="3393000"/>
                  <a:ext cx="1240200" cy="49212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421800" y="3830760"/>
                  <a:ext cx="111240" cy="5904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518640" y="3763080"/>
                  <a:ext cx="24120" cy="7164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518640" y="3830760"/>
                  <a:ext cx="16560" cy="864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458880" y="3705840"/>
                  <a:ext cx="83880" cy="6156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525840" y="3760200"/>
                  <a:ext cx="16560" cy="72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240720" y="3662640"/>
                  <a:ext cx="227880" cy="5184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458880" y="370404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024360" y="3620160"/>
                  <a:ext cx="223560" cy="5292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240720" y="366264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819160" y="3558240"/>
                  <a:ext cx="215280" cy="7236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24360" y="3620160"/>
                  <a:ext cx="10080" cy="104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676960" y="3493080"/>
                  <a:ext cx="151200" cy="7344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815920" y="355824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543400" y="3440160"/>
                  <a:ext cx="146160" cy="6228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676960" y="349308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456280" y="3388680"/>
                  <a:ext cx="99360" cy="6048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543400" y="344016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350080" y="3388680"/>
                  <a:ext cx="116280" cy="2916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456280" y="338724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285640" y="3409200"/>
                  <a:ext cx="7668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344680" y="34081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85640" y="3466800"/>
                  <a:ext cx="34560" cy="7812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285640" y="3463920"/>
                  <a:ext cx="19800" cy="612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302560" y="3540600"/>
                  <a:ext cx="114480" cy="8064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300400" y="3540600"/>
                  <a:ext cx="19800" cy="72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404440" y="3612600"/>
                  <a:ext cx="171360" cy="6912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402280" y="361260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565720" y="3672000"/>
                  <a:ext cx="193320" cy="8244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65720" y="367200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749320" y="3744000"/>
                  <a:ext cx="232560" cy="8856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749320" y="37440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974680" y="3820680"/>
                  <a:ext cx="210960" cy="4860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972520" y="382068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180960" y="3857760"/>
                  <a:ext cx="248040" cy="3384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180960" y="3857760"/>
                  <a:ext cx="4680" cy="115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421800" y="387972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355120" y="3398760"/>
                  <a:ext cx="1180080" cy="47340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503880" y="3801600"/>
                  <a:ext cx="38880" cy="5868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511080" y="3746880"/>
                  <a:ext cx="31320" cy="5724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525840" y="3801600"/>
                  <a:ext cx="16560" cy="432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458880" y="3705840"/>
                  <a:ext cx="69120" cy="4680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511080" y="374580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272400" y="3680640"/>
                  <a:ext cx="196200" cy="3384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458880" y="370404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093840" y="3648240"/>
                  <a:ext cx="183600" cy="4248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270240" y="368064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888280" y="3599280"/>
                  <a:ext cx="215640" cy="5868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093840" y="364824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709720" y="3530160"/>
                  <a:ext cx="188280" cy="7812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885400" y="35992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592720" y="3475800"/>
                  <a:ext cx="129240" cy="6300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09720" y="353016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486520" y="3412440"/>
                  <a:ext cx="118800" cy="7164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592720" y="347580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404440" y="3394440"/>
                  <a:ext cx="91440" cy="2808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486520" y="3412440"/>
                  <a:ext cx="12240" cy="972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347560" y="3396240"/>
                  <a:ext cx="69480" cy="4680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02280" y="3393000"/>
                  <a:ext cx="14400" cy="1152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344680" y="3435840"/>
                  <a:ext cx="64800" cy="5148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342520" y="3435840"/>
                  <a:ext cx="19800" cy="72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399400" y="3478680"/>
                  <a:ext cx="111240" cy="2484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391840" y="34786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501280" y="3493080"/>
                  <a:ext cx="111240" cy="5904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501280" y="34920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600280" y="3543840"/>
                  <a:ext cx="128880" cy="6444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600280" y="354384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719440" y="3599280"/>
                  <a:ext cx="154080" cy="5004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716920" y="35992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863080" y="3639600"/>
                  <a:ext cx="203760" cy="6012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863080" y="363960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058920" y="3688200"/>
                  <a:ext cx="171360" cy="4824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056760" y="368820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225240" y="3725280"/>
                  <a:ext cx="151200" cy="3924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225240" y="3725280"/>
                  <a:ext cx="5040" cy="1116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369240" y="3754440"/>
                  <a:ext cx="86760" cy="4104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369240" y="3752640"/>
                  <a:ext cx="10080" cy="115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426120" y="3788280"/>
                  <a:ext cx="34560" cy="4248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441600" y="3785400"/>
                  <a:ext cx="19080" cy="1044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426120" y="383076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426120" y="3829680"/>
                  <a:ext cx="19800" cy="288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441600" y="3851640"/>
                  <a:ext cx="73800" cy="2664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434400" y="3866400"/>
                  <a:ext cx="19080" cy="1440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503880" y="3851640"/>
                  <a:ext cx="16560" cy="1152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118680" y="3848760"/>
                  <a:ext cx="205920" cy="4248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977920" y="3844080"/>
                  <a:ext cx="1483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118680" y="384876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843280" y="3794040"/>
                  <a:ext cx="134280" cy="6624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974680" y="384876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655000" y="3763080"/>
                  <a:ext cx="195480" cy="4248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843280" y="3794040"/>
                  <a:ext cx="7200" cy="115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592720" y="3696840"/>
                  <a:ext cx="74520" cy="7488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655000" y="3763080"/>
                  <a:ext cx="12240" cy="86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409840" y="3618720"/>
                  <a:ext cx="200520" cy="8388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592720" y="3695400"/>
                  <a:ext cx="17640" cy="720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233080" y="3462480"/>
                  <a:ext cx="193320" cy="16200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409840" y="3618720"/>
                  <a:ext cx="16560" cy="576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409200" y="3729600"/>
                  <a:ext cx="106200" cy="10296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379600" y="34124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369880" y="3406320"/>
                  <a:ext cx="47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412000" y="3406320"/>
                  <a:ext cx="101880" cy="4104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409840" y="3406320"/>
                  <a:ext cx="7200" cy="1296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476440" y="3441960"/>
                  <a:ext cx="49320" cy="5544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496240" y="3441960"/>
                  <a:ext cx="19800" cy="576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379600" y="3458160"/>
                  <a:ext cx="104040" cy="4104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476440" y="3486240"/>
                  <a:ext cx="10080" cy="1296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379600" y="3458160"/>
                  <a:ext cx="19800" cy="576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476360" y="3429000"/>
                <a:ext cx="1295280" cy="660240"/>
                <a:chOff x="1476360" y="3429000"/>
                <a:chExt cx="1295280" cy="6602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538280" y="3714480"/>
                  <a:ext cx="1800" cy="1188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680840" y="3516480"/>
                  <a:ext cx="165600" cy="6876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837800" y="3516480"/>
                  <a:ext cx="8640" cy="111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544760" y="3575160"/>
                  <a:ext cx="142200" cy="2628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680840" y="357516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544760" y="3590280"/>
                  <a:ext cx="3960" cy="1116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491480" y="3447720"/>
                  <a:ext cx="4320" cy="126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55560" y="343080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483200" y="35935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476360" y="348264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648440" y="3435120"/>
                  <a:ext cx="80640" cy="3456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648440" y="345744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721160" y="343512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789200" y="3533760"/>
                  <a:ext cx="106200" cy="8460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888920" y="353376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716840" y="3607920"/>
                  <a:ext cx="82800" cy="16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789200" y="3607920"/>
                  <a:ext cx="10440" cy="10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640160" y="3607920"/>
                  <a:ext cx="78480" cy="5292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712520" y="360792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549080" y="364356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640160" y="365040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486800" y="3434040"/>
                  <a:ext cx="1277640" cy="64908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307600" y="4039200"/>
                  <a:ext cx="106200" cy="4032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407680" y="4067280"/>
                  <a:ext cx="133920" cy="2160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405520" y="406728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539080" y="4046760"/>
                  <a:ext cx="123120" cy="4212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539080" y="4076640"/>
                  <a:ext cx="4320" cy="126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654640" y="3999960"/>
                  <a:ext cx="78480" cy="5760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654640" y="4046760"/>
                  <a:ext cx="10440" cy="1260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720160" y="3943440"/>
                  <a:ext cx="51120" cy="6372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720160" y="3999960"/>
                  <a:ext cx="14400" cy="900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750040" y="3849120"/>
                  <a:ext cx="21240" cy="9720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756520" y="39434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673360" y="3773880"/>
                  <a:ext cx="91080" cy="7992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750040" y="384624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577960" y="3753360"/>
                  <a:ext cx="103680" cy="2988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673360" y="377244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452680" y="3728880"/>
                  <a:ext cx="131400" cy="3564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577960" y="375336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2333520" y="3700080"/>
                  <a:ext cx="125280" cy="3888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452680" y="372888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2210040" y="3665520"/>
                  <a:ext cx="129600" cy="4572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333520" y="370008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114280" y="3621600"/>
                  <a:ext cx="10368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208240" y="366552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035800" y="3584160"/>
                  <a:ext cx="89280" cy="4680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114280" y="36216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937880" y="3535560"/>
                  <a:ext cx="108000" cy="5760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035800" y="358416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859400" y="3477960"/>
                  <a:ext cx="89280" cy="6696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937880" y="353556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793520" y="3438720"/>
                  <a:ext cx="76320" cy="4860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859400" y="347796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695240" y="3429000"/>
                  <a:ext cx="104400" cy="2052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793520" y="3438720"/>
                  <a:ext cx="10440" cy="1080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604160" y="3429000"/>
                  <a:ext cx="95400" cy="3888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691640" y="342900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504080" y="3457440"/>
                  <a:ext cx="108000" cy="7164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602360" y="345744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478880" y="3522960"/>
                  <a:ext cx="40320" cy="7668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502280" y="3520080"/>
                  <a:ext cx="16920" cy="900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478880" y="3598200"/>
                  <a:ext cx="52920" cy="7848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478880" y="3598200"/>
                  <a:ext cx="16920" cy="324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516680" y="3672000"/>
                  <a:ext cx="97920" cy="8100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514880" y="3672000"/>
                  <a:ext cx="16920" cy="79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602360" y="3744000"/>
                  <a:ext cx="136080" cy="8172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602360" y="374400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727640" y="3816360"/>
                  <a:ext cx="129600" cy="7632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727640" y="381636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848600" y="3883680"/>
                  <a:ext cx="146520" cy="7848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846440" y="388368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986480" y="3951360"/>
                  <a:ext cx="172080" cy="5904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986480" y="395136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152440" y="3998160"/>
                  <a:ext cx="162000" cy="5184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150640" y="399816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307600" y="403740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622880" y="3466800"/>
                  <a:ext cx="1062720" cy="52344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588760" y="3932280"/>
                  <a:ext cx="95400" cy="630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671560" y="3860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671560" y="3932280"/>
                  <a:ext cx="14400" cy="9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620440" y="3799440"/>
                  <a:ext cx="72000" cy="655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678040" y="38570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433600" y="3753360"/>
                  <a:ext cx="195480" cy="5508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620440" y="37972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48200" y="3708000"/>
                  <a:ext cx="191520" cy="5616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433600" y="375336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072160" y="3642120"/>
                  <a:ext cx="184680" cy="7704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248200" y="3708000"/>
                  <a:ext cx="8640" cy="111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50480" y="3573000"/>
                  <a:ext cx="129600" cy="7848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069280" y="364212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836000" y="3516480"/>
                  <a:ext cx="125280" cy="6624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50480" y="35730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761120" y="3462120"/>
                  <a:ext cx="85320" cy="6408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836000" y="35164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670040" y="3462120"/>
                  <a:ext cx="99720" cy="3096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1120" y="346068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614960" y="3484080"/>
                  <a:ext cx="65880" cy="6444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665720" y="3482640"/>
                  <a:ext cx="15120" cy="1044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614960" y="3545280"/>
                  <a:ext cx="29520" cy="8280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614960" y="3541680"/>
                  <a:ext cx="16920" cy="648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629360" y="3623760"/>
                  <a:ext cx="97920" cy="8568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627560" y="36237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716840" y="3700080"/>
                  <a:ext cx="146520" cy="7344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715040" y="37000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854720" y="3763080"/>
                  <a:ext cx="165960" cy="8748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1854720" y="376308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012400" y="3839760"/>
                  <a:ext cx="199080" cy="9432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012400" y="383976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205720" y="3921480"/>
                  <a:ext cx="180720" cy="5148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203560" y="392148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82120" y="3960720"/>
                  <a:ext cx="212400" cy="3600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382120" y="3960720"/>
                  <a:ext cx="3960" cy="126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588760" y="3984120"/>
                  <a:ext cx="10440" cy="1260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674360" y="3472560"/>
                  <a:ext cx="1011600" cy="50328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658960" y="3900960"/>
                  <a:ext cx="33120" cy="6228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665440" y="3843000"/>
                  <a:ext cx="27000" cy="6120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678040" y="3900960"/>
                  <a:ext cx="14400" cy="432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620440" y="3799440"/>
                  <a:ext cx="59400" cy="496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665440" y="384192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460600" y="3772440"/>
                  <a:ext cx="168120" cy="3600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620440" y="37972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307600" y="3737880"/>
                  <a:ext cx="157320" cy="4500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458800" y="377244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131560" y="3686040"/>
                  <a:ext cx="184680" cy="6228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307600" y="373788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978200" y="3612240"/>
                  <a:ext cx="161280" cy="8280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129040" y="368604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878120" y="3554280"/>
                  <a:ext cx="110520" cy="6696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978200" y="361224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787040" y="3487320"/>
                  <a:ext cx="101880" cy="7632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878120" y="35542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716840" y="3467880"/>
                  <a:ext cx="78480" cy="295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787040" y="3487320"/>
                  <a:ext cx="10440" cy="1044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667880" y="3470040"/>
                  <a:ext cx="59400" cy="496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715040" y="346680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665720" y="351180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663560" y="3511800"/>
                  <a:ext cx="16920" cy="79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712520" y="3557880"/>
                  <a:ext cx="95400" cy="2628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706040" y="3557880"/>
                  <a:ext cx="15120" cy="1260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99640" y="3573000"/>
                  <a:ext cx="95400" cy="630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799640" y="3571560"/>
                  <a:ext cx="10440" cy="1260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884600" y="3626640"/>
                  <a:ext cx="110520" cy="6840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884600" y="362664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1986480" y="3686040"/>
                  <a:ext cx="132120" cy="5328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984680" y="368604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109960" y="3728880"/>
                  <a:ext cx="174600" cy="6372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109960" y="372888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277720" y="3780360"/>
                  <a:ext cx="146520" cy="5112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275920" y="378036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420280" y="3819960"/>
                  <a:ext cx="129600" cy="4176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420280" y="3819960"/>
                  <a:ext cx="4320" cy="1188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543760" y="3850920"/>
                  <a:ext cx="74520" cy="4392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543760" y="384912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592360" y="3886920"/>
                  <a:ext cx="29520" cy="4500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605680" y="388368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592360" y="3932280"/>
                  <a:ext cx="23400" cy="4572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592360" y="3930840"/>
                  <a:ext cx="16920" cy="324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05680" y="3954240"/>
                  <a:ext cx="63000" cy="2844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599560" y="3970080"/>
                  <a:ext cx="16200" cy="1512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658960" y="3954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329200" y="3951360"/>
                  <a:ext cx="176400" cy="4500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208240" y="3946320"/>
                  <a:ext cx="127080" cy="1692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329200" y="395136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092680" y="3893040"/>
                  <a:ext cx="115200" cy="7020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205720" y="3951360"/>
                  <a:ext cx="2520" cy="1188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931400" y="3860280"/>
                  <a:ext cx="167400" cy="4500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092680" y="3893040"/>
                  <a:ext cx="6120" cy="1260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878120" y="3789720"/>
                  <a:ext cx="63720" cy="7956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31400" y="38602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21160" y="3706560"/>
                  <a:ext cx="172080" cy="8928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878120" y="3787920"/>
                  <a:ext cx="15120" cy="792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569960" y="3540600"/>
                  <a:ext cx="165600" cy="17208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21160" y="370656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577960" y="3824640"/>
                  <a:ext cx="91080" cy="10944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695240" y="3487320"/>
                  <a:ext cx="117000" cy="8568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686960" y="3480480"/>
                  <a:ext cx="40320" cy="6120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722960" y="3480480"/>
                  <a:ext cx="87120" cy="4392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721160" y="3480480"/>
                  <a:ext cx="6120" cy="136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778400" y="3518280"/>
                  <a:ext cx="42120" cy="5904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795320" y="351828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695240" y="3535560"/>
                  <a:ext cx="89280" cy="439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778400" y="3565800"/>
                  <a:ext cx="8640" cy="1368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695240" y="353556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1763640" y="3933720"/>
                <a:ext cx="1656000" cy="836640"/>
                <a:chOff x="1763640" y="3933720"/>
                <a:chExt cx="1656000" cy="83664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1842840" y="4295520"/>
                  <a:ext cx="2520" cy="1512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025000" y="4044960"/>
                  <a:ext cx="211680" cy="8748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25520" y="4044960"/>
                  <a:ext cx="11160" cy="140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851120" y="4118760"/>
                  <a:ext cx="181800" cy="3348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025000" y="4118760"/>
                  <a:ext cx="10440" cy="1332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851120" y="413820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783080" y="3957840"/>
                  <a:ext cx="5400" cy="1584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864800" y="3935880"/>
                  <a:ext cx="10440" cy="136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772280" y="414252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763640" y="400176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983600" y="3941640"/>
                  <a:ext cx="103320" cy="4356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983600" y="396972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076840" y="3941640"/>
                  <a:ext cx="10440" cy="136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163240" y="4066560"/>
                  <a:ext cx="135720" cy="10764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291040" y="4066560"/>
                  <a:ext cx="7920" cy="140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071080" y="4160160"/>
                  <a:ext cx="105840" cy="2160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163240" y="4160160"/>
                  <a:ext cx="13680" cy="140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973160" y="4160160"/>
                  <a:ext cx="100080" cy="6732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065320" y="4160160"/>
                  <a:ext cx="7920" cy="140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856520" y="4205880"/>
                  <a:ext cx="122040" cy="2592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973160" y="4214160"/>
                  <a:ext cx="79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1777320" y="3939840"/>
                  <a:ext cx="1633320" cy="82260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826360" y="4707000"/>
                  <a:ext cx="135720" cy="5148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4160" y="4742640"/>
                  <a:ext cx="171360" cy="2772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951640" y="474264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122640" y="4716720"/>
                  <a:ext cx="157680" cy="5364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122640" y="4754520"/>
                  <a:ext cx="5400" cy="1584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269880" y="4657320"/>
                  <a:ext cx="100080" cy="7308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269880" y="471672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353760" y="4585680"/>
                  <a:ext cx="65520" cy="8100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353760" y="4657320"/>
                  <a:ext cx="18720" cy="1152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392280" y="4466160"/>
                  <a:ext cx="27360" cy="12312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400200" y="4585680"/>
                  <a:ext cx="19440" cy="756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294000" y="4370760"/>
                  <a:ext cx="116280" cy="10116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92280" y="446256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171960" y="4344840"/>
                  <a:ext cx="132480" cy="3780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294000" y="4368960"/>
                  <a:ext cx="15840" cy="13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011760" y="4313520"/>
                  <a:ext cx="168120" cy="4536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171960" y="4344840"/>
                  <a:ext cx="7920" cy="140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2859480" y="4277520"/>
                  <a:ext cx="160200" cy="4932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011760" y="4313520"/>
                  <a:ext cx="79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701440" y="4233600"/>
                  <a:ext cx="165600" cy="5796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859480" y="4277520"/>
                  <a:ext cx="7920" cy="140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579400" y="4177800"/>
                  <a:ext cx="132480" cy="6804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2699280" y="4233600"/>
                  <a:ext cx="12600" cy="140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478960" y="4130640"/>
                  <a:ext cx="114120" cy="5940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579400" y="417780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353680" y="4069080"/>
                  <a:ext cx="138240" cy="7308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478960" y="4130640"/>
                  <a:ext cx="12960" cy="1152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253240" y="3995640"/>
                  <a:ext cx="114120" cy="8496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353680" y="4069080"/>
                  <a:ext cx="13680" cy="118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169000" y="3945960"/>
                  <a:ext cx="97560" cy="6156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253240" y="399564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043720" y="3933720"/>
                  <a:ext cx="133560" cy="2592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169000" y="3945960"/>
                  <a:ext cx="13680" cy="1368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1927080" y="3933720"/>
                  <a:ext cx="122040" cy="4932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038680" y="393372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798920" y="3969720"/>
                  <a:ext cx="138240" cy="9108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924560" y="3969720"/>
                  <a:ext cx="12600" cy="1332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766880" y="4052880"/>
                  <a:ext cx="51480" cy="9684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796760" y="4048920"/>
                  <a:ext cx="21600" cy="1152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766880" y="4148280"/>
                  <a:ext cx="67680" cy="9936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766880" y="4148280"/>
                  <a:ext cx="21600" cy="396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815480" y="4241880"/>
                  <a:ext cx="125280" cy="10260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812960" y="4241880"/>
                  <a:ext cx="21600" cy="97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924560" y="4332960"/>
                  <a:ext cx="173880" cy="10332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24560" y="4332960"/>
                  <a:ext cx="15840" cy="1152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084760" y="4424760"/>
                  <a:ext cx="165600" cy="9684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084760" y="442476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239560" y="4510080"/>
                  <a:ext cx="187560" cy="9936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237040" y="4510080"/>
                  <a:ext cx="13680" cy="140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415960" y="4595760"/>
                  <a:ext cx="219960" cy="7488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415960" y="4595760"/>
                  <a:ext cx="11160" cy="1368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628000" y="4654800"/>
                  <a:ext cx="207000" cy="6552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625480" y="465480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826360" y="470484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951200" y="3981600"/>
                  <a:ext cx="1359000" cy="66312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185640" y="4571640"/>
                  <a:ext cx="122040" cy="7992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91840" y="4480200"/>
                  <a:ext cx="26280" cy="9684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291840" y="457164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226320" y="4402800"/>
                  <a:ext cx="91800" cy="8316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299760" y="4476240"/>
                  <a:ext cx="18360" cy="972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987280" y="4344840"/>
                  <a:ext cx="249840" cy="6984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226320" y="440064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750400" y="4287600"/>
                  <a:ext cx="245160" cy="7128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987280" y="4344840"/>
                  <a:ext cx="7920" cy="140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525040" y="4204080"/>
                  <a:ext cx="236160" cy="9756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750400" y="4287600"/>
                  <a:ext cx="11160" cy="140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369880" y="4116240"/>
                  <a:ext cx="165600" cy="9936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21800" y="4204080"/>
                  <a:ext cx="13680" cy="140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223360" y="4044960"/>
                  <a:ext cx="160200" cy="8388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369880" y="41162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127960" y="3975480"/>
                  <a:ext cx="109080" cy="8136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223360" y="404496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2011320" y="3975480"/>
                  <a:ext cx="127440" cy="3924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127960" y="397368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940760" y="4003200"/>
                  <a:ext cx="84240" cy="8172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005560" y="4001760"/>
                  <a:ext cx="19440" cy="1332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940760" y="4080960"/>
                  <a:ext cx="37800" cy="10512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940760" y="4076640"/>
                  <a:ext cx="21600" cy="828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959480" y="4180320"/>
                  <a:ext cx="125280" cy="10872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956960" y="4180320"/>
                  <a:ext cx="21600" cy="97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2071080" y="4277520"/>
                  <a:ext cx="187560" cy="9324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068560" y="427752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2247480" y="4357440"/>
                  <a:ext cx="212040" cy="11124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2247480" y="4357440"/>
                  <a:ext cx="11160" cy="133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449080" y="4454280"/>
                  <a:ext cx="254880" cy="11952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449080" y="445428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696040" y="4557960"/>
                  <a:ext cx="231120" cy="6552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2693520" y="4557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921760" y="4607640"/>
                  <a:ext cx="271800" cy="4536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2921760" y="4607640"/>
                  <a:ext cx="5400" cy="1584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185640" y="463716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017080" y="3989160"/>
                  <a:ext cx="1293120" cy="63792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275640" y="4532040"/>
                  <a:ext cx="42480" cy="7920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283560" y="4458600"/>
                  <a:ext cx="34560" cy="7740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99760" y="4532040"/>
                  <a:ext cx="18360" cy="576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226320" y="4402800"/>
                  <a:ext cx="75960" cy="6300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283560" y="445680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022200" y="4368960"/>
                  <a:ext cx="215280" cy="4536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226320" y="440064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2826360" y="4325400"/>
                  <a:ext cx="201240" cy="5724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019680" y="4368960"/>
                  <a:ext cx="7920" cy="136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601360" y="4259520"/>
                  <a:ext cx="236160" cy="7920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826360" y="4325400"/>
                  <a:ext cx="11160" cy="133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405160" y="4166280"/>
                  <a:ext cx="206280" cy="10512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598120" y="4259520"/>
                  <a:ext cx="13680" cy="140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277360" y="4092840"/>
                  <a:ext cx="141480" cy="8496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405160" y="41662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60720" y="4007520"/>
                  <a:ext cx="130320" cy="9684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2277360" y="409284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071080" y="3983040"/>
                  <a:ext cx="100080" cy="3780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160720" y="4007520"/>
                  <a:ext cx="13680" cy="1332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008800" y="3985560"/>
                  <a:ext cx="75960" cy="6300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068560" y="39816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005560" y="4038840"/>
                  <a:ext cx="70920" cy="6948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003040" y="4038840"/>
                  <a:ext cx="21600" cy="97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065320" y="4096800"/>
                  <a:ext cx="122040" cy="3348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2057400" y="4096800"/>
                  <a:ext cx="19440" cy="158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177280" y="4116240"/>
                  <a:ext cx="122040" cy="7992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177280" y="411444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285640" y="4184280"/>
                  <a:ext cx="141480" cy="8676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285640" y="4184280"/>
                  <a:ext cx="13680" cy="118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415960" y="4259520"/>
                  <a:ext cx="168840" cy="6732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2413440" y="4259520"/>
                  <a:ext cx="13680" cy="140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2573640" y="4313520"/>
                  <a:ext cx="223560" cy="8100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73640" y="4313520"/>
                  <a:ext cx="11160" cy="133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788200" y="4379040"/>
                  <a:ext cx="187560" cy="6480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785680" y="437904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970360" y="4429080"/>
                  <a:ext cx="165600" cy="5292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2970360" y="4429080"/>
                  <a:ext cx="5400" cy="1512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128040" y="4468680"/>
                  <a:ext cx="95400" cy="5544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3128040" y="44661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190680" y="4514040"/>
                  <a:ext cx="37800" cy="5724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207600" y="4510080"/>
                  <a:ext cx="20880" cy="1404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190680" y="4571640"/>
                  <a:ext cx="29880" cy="5796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190680" y="4569840"/>
                  <a:ext cx="21600" cy="396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207600" y="4599360"/>
                  <a:ext cx="80640" cy="3600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199320" y="4619520"/>
                  <a:ext cx="20880" cy="1944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275640" y="4599360"/>
                  <a:ext cx="18360" cy="158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853720" y="4595760"/>
                  <a:ext cx="225720" cy="5724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699280" y="4589280"/>
                  <a:ext cx="162360" cy="2160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853720" y="459576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551680" y="4521960"/>
                  <a:ext cx="147240" cy="8928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696040" y="4595760"/>
                  <a:ext cx="3240" cy="1512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345400" y="4480200"/>
                  <a:ext cx="214200" cy="5724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551680" y="452196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277360" y="4390920"/>
                  <a:ext cx="81720" cy="10116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2345400" y="448020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076840" y="4285440"/>
                  <a:ext cx="219960" cy="11304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277360" y="4388760"/>
                  <a:ext cx="19440" cy="972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883160" y="4074840"/>
                  <a:ext cx="211680" cy="21816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076840" y="4285440"/>
                  <a:ext cx="18360" cy="756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171960" y="4434840"/>
                  <a:ext cx="116280" cy="13896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043720" y="4007520"/>
                  <a:ext cx="149760" cy="10872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032920" y="3999240"/>
                  <a:ext cx="51480" cy="7740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079000" y="3999240"/>
                  <a:ext cx="111600" cy="5544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076840" y="399924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149560" y="4047120"/>
                  <a:ext cx="54000" cy="7488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171520" y="4047120"/>
                  <a:ext cx="21600" cy="756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043720" y="4069080"/>
                  <a:ext cx="114120" cy="5544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149560" y="410688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043720" y="4069080"/>
                  <a:ext cx="21600" cy="756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611280" y="3718080"/>
                <a:ext cx="1368360" cy="660240"/>
                <a:chOff x="611280" y="3718080"/>
                <a:chExt cx="1368360" cy="6602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676800" y="4003560"/>
                  <a:ext cx="1800" cy="1188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27280" y="3805560"/>
                  <a:ext cx="174960" cy="6876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992880" y="38055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83280" y="3864240"/>
                  <a:ext cx="150120" cy="2628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27280" y="386424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83280" y="3879360"/>
                  <a:ext cx="4320" cy="1116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27120" y="373680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94800" y="371988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18480" y="388260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11280" y="3771720"/>
                  <a:ext cx="9360" cy="1188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93080" y="3724200"/>
                  <a:ext cx="85320" cy="3456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93080" y="3746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70120" y="372420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941760" y="3822840"/>
                  <a:ext cx="112320" cy="8460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047240" y="382284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65440" y="3897000"/>
                  <a:ext cx="87480" cy="16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941760" y="389700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84440" y="3897000"/>
                  <a:ext cx="82800" cy="5292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60760" y="3897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687960" y="3932640"/>
                  <a:ext cx="100800" cy="2052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84440" y="393948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22440" y="3723120"/>
                  <a:ext cx="1349640" cy="64908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489320" y="4328280"/>
                  <a:ext cx="112320" cy="4032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595160" y="4356360"/>
                  <a:ext cx="141480" cy="2160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593000" y="435636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734120" y="4335840"/>
                  <a:ext cx="130320" cy="4212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734120" y="436572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855800" y="4289040"/>
                  <a:ext cx="82800" cy="5760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855800" y="433584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925280" y="4232520"/>
                  <a:ext cx="54000" cy="6372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925280" y="4289040"/>
                  <a:ext cx="15120" cy="900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956960" y="4138200"/>
                  <a:ext cx="22680" cy="9720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963440" y="4232520"/>
                  <a:ext cx="15840" cy="576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875960" y="4062960"/>
                  <a:ext cx="96120" cy="7992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56960" y="4135320"/>
                  <a:ext cx="15120" cy="72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774800" y="4042440"/>
                  <a:ext cx="109440" cy="2988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875960" y="40615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642320" y="4017960"/>
                  <a:ext cx="138960" cy="3564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774800" y="404244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16680" y="3989160"/>
                  <a:ext cx="132120" cy="3888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642320" y="401796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386360" y="3954600"/>
                  <a:ext cx="136800" cy="4572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16680" y="398916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285200" y="39106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384200" y="395460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202400" y="3873240"/>
                  <a:ext cx="94320" cy="4680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285200" y="39106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098720" y="3824640"/>
                  <a:ext cx="114120" cy="5760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202400" y="387324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015920" y="3767040"/>
                  <a:ext cx="94320" cy="6696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098720" y="382464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946440" y="3727800"/>
                  <a:ext cx="80640" cy="4860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015920" y="376704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42400" y="3718080"/>
                  <a:ext cx="110160" cy="2052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946440" y="372780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46280" y="3718080"/>
                  <a:ext cx="100800" cy="3888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38440" y="371808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40440" y="3746520"/>
                  <a:ext cx="114120" cy="7164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44120" y="3746520"/>
                  <a:ext cx="10440" cy="1044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13800" y="3812040"/>
                  <a:ext cx="42480" cy="7668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638640" y="38091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613800" y="3887280"/>
                  <a:ext cx="55800" cy="7848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13800" y="3887280"/>
                  <a:ext cx="18000" cy="324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54120" y="3961080"/>
                  <a:ext cx="103320" cy="8100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960" y="3961080"/>
                  <a:ext cx="18000" cy="79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44120" y="4033080"/>
                  <a:ext cx="143640" cy="8172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44120" y="403308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76600" y="4105440"/>
                  <a:ext cx="136800" cy="7632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76600" y="410544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1004400" y="4172760"/>
                  <a:ext cx="155160" cy="7848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002600" y="4172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150200" y="4240440"/>
                  <a:ext cx="181800" cy="5904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150200" y="42404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325520" y="4287240"/>
                  <a:ext cx="171000" cy="5184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323360" y="428724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489320" y="4326480"/>
                  <a:ext cx="9360" cy="126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66440" y="3755880"/>
                  <a:ext cx="1122840" cy="52344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786320" y="4221360"/>
                  <a:ext cx="100800" cy="630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873800" y="414936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873800" y="4221360"/>
                  <a:ext cx="15120" cy="9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819800" y="4088520"/>
                  <a:ext cx="75960" cy="655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1880640" y="4146120"/>
                  <a:ext cx="15120" cy="792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622520" y="4042440"/>
                  <a:ext cx="206280" cy="5508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819800" y="408636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426680" y="3997080"/>
                  <a:ext cx="202320" cy="5616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622520" y="404244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240560" y="3931200"/>
                  <a:ext cx="195120" cy="7704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426680" y="3997080"/>
                  <a:ext cx="9000" cy="111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112040" y="3862080"/>
                  <a:ext cx="136800" cy="7848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237680" y="393120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991080" y="3805560"/>
                  <a:ext cx="132120" cy="6624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112040" y="3862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912240" y="3751200"/>
                  <a:ext cx="90000" cy="6408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991080" y="380556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15760" y="3751200"/>
                  <a:ext cx="105480" cy="3096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912240" y="3749760"/>
                  <a:ext cx="11160" cy="1188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57440" y="3773160"/>
                  <a:ext cx="69480" cy="6444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11080" y="37717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757440" y="3834360"/>
                  <a:ext cx="31320" cy="8280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57440" y="383076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772920" y="3912840"/>
                  <a:ext cx="103680" cy="8568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71120" y="39128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65440" y="3989160"/>
                  <a:ext cx="155160" cy="7344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63280" y="398916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011240" y="4052160"/>
                  <a:ext cx="175320" cy="8748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011240" y="405216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177560" y="4128840"/>
                  <a:ext cx="210600" cy="9432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177560" y="4128840"/>
                  <a:ext cx="8640" cy="1116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1381680" y="4210560"/>
                  <a:ext cx="191160" cy="5148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1379520" y="421056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568160" y="4249800"/>
                  <a:ext cx="224280" cy="3600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568160" y="4249800"/>
                  <a:ext cx="4320" cy="126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786320" y="42732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20440" y="3761640"/>
                  <a:ext cx="1068480" cy="50328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860480" y="4190040"/>
                  <a:ext cx="35280" cy="6228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867320" y="4132080"/>
                  <a:ext cx="28440" cy="6120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880640" y="4190040"/>
                  <a:ext cx="15120" cy="432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819800" y="4088520"/>
                  <a:ext cx="62640" cy="496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867320" y="4131000"/>
                  <a:ext cx="15120" cy="72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650960" y="4061520"/>
                  <a:ext cx="177840" cy="3600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819800" y="408636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489320" y="4026960"/>
                  <a:ext cx="166320" cy="4500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649160" y="406152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303200" y="3975120"/>
                  <a:ext cx="195120" cy="6228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1489320" y="402696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141560" y="3901320"/>
                  <a:ext cx="170280" cy="8280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300680" y="39751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1035720" y="3843360"/>
                  <a:ext cx="117000" cy="6696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1141560" y="390132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939600" y="3776400"/>
                  <a:ext cx="107640" cy="7632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035720" y="384336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65440" y="3756960"/>
                  <a:ext cx="82800" cy="295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939600" y="377640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13600" y="3759120"/>
                  <a:ext cx="62640" cy="496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63280" y="3755880"/>
                  <a:ext cx="13320" cy="1260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11080" y="3800880"/>
                  <a:ext cx="58680" cy="5508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09280" y="3800880"/>
                  <a:ext cx="18000" cy="79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60760" y="3846960"/>
                  <a:ext cx="100800" cy="2628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53920" y="384696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952920" y="3862080"/>
                  <a:ext cx="100800" cy="630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952920" y="386064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042560" y="3915720"/>
                  <a:ext cx="116640" cy="6840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1042560" y="391572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1150200" y="3975120"/>
                  <a:ext cx="139680" cy="5328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148040" y="39751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280520" y="4017960"/>
                  <a:ext cx="184680" cy="6372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280520" y="401796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458000" y="4069440"/>
                  <a:ext cx="155160" cy="5112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1455840" y="4069440"/>
                  <a:ext cx="9360" cy="1188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608480" y="4109040"/>
                  <a:ext cx="136800" cy="4176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1608480" y="4109040"/>
                  <a:ext cx="4680" cy="1188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738800" y="4140000"/>
                  <a:ext cx="78840" cy="4392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738800" y="4138200"/>
                  <a:ext cx="9360" cy="126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790280" y="4176000"/>
                  <a:ext cx="31320" cy="4500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804320" y="417276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790280" y="4221360"/>
                  <a:ext cx="24480" cy="4572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790280" y="4219920"/>
                  <a:ext cx="18000" cy="324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804320" y="4243320"/>
                  <a:ext cx="66600" cy="2844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797480" y="425916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860480" y="4243320"/>
                  <a:ext cx="15120" cy="1260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512000" y="4240440"/>
                  <a:ext cx="186480" cy="4500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384200" y="4235400"/>
                  <a:ext cx="134280" cy="1692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512000" y="4240440"/>
                  <a:ext cx="6480" cy="1188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262520" y="4182120"/>
                  <a:ext cx="121680" cy="7020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381680" y="4240440"/>
                  <a:ext cx="2520" cy="1188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092240" y="4149360"/>
                  <a:ext cx="177120" cy="4500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262520" y="4182120"/>
                  <a:ext cx="6480" cy="1260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035720" y="4078800"/>
                  <a:ext cx="67320" cy="7956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092240" y="414936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70120" y="3995640"/>
                  <a:ext cx="181800" cy="8928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1035720" y="4077000"/>
                  <a:ext cx="15840" cy="792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10280" y="3829680"/>
                  <a:ext cx="174960" cy="17208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70120" y="3995640"/>
                  <a:ext cx="15120" cy="61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774800" y="4113720"/>
                  <a:ext cx="96120" cy="10944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42400" y="3776400"/>
                  <a:ext cx="123480" cy="8568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33760" y="3769560"/>
                  <a:ext cx="42480" cy="6120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71920" y="3769560"/>
                  <a:ext cx="92160" cy="4392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70120" y="3769560"/>
                  <a:ext cx="6480" cy="136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930240" y="3807360"/>
                  <a:ext cx="44640" cy="5904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948240" y="3807360"/>
                  <a:ext cx="18000" cy="612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42400" y="3824640"/>
                  <a:ext cx="94320" cy="4392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930240" y="385488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42400" y="3824640"/>
                  <a:ext cx="18000" cy="612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2771640" y="4149720"/>
                <a:ext cx="1152720" cy="792000"/>
                <a:chOff x="2771640" y="4149720"/>
                <a:chExt cx="1152720" cy="79200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2826720" y="449244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953440" y="4254840"/>
                  <a:ext cx="147240" cy="8280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093120" y="4254840"/>
                  <a:ext cx="7920" cy="1332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832480" y="4325040"/>
                  <a:ext cx="126720" cy="3168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953440" y="432504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832480" y="4343400"/>
                  <a:ext cx="3600" cy="1332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784960" y="417240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841840" y="4151880"/>
                  <a:ext cx="720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777760" y="434736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771640" y="4213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924640" y="4157280"/>
                  <a:ext cx="72000" cy="4140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924640" y="418356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989440" y="4157280"/>
                  <a:ext cx="720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049920" y="4275720"/>
                  <a:ext cx="94680" cy="10188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138840" y="4275720"/>
                  <a:ext cx="540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85480" y="4364280"/>
                  <a:ext cx="73800" cy="205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3049920" y="436428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917440" y="4364280"/>
                  <a:ext cx="69840" cy="6372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981520" y="4364280"/>
                  <a:ext cx="540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836080" y="4407120"/>
                  <a:ext cx="84960" cy="2448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917440" y="4415040"/>
                  <a:ext cx="5400" cy="1260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781000" y="4155480"/>
                  <a:ext cx="1136880" cy="77868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511440" y="4881960"/>
                  <a:ext cx="94680" cy="4860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600360" y="4915440"/>
                  <a:ext cx="119160" cy="2628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598560" y="491544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717360" y="4890960"/>
                  <a:ext cx="109800" cy="5076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717360" y="492660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820320" y="4834800"/>
                  <a:ext cx="69840" cy="6948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820320" y="4890960"/>
                  <a:ext cx="936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878640" y="4766760"/>
                  <a:ext cx="45720" cy="7668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878640" y="483480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905280" y="4653720"/>
                  <a:ext cx="19080" cy="11664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911040" y="4766760"/>
                  <a:ext cx="13320" cy="720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36880" y="4563360"/>
                  <a:ext cx="81000" cy="9576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905280" y="46504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751920" y="4538880"/>
                  <a:ext cx="92160" cy="3564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836880" y="4561920"/>
                  <a:ext cx="11160" cy="1296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640320" y="4509360"/>
                  <a:ext cx="117000" cy="4284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751920" y="4538880"/>
                  <a:ext cx="540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534480" y="4475160"/>
                  <a:ext cx="111240" cy="4680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640320" y="4509360"/>
                  <a:ext cx="5400" cy="1260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424680" y="4433400"/>
                  <a:ext cx="115200" cy="5472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534480" y="4475160"/>
                  <a:ext cx="540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339360" y="4380840"/>
                  <a:ext cx="92160" cy="6408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422880" y="4433400"/>
                  <a:ext cx="8640" cy="1332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269520" y="4336200"/>
                  <a:ext cx="79200" cy="5652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339360" y="438084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182400" y="4277880"/>
                  <a:ext cx="96120" cy="6948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269520" y="4336200"/>
                  <a:ext cx="9000" cy="1116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112200" y="4208400"/>
                  <a:ext cx="79200" cy="8064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3182400" y="42778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053880" y="4161240"/>
                  <a:ext cx="68040" cy="5832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3112200" y="42084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966400" y="4149720"/>
                  <a:ext cx="92880" cy="2448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053880" y="416124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885400" y="4149720"/>
                  <a:ext cx="84960" cy="4680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963160" y="414972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796120" y="4183560"/>
                  <a:ext cx="96120" cy="8604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883600" y="4183560"/>
                  <a:ext cx="8640" cy="1260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773800" y="4262760"/>
                  <a:ext cx="36000" cy="9180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794680" y="4258800"/>
                  <a:ext cx="15120" cy="1116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773800" y="4352760"/>
                  <a:ext cx="47160" cy="9396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773800" y="435276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807640" y="4441320"/>
                  <a:ext cx="87120" cy="9720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2805840" y="4441320"/>
                  <a:ext cx="1512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883600" y="4527720"/>
                  <a:ext cx="120960" cy="9792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883600" y="45277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995200" y="4614480"/>
                  <a:ext cx="115200" cy="9180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995200" y="46144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3102840" y="4695120"/>
                  <a:ext cx="130680" cy="9396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3101040" y="469512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3225600" y="4776480"/>
                  <a:ext cx="153000" cy="7092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3225600" y="4776480"/>
                  <a:ext cx="7560" cy="1296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3373200" y="4832640"/>
                  <a:ext cx="144000" cy="6192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3371760" y="483264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511440" y="487980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902320" y="4195080"/>
                  <a:ext cx="945720" cy="62784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3761640" y="4753440"/>
                  <a:ext cx="84960" cy="756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3835440" y="4667040"/>
                  <a:ext cx="18360" cy="9180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835440" y="47534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789720" y="459396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840840" y="466308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3623400" y="4538880"/>
                  <a:ext cx="173880" cy="6588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3789720" y="4591440"/>
                  <a:ext cx="1116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458520" y="4484520"/>
                  <a:ext cx="170640" cy="6768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623400" y="4538880"/>
                  <a:ext cx="540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01920" y="4405680"/>
                  <a:ext cx="164160" cy="9216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458520" y="448452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3193560" y="4322520"/>
                  <a:ext cx="115200" cy="9396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3299400" y="440568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3091680" y="4254840"/>
                  <a:ext cx="111240" cy="7920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193560" y="432252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025080" y="4189320"/>
                  <a:ext cx="75960" cy="7704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3091680" y="425484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2944080" y="4189320"/>
                  <a:ext cx="88920" cy="3744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025080" y="4187520"/>
                  <a:ext cx="9360" cy="14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894760" y="4215600"/>
                  <a:ext cx="58320" cy="7704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940120" y="4213800"/>
                  <a:ext cx="13320" cy="126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894760" y="4289040"/>
                  <a:ext cx="26280" cy="9972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894760" y="428508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907720" y="4383360"/>
                  <a:ext cx="87120" cy="10296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906280" y="4383360"/>
                  <a:ext cx="1512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985480" y="4475160"/>
                  <a:ext cx="130680" cy="8820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984040" y="4475160"/>
                  <a:ext cx="1116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108240" y="4550760"/>
                  <a:ext cx="147600" cy="10512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108240" y="455076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248640" y="4642560"/>
                  <a:ext cx="177480" cy="11304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3248640" y="464256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420720" y="4740480"/>
                  <a:ext cx="160920" cy="6192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418920" y="474048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578040" y="4787640"/>
                  <a:ext cx="189000" cy="4320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3578040" y="4787640"/>
                  <a:ext cx="360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761640" y="4815720"/>
                  <a:ext cx="936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948040" y="4202280"/>
                  <a:ext cx="900000" cy="60372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3824280" y="4716000"/>
                  <a:ext cx="29520" cy="7488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829680" y="4646520"/>
                  <a:ext cx="24120" cy="7344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3840840" y="4716000"/>
                  <a:ext cx="12600" cy="540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3789720" y="4593960"/>
                  <a:ext cx="52560" cy="5976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3829680" y="464472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3647520" y="4561920"/>
                  <a:ext cx="149760" cy="4320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3789720" y="4591440"/>
                  <a:ext cx="1116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511440" y="4520520"/>
                  <a:ext cx="140040" cy="5436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3646080" y="4561920"/>
                  <a:ext cx="5400" cy="1296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354480" y="4458240"/>
                  <a:ext cx="164520" cy="7488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3511440" y="45205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3218400" y="4369680"/>
                  <a:ext cx="143640" cy="9972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3352320" y="445824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3129120" y="4300200"/>
                  <a:ext cx="98640" cy="8064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3218400" y="43696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3048120" y="4219560"/>
                  <a:ext cx="90720" cy="9180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3129120" y="43002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985480" y="4196520"/>
                  <a:ext cx="69840" cy="3564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3048120" y="4219560"/>
                  <a:ext cx="9360" cy="1260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942280" y="4198680"/>
                  <a:ext cx="52920" cy="5976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2984040" y="419508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2940120" y="4249440"/>
                  <a:ext cx="49320" cy="6588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938320" y="4249440"/>
                  <a:ext cx="1512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981520" y="4304160"/>
                  <a:ext cx="84960" cy="3168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976120" y="430416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059640" y="4322520"/>
                  <a:ext cx="84960" cy="756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059640" y="4321080"/>
                  <a:ext cx="936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34880" y="4386960"/>
                  <a:ext cx="98280" cy="8244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3134880" y="43869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3225600" y="4458240"/>
                  <a:ext cx="117360" cy="6372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223800" y="445824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35400" y="4509360"/>
                  <a:ext cx="155520" cy="7668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335400" y="450936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3484800" y="4571280"/>
                  <a:ext cx="130680" cy="6156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3483360" y="457128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3611520" y="4618440"/>
                  <a:ext cx="115200" cy="5004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611520" y="46184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3721320" y="4655880"/>
                  <a:ext cx="66240" cy="5256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3721320" y="465372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764880" y="4699080"/>
                  <a:ext cx="26280" cy="5400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3776760" y="46951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3764880" y="4753440"/>
                  <a:ext cx="20520" cy="5472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3764880" y="475164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776760" y="4779720"/>
                  <a:ext cx="56160" cy="3384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3771000" y="4798800"/>
                  <a:ext cx="14400" cy="183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824280" y="4779720"/>
                  <a:ext cx="12600" cy="1512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530520" y="4776480"/>
                  <a:ext cx="156960" cy="5436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3422880" y="4770360"/>
                  <a:ext cx="113040" cy="2052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530520" y="4776480"/>
                  <a:ext cx="5400" cy="1440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3320280" y="4706280"/>
                  <a:ext cx="102600" cy="8460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3420720" y="477648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3176640" y="4667040"/>
                  <a:ext cx="149040" cy="5436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3320280" y="4706280"/>
                  <a:ext cx="5400" cy="151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3129120" y="4582440"/>
                  <a:ext cx="56880" cy="9576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176640" y="46670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989440" y="4482720"/>
                  <a:ext cx="153000" cy="10692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3129120" y="4580280"/>
                  <a:ext cx="13320" cy="936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2854800" y="4283640"/>
                  <a:ext cx="147240" cy="20664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989440" y="4482720"/>
                  <a:ext cx="12600" cy="720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3751920" y="4624200"/>
                  <a:ext cx="81000" cy="13140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966400" y="4219560"/>
                  <a:ext cx="104040" cy="10296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959200" y="4211640"/>
                  <a:ext cx="36000" cy="7344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2991240" y="4211640"/>
                  <a:ext cx="77760" cy="5256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989440" y="4211640"/>
                  <a:ext cx="5400" cy="1656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3040200" y="4257000"/>
                  <a:ext cx="37440" cy="7092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3055680" y="4257000"/>
                  <a:ext cx="15120" cy="720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966400" y="4277880"/>
                  <a:ext cx="79200" cy="5256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3040200" y="4313880"/>
                  <a:ext cx="7560" cy="1656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2966400" y="4277880"/>
                  <a:ext cx="15120" cy="720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3686400" y="3988440"/>
                <a:ext cx="837000" cy="976320"/>
                <a:chOff x="3686400" y="3988440"/>
                <a:chExt cx="837000" cy="976320"/>
              </a:xfrm>
            </p:grpSpPr>
            <p:sp>
              <p:nvSpPr>
                <p:cNvPr id="1520" name=""/>
                <p:cNvSpPr/>
                <p:nvPr/>
              </p:nvSpPr>
              <p:spPr>
                <a:xfrm rot="16404600">
                  <a:off x="4032360" y="489348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6404600">
                  <a:off x="3779280" y="4683600"/>
                  <a:ext cx="120600" cy="8280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6404600">
                  <a:off x="3805200" y="4659120"/>
                  <a:ext cx="6480" cy="1332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6404600">
                  <a:off x="3825720" y="4819320"/>
                  <a:ext cx="103680" cy="3168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6404600">
                  <a:off x="3868200" y="4778280"/>
                  <a:ext cx="5760" cy="1260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6404600">
                  <a:off x="3882240" y="4879440"/>
                  <a:ext cx="2880" cy="1332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6404600">
                  <a:off x="3710160" y="4907160"/>
                  <a:ext cx="324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6404600">
                  <a:off x="3690000" y="485928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6404600">
                  <a:off x="3883320" y="4922280"/>
                  <a:ext cx="576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6404600">
                  <a:off x="3749400" y="4919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6404600">
                  <a:off x="3688920" y="4751640"/>
                  <a:ext cx="59040" cy="4140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6404600">
                  <a:off x="3726720" y="4791600"/>
                  <a:ext cx="612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6404600">
                  <a:off x="3702600" y="473868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6404600">
                  <a:off x="3834720" y="4618800"/>
                  <a:ext cx="77400" cy="10188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6404600">
                  <a:off x="3828960" y="4624200"/>
                  <a:ext cx="468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6404600">
                  <a:off x="3887280" y="4723560"/>
                  <a:ext cx="60480" cy="205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6404600">
                  <a:off x="3911760" y="470088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6404600">
                  <a:off x="3907080" y="4760280"/>
                  <a:ext cx="57240" cy="6372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6404600">
                  <a:off x="3909600" y="475812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6404600">
                  <a:off x="3920760" y="4841640"/>
                  <a:ext cx="69480" cy="2448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6404600">
                  <a:off x="3957120" y="481392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6404600">
                  <a:off x="3637800" y="4086720"/>
                  <a:ext cx="931680" cy="77904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6404600">
                  <a:off x="4435560" y="4302360"/>
                  <a:ext cx="77400" cy="4860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6404600">
                  <a:off x="4452840" y="4231800"/>
                  <a:ext cx="97560" cy="2628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6404600">
                  <a:off x="4490640" y="4284360"/>
                  <a:ext cx="576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6404600">
                  <a:off x="4449960" y="41270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6404600">
                  <a:off x="4508640" y="4188960"/>
                  <a:ext cx="324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6404600">
                  <a:off x="4424040" y="4047120"/>
                  <a:ext cx="57240" cy="6948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6404600">
                  <a:off x="4476240" y="410076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6404600">
                  <a:off x="4371840" y="4001760"/>
                  <a:ext cx="37440" cy="7668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6404600">
                  <a:off x="4419360" y="405000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6404600">
                  <a:off x="4290480" y="3965400"/>
                  <a:ext cx="15480" cy="11664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6404600">
                  <a:off x="4350960" y="402156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6404600">
                  <a:off x="4162680" y="4000680"/>
                  <a:ext cx="66240" cy="9576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6404600">
                  <a:off x="4235400" y="401832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6404600">
                  <a:off x="4099320" y="4091760"/>
                  <a:ext cx="75600" cy="3564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6404600">
                  <a:off x="4146480" y="4068000"/>
                  <a:ext cx="9000" cy="1296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404600">
                  <a:off x="4058640" y="4168080"/>
                  <a:ext cx="95760" cy="4284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6404600">
                  <a:off x="4121640" y="413784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6404600">
                  <a:off x="4023360" y="4253400"/>
                  <a:ext cx="91080" cy="4680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6404600">
                  <a:off x="4086360" y="4227840"/>
                  <a:ext cx="4320" cy="1260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6404600">
                  <a:off x="3979080" y="4335480"/>
                  <a:ext cx="94320" cy="5472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6404600">
                  <a:off x="4047480" y="431244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6404600">
                  <a:off x="3936240" y="4406760"/>
                  <a:ext cx="75600" cy="6444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6404600">
                  <a:off x="3999600" y="439992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6404600">
                  <a:off x="3888720" y="4470480"/>
                  <a:ext cx="64800" cy="5652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6404600">
                  <a:off x="3942000" y="4465440"/>
                  <a:ext cx="756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6404600">
                  <a:off x="3826440" y="4524840"/>
                  <a:ext cx="78840" cy="6948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6404600">
                  <a:off x="3893400" y="452052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6404600">
                  <a:off x="3765960" y="4579560"/>
                  <a:ext cx="64800" cy="8064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6404600">
                  <a:off x="3830760" y="458784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6404600">
                  <a:off x="3708720" y="4640040"/>
                  <a:ext cx="55800" cy="5832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6404600">
                  <a:off x="3758040" y="464076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6404600">
                  <a:off x="3666600" y="4716720"/>
                  <a:ext cx="75960" cy="2448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6404600">
                  <a:off x="3709080" y="4685400"/>
                  <a:ext cx="7560" cy="1296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6404600">
                  <a:off x="3677040" y="4775760"/>
                  <a:ext cx="69480" cy="4680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6404600">
                  <a:off x="3693960" y="4759560"/>
                  <a:ext cx="5760" cy="1332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6404600">
                  <a:off x="3721680" y="4827600"/>
                  <a:ext cx="78840" cy="8604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6404600">
                  <a:off x="3723120" y="482616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6404600">
                  <a:off x="3825720" y="4872600"/>
                  <a:ext cx="29520" cy="9180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6404600">
                  <a:off x="3790440" y="490176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6404600">
                  <a:off x="3912120" y="4872240"/>
                  <a:ext cx="38520" cy="9396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6404600">
                  <a:off x="3879720" y="4928040"/>
                  <a:ext cx="12240" cy="3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6404600">
                  <a:off x="3988800" y="4832280"/>
                  <a:ext cx="71280" cy="9720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6404600">
                  <a:off x="3972600" y="4904280"/>
                  <a:ext cx="1224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6404600">
                  <a:off x="4065840" y="4760640"/>
                  <a:ext cx="99000" cy="9792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6404600">
                  <a:off x="4064760" y="4846320"/>
                  <a:ext cx="9000" cy="1116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6404600">
                  <a:off x="4157640" y="4680000"/>
                  <a:ext cx="94320" cy="9180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6404600">
                  <a:off x="4158000" y="476100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6404600">
                  <a:off x="4238280" y="4589640"/>
                  <a:ext cx="106920" cy="9396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6404600">
                  <a:off x="4244760" y="467856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404600">
                  <a:off x="4305240" y="4495320"/>
                  <a:ext cx="125280" cy="7092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6404600">
                  <a:off x="4332240" y="458208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6404600">
                  <a:off x="4367520" y="4385520"/>
                  <a:ext cx="118080" cy="6228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6404600">
                  <a:off x="4396680" y="4465440"/>
                  <a:ext cx="576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6404600">
                  <a:off x="4449960" y="4353480"/>
                  <a:ext cx="648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6404600">
                  <a:off x="3681360" y="4138920"/>
                  <a:ext cx="775080" cy="62820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6404600">
                  <a:off x="4337280" y="4081320"/>
                  <a:ext cx="69480" cy="756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6404600">
                  <a:off x="4287960" y="4035600"/>
                  <a:ext cx="15120" cy="9180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6404600">
                  <a:off x="4336200" y="408060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6404600">
                  <a:off x="4188600" y="4055760"/>
                  <a:ext cx="52560" cy="7884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6404600">
                  <a:off x="4245480" y="407160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6404600">
                  <a:off x="4076640" y="4149720"/>
                  <a:ext cx="142560" cy="6588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6404600">
                  <a:off x="4174200" y="410796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6404600">
                  <a:off x="4016880" y="4281840"/>
                  <a:ext cx="139680" cy="6768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rot="16404600">
                  <a:off x="4115160" y="424332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rot="16404600">
                  <a:off x="3944880" y="4396320"/>
                  <a:ext cx="134640" cy="9252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rot="16404600">
                  <a:off x="4052520" y="437436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rot="16404600">
                  <a:off x="3876480" y="4499280"/>
                  <a:ext cx="94320" cy="9396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16404600">
                  <a:off x="3965040" y="449928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16404600">
                  <a:off x="3798360" y="4587120"/>
                  <a:ext cx="91080" cy="7956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16404600">
                  <a:off x="3876120" y="4581360"/>
                  <a:ext cx="756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16404600">
                  <a:off x="3741840" y="4653360"/>
                  <a:ext cx="62280" cy="7704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16404600">
                  <a:off x="3803760" y="4660920"/>
                  <a:ext cx="7560" cy="1152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16404600">
                  <a:off x="3713040" y="4732920"/>
                  <a:ext cx="72720" cy="3744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16404600">
                  <a:off x="3734640" y="4709880"/>
                  <a:ext cx="7560" cy="14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16404600">
                  <a:off x="3768480" y="4768200"/>
                  <a:ext cx="47880" cy="7740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16404600">
                  <a:off x="3754440" y="478044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16404600">
                  <a:off x="3865680" y="4775040"/>
                  <a:ext cx="21600" cy="9972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16404600">
                  <a:off x="3819960" y="4822920"/>
                  <a:ext cx="12240" cy="756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16404600">
                  <a:off x="3938400" y="4743720"/>
                  <a:ext cx="71280" cy="10296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16404600">
                  <a:off x="3919320" y="4818600"/>
                  <a:ext cx="1224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16404600">
                  <a:off x="4009680" y="4674960"/>
                  <a:ext cx="106920" cy="8820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16404600">
                  <a:off x="4018320" y="476064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16404600">
                  <a:off x="4093200" y="4563720"/>
                  <a:ext cx="120960" cy="10512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404600">
                  <a:off x="4101120" y="4664520"/>
                  <a:ext cx="6480" cy="126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16404600">
                  <a:off x="4184280" y="4438800"/>
                  <a:ext cx="145440" cy="11304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16404600">
                  <a:off x="4200120" y="4555440"/>
                  <a:ext cx="5760" cy="1332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16404600">
                  <a:off x="4271400" y="4335120"/>
                  <a:ext cx="131760" cy="6192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16404600">
                  <a:off x="4307400" y="4421520"/>
                  <a:ext cx="5760" cy="1512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16404600">
                  <a:off x="4305960" y="4206240"/>
                  <a:ext cx="154800" cy="4320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16404600">
                  <a:off x="4363560" y="4295520"/>
                  <a:ext cx="2880" cy="1512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16404600">
                  <a:off x="4398480" y="414432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16404600">
                  <a:off x="3696480" y="4132440"/>
                  <a:ext cx="737640" cy="60408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16404600">
                  <a:off x="4323960" y="4050720"/>
                  <a:ext cx="24120" cy="7488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16404600">
                  <a:off x="4256280" y="4045320"/>
                  <a:ext cx="19440" cy="7344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16404600">
                  <a:off x="4296240" y="4076640"/>
                  <a:ext cx="10440" cy="540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16404600">
                  <a:off x="4183560" y="4069440"/>
                  <a:ext cx="43200" cy="5976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16404600">
                  <a:off x="4226400" y="407988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16404600">
                  <a:off x="4098600" y="4151880"/>
                  <a:ext cx="122760" cy="4320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16404600">
                  <a:off x="4174200" y="410796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16404600">
                  <a:off x="4060080" y="4259160"/>
                  <a:ext cx="114840" cy="5436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16404600">
                  <a:off x="4139280" y="4226760"/>
                  <a:ext cx="4320" cy="1296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16404600">
                  <a:off x="3990960" y="4364640"/>
                  <a:ext cx="134640" cy="7488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6404600">
                  <a:off x="4090320" y="4332960"/>
                  <a:ext cx="6480" cy="126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6404600">
                  <a:off x="3916440" y="4467240"/>
                  <a:ext cx="117720" cy="9972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6404600">
                  <a:off x="4020120" y="445896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6404600">
                  <a:off x="3850920" y="4563720"/>
                  <a:ext cx="80640" cy="8064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6404600">
                  <a:off x="3924000" y="456372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6404600">
                  <a:off x="3774960" y="4623480"/>
                  <a:ext cx="74160" cy="9180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6404600">
                  <a:off x="3850560" y="463284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6404600">
                  <a:off x="3728880" y="470808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6404600">
                  <a:off x="3766680" y="4694040"/>
                  <a:ext cx="7560" cy="1260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6404600">
                  <a:off x="3747960" y="4739400"/>
                  <a:ext cx="43200" cy="5976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6404600">
                  <a:off x="3739680" y="4743000"/>
                  <a:ext cx="9000" cy="1512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16404600">
                  <a:off x="3802320" y="4742640"/>
                  <a:ext cx="40320" cy="6588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16404600">
                  <a:off x="3787200" y="4784400"/>
                  <a:ext cx="12240" cy="936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16404600">
                  <a:off x="3828600" y="4713480"/>
                  <a:ext cx="69480" cy="3168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16404600">
                  <a:off x="3847320" y="475524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404600">
                  <a:off x="3872520" y="4629960"/>
                  <a:ext cx="69480" cy="7560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16404600">
                  <a:off x="3870000" y="468936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16404600">
                  <a:off x="3938400" y="4563360"/>
                  <a:ext cx="80640" cy="8244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16404600">
                  <a:off x="3937320" y="463320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16404600">
                  <a:off x="3997440" y="4494240"/>
                  <a:ext cx="96120" cy="6372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16404600">
                  <a:off x="4014000" y="456372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16404600">
                  <a:off x="4045320" y="4386240"/>
                  <a:ext cx="127440" cy="7668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16404600">
                  <a:off x="4070520" y="4476600"/>
                  <a:ext cx="6480" cy="1260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16404600">
                  <a:off x="4116960" y="4284720"/>
                  <a:ext cx="106920" cy="6156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16404600">
                  <a:off x="4140720" y="435852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16404600">
                  <a:off x="4170600" y="4195440"/>
                  <a:ext cx="94320" cy="5004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16404600">
                  <a:off x="4195440" y="4257720"/>
                  <a:ext cx="3240" cy="1440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16404600">
                  <a:off x="4233240" y="4126680"/>
                  <a:ext cx="54360" cy="5256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16404600">
                  <a:off x="4235040" y="4168080"/>
                  <a:ext cx="6480" cy="151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16404600">
                  <a:off x="4294800" y="4109400"/>
                  <a:ext cx="21600" cy="5400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16404600">
                  <a:off x="4275360" y="4123440"/>
                  <a:ext cx="11880" cy="1332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16404600">
                  <a:off x="4351320" y="4114800"/>
                  <a:ext cx="16920" cy="5472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16404600">
                  <a:off x="4326480" y="4141080"/>
                  <a:ext cx="12240" cy="3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16404600">
                  <a:off x="4354200" y="4101480"/>
                  <a:ext cx="46080" cy="3384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6404600">
                  <a:off x="4381200" y="4132080"/>
                  <a:ext cx="11880" cy="183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6404600">
                  <a:off x="4363920" y="4089600"/>
                  <a:ext cx="10440" cy="1512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6404600">
                  <a:off x="4310640" y="4252320"/>
                  <a:ext cx="128520" cy="5436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6404600">
                  <a:off x="4299120" y="4373640"/>
                  <a:ext cx="92520" cy="2052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16404600">
                  <a:off x="4349160" y="4333320"/>
                  <a:ext cx="4320" cy="1440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16404600">
                  <a:off x="4266000" y="4428000"/>
                  <a:ext cx="83880" cy="8460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16404600">
                  <a:off x="4344840" y="4424040"/>
                  <a:ext cx="1800" cy="1440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16404600">
                  <a:off x="4186800" y="4538160"/>
                  <a:ext cx="122040" cy="5436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16404600">
                  <a:off x="4268880" y="4500360"/>
                  <a:ext cx="4320" cy="1512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16404600">
                  <a:off x="4156560" y="4590360"/>
                  <a:ext cx="46440" cy="9576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16404600">
                  <a:off x="4219200" y="461556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16404600">
                  <a:off x="4018680" y="4654080"/>
                  <a:ext cx="125280" cy="10692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16404600">
                  <a:off x="4127760" y="464868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16404600">
                  <a:off x="3864600" y="4708080"/>
                  <a:ext cx="120600" cy="20664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16404600">
                  <a:off x="4023000" y="4758480"/>
                  <a:ext cx="10440" cy="720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404600">
                  <a:off x="4236480" y="4056840"/>
                  <a:ext cx="66240" cy="13140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16404600">
                  <a:off x="3771360" y="4679640"/>
                  <a:ext cx="85320" cy="10296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16404600">
                  <a:off x="3774600" y="4726440"/>
                  <a:ext cx="29520" cy="7344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16404600">
                  <a:off x="3749400" y="4692600"/>
                  <a:ext cx="63720" cy="5256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16404600">
                  <a:off x="3759480" y="4740840"/>
                  <a:ext cx="4320" cy="1656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16404600">
                  <a:off x="3822120" y="4663080"/>
                  <a:ext cx="30600" cy="7092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16404600">
                  <a:off x="3799440" y="469008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16404600">
                  <a:off x="3814200" y="4716720"/>
                  <a:ext cx="64800" cy="5256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16404600">
                  <a:off x="3863160" y="4704120"/>
                  <a:ext cx="6120" cy="1656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16404600">
                  <a:off x="3816000" y="47642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2340000" y="4437000"/>
                <a:ext cx="1158840" cy="733320"/>
                <a:chOff x="2340000" y="4437000"/>
                <a:chExt cx="1158840" cy="733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2395440" y="4754160"/>
                  <a:ext cx="1440" cy="1332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522880" y="4534200"/>
                  <a:ext cx="148320" cy="76680"/>
                </a:xfrm>
                <a:custGeom>
                  <a:avLst/>
                  <a:gdLst/>
                  <a:ahLst/>
                  <a:rect l="l" t="t" r="r" b="b"/>
                  <a:pathLst>
                    <a:path w="262" h="148">
                      <a:moveTo>
                        <a:pt x="262" y="24"/>
                      </a:moveTo>
                      <a:lnTo>
                        <a:pt x="248" y="0"/>
                      </a:lnTo>
                      <a:lnTo>
                        <a:pt x="0" y="125"/>
                      </a:lnTo>
                      <a:lnTo>
                        <a:pt x="13" y="148"/>
                      </a:lnTo>
                      <a:lnTo>
                        <a:pt x="262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663280" y="4534200"/>
                  <a:ext cx="7920" cy="122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0"/>
                      </a:moveTo>
                      <a:lnTo>
                        <a:pt x="14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401200" y="4599360"/>
                  <a:ext cx="127080" cy="29520"/>
                </a:xfrm>
                <a:custGeom>
                  <a:avLst/>
                  <a:gdLst/>
                  <a:ahLst/>
                  <a:rect l="l" t="t" r="r" b="b"/>
                  <a:pathLst>
                    <a:path w="225" h="57">
                      <a:moveTo>
                        <a:pt x="225" y="23"/>
                      </a:moveTo>
                      <a:lnTo>
                        <a:pt x="218" y="0"/>
                      </a:lnTo>
                      <a:lnTo>
                        <a:pt x="0" y="33"/>
                      </a:lnTo>
                      <a:lnTo>
                        <a:pt x="7" y="57"/>
                      </a:lnTo>
                      <a:lnTo>
                        <a:pt x="225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522880" y="4599360"/>
                  <a:ext cx="7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401200" y="4616280"/>
                  <a:ext cx="3600" cy="1224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7" y="24"/>
                      </a:move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353320" y="4457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7" y="27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410560" y="4438800"/>
                  <a:ext cx="7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23"/>
                      </a:moveTo>
                      <a:lnTo>
                        <a:pt x="10" y="23"/>
                      </a:lnTo>
                      <a:lnTo>
                        <a:pt x="0" y="0"/>
                      </a:lnTo>
                      <a:lnTo>
                        <a:pt x="1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346120" y="4619880"/>
                  <a:ext cx="7200" cy="1368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3" y="27"/>
                      </a:moveTo>
                      <a:lnTo>
                        <a:pt x="13" y="3"/>
                      </a:lnTo>
                      <a:lnTo>
                        <a:pt x="0" y="27"/>
                      </a:lnTo>
                      <a:lnTo>
                        <a:pt x="6" y="0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340000" y="4496400"/>
                  <a:ext cx="7920" cy="1332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494080" y="4443840"/>
                  <a:ext cx="72360" cy="3816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50"/>
                      </a:moveTo>
                      <a:lnTo>
                        <a:pt x="14" y="74"/>
                      </a:lnTo>
                      <a:lnTo>
                        <a:pt x="128" y="23"/>
                      </a:lnTo>
                      <a:lnTo>
                        <a:pt x="1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494080" y="4468320"/>
                  <a:ext cx="7560" cy="1368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27"/>
                      </a:moveTo>
                      <a:lnTo>
                        <a:pt x="14" y="27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59240" y="4443840"/>
                  <a:ext cx="7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0" y="0"/>
                      </a:moveTo>
                      <a:lnTo>
                        <a:pt x="10" y="23"/>
                      </a:lnTo>
                      <a:lnTo>
                        <a:pt x="13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619720" y="4553640"/>
                  <a:ext cx="95040" cy="94320"/>
                </a:xfrm>
                <a:custGeom>
                  <a:avLst/>
                  <a:gdLst/>
                  <a:ahLst/>
                  <a:rect l="l" t="t" r="r" b="b"/>
                  <a:pathLst>
                    <a:path w="168" h="182">
                      <a:moveTo>
                        <a:pt x="168" y="24"/>
                      </a:moveTo>
                      <a:lnTo>
                        <a:pt x="151" y="31"/>
                      </a:lnTo>
                      <a:lnTo>
                        <a:pt x="138" y="37"/>
                      </a:lnTo>
                      <a:lnTo>
                        <a:pt x="128" y="47"/>
                      </a:lnTo>
                      <a:lnTo>
                        <a:pt x="118" y="54"/>
                      </a:lnTo>
                      <a:lnTo>
                        <a:pt x="101" y="74"/>
                      </a:lnTo>
                      <a:lnTo>
                        <a:pt x="87" y="94"/>
                      </a:lnTo>
                      <a:lnTo>
                        <a:pt x="74" y="115"/>
                      </a:lnTo>
                      <a:lnTo>
                        <a:pt x="61" y="138"/>
                      </a:lnTo>
                      <a:lnTo>
                        <a:pt x="50" y="148"/>
                      </a:lnTo>
                      <a:lnTo>
                        <a:pt x="40" y="158"/>
                      </a:lnTo>
                      <a:lnTo>
                        <a:pt x="30" y="172"/>
                      </a:lnTo>
                      <a:lnTo>
                        <a:pt x="17" y="182"/>
                      </a:lnTo>
                      <a:lnTo>
                        <a:pt x="0" y="158"/>
                      </a:lnTo>
                      <a:lnTo>
                        <a:pt x="14" y="152"/>
                      </a:lnTo>
                      <a:lnTo>
                        <a:pt x="20" y="141"/>
                      </a:lnTo>
                      <a:lnTo>
                        <a:pt x="30" y="131"/>
                      </a:lnTo>
                      <a:lnTo>
                        <a:pt x="37" y="121"/>
                      </a:lnTo>
                      <a:lnTo>
                        <a:pt x="50" y="101"/>
                      </a:lnTo>
                      <a:lnTo>
                        <a:pt x="64" y="81"/>
                      </a:lnTo>
                      <a:lnTo>
                        <a:pt x="81" y="58"/>
                      </a:lnTo>
                      <a:lnTo>
                        <a:pt x="97" y="37"/>
                      </a:lnTo>
                      <a:lnTo>
                        <a:pt x="111" y="27"/>
                      </a:lnTo>
                      <a:lnTo>
                        <a:pt x="124" y="17"/>
                      </a:lnTo>
                      <a:lnTo>
                        <a:pt x="141" y="7"/>
                      </a:lnTo>
                      <a:lnTo>
                        <a:pt x="158" y="0"/>
                      </a:lnTo>
                      <a:lnTo>
                        <a:pt x="1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709000" y="455364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0" y="0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555280" y="4635360"/>
                  <a:ext cx="74160" cy="1908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24"/>
                      </a:moveTo>
                      <a:lnTo>
                        <a:pt x="121" y="27"/>
                      </a:lnTo>
                      <a:lnTo>
                        <a:pt x="111" y="30"/>
                      </a:lnTo>
                      <a:lnTo>
                        <a:pt x="91" y="37"/>
                      </a:lnTo>
                      <a:lnTo>
                        <a:pt x="74" y="37"/>
                      </a:lnTo>
                      <a:lnTo>
                        <a:pt x="54" y="34"/>
                      </a:lnTo>
                      <a:lnTo>
                        <a:pt x="20" y="27"/>
                      </a:lnTo>
                      <a:lnTo>
                        <a:pt x="1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7" y="0"/>
                      </a:lnTo>
                      <a:lnTo>
                        <a:pt x="57" y="7"/>
                      </a:lnTo>
                      <a:lnTo>
                        <a:pt x="74" y="10"/>
                      </a:lnTo>
                      <a:lnTo>
                        <a:pt x="87" y="10"/>
                      </a:lnTo>
                      <a:lnTo>
                        <a:pt x="104" y="7"/>
                      </a:lnTo>
                      <a:lnTo>
                        <a:pt x="107" y="4"/>
                      </a:lnTo>
                      <a:lnTo>
                        <a:pt x="114" y="0"/>
                      </a:lnTo>
                      <a:lnTo>
                        <a:pt x="13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619720" y="4635360"/>
                  <a:ext cx="9360" cy="122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24"/>
                      </a:moveTo>
                      <a:lnTo>
                        <a:pt x="17" y="20"/>
                      </a:lnTo>
                      <a:lnTo>
                        <a:pt x="17" y="24"/>
                      </a:lnTo>
                      <a:lnTo>
                        <a:pt x="0" y="0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86520" y="4635360"/>
                  <a:ext cx="70200" cy="59040"/>
                </a:xfrm>
                <a:custGeom>
                  <a:avLst/>
                  <a:gdLst/>
                  <a:ahLst/>
                  <a:rect l="l" t="t" r="r" b="b"/>
                  <a:pathLst>
                    <a:path w="124" h="114">
                      <a:moveTo>
                        <a:pt x="124" y="24"/>
                      </a:moveTo>
                      <a:lnTo>
                        <a:pt x="121" y="24"/>
                      </a:lnTo>
                      <a:lnTo>
                        <a:pt x="118" y="27"/>
                      </a:lnTo>
                      <a:lnTo>
                        <a:pt x="104" y="37"/>
                      </a:lnTo>
                      <a:lnTo>
                        <a:pt x="91" y="47"/>
                      </a:lnTo>
                      <a:lnTo>
                        <a:pt x="77" y="64"/>
                      </a:lnTo>
                      <a:lnTo>
                        <a:pt x="44" y="94"/>
                      </a:lnTo>
                      <a:lnTo>
                        <a:pt x="27" y="108"/>
                      </a:lnTo>
                      <a:lnTo>
                        <a:pt x="10" y="114"/>
                      </a:lnTo>
                      <a:lnTo>
                        <a:pt x="0" y="91"/>
                      </a:lnTo>
                      <a:lnTo>
                        <a:pt x="13" y="84"/>
                      </a:lnTo>
                      <a:lnTo>
                        <a:pt x="27" y="74"/>
                      </a:lnTo>
                      <a:lnTo>
                        <a:pt x="57" y="44"/>
                      </a:lnTo>
                      <a:lnTo>
                        <a:pt x="74" y="30"/>
                      </a:lnTo>
                      <a:lnTo>
                        <a:pt x="87" y="17"/>
                      </a:lnTo>
                      <a:lnTo>
                        <a:pt x="101" y="4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550960" y="463536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10" y="24"/>
                      </a:lnTo>
                      <a:lnTo>
                        <a:pt x="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04800" y="4675320"/>
                  <a:ext cx="85320" cy="22680"/>
                </a:xfrm>
                <a:custGeom>
                  <a:avLst/>
                  <a:gdLst/>
                  <a:ahLst/>
                  <a:rect l="l" t="t" r="r" b="b"/>
                  <a:pathLst>
                    <a:path w="151" h="44">
                      <a:moveTo>
                        <a:pt x="151" y="37"/>
                      </a:moveTo>
                      <a:lnTo>
                        <a:pt x="131" y="44"/>
                      </a:lnTo>
                      <a:lnTo>
                        <a:pt x="107" y="44"/>
                      </a:lnTo>
                      <a:lnTo>
                        <a:pt x="87" y="41"/>
                      </a:lnTo>
                      <a:lnTo>
                        <a:pt x="70" y="37"/>
                      </a:lnTo>
                      <a:lnTo>
                        <a:pt x="50" y="34"/>
                      </a:lnTo>
                      <a:lnTo>
                        <a:pt x="37" y="31"/>
                      </a:lnTo>
                      <a:lnTo>
                        <a:pt x="20" y="27"/>
                      </a:lnTo>
                      <a:lnTo>
                        <a:pt x="3" y="27"/>
                      </a:lnTo>
                      <a:lnTo>
                        <a:pt x="0" y="4"/>
                      </a:lnTo>
                      <a:lnTo>
                        <a:pt x="20" y="0"/>
                      </a:lnTo>
                      <a:lnTo>
                        <a:pt x="40" y="4"/>
                      </a:lnTo>
                      <a:lnTo>
                        <a:pt x="57" y="7"/>
                      </a:lnTo>
                      <a:lnTo>
                        <a:pt x="74" y="14"/>
                      </a:lnTo>
                      <a:lnTo>
                        <a:pt x="94" y="17"/>
                      </a:lnTo>
                      <a:lnTo>
                        <a:pt x="107" y="17"/>
                      </a:lnTo>
                      <a:lnTo>
                        <a:pt x="124" y="17"/>
                      </a:lnTo>
                      <a:lnTo>
                        <a:pt x="147" y="14"/>
                      </a:lnTo>
                      <a:lnTo>
                        <a:pt x="1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486520" y="4682880"/>
                  <a:ext cx="5760" cy="118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23"/>
                      </a:moveTo>
                      <a:lnTo>
                        <a:pt x="7" y="2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349360" y="4442400"/>
                  <a:ext cx="1143000" cy="721080"/>
                </a:xfrm>
                <a:custGeom>
                  <a:avLst/>
                  <a:gdLst/>
                  <a:ahLst/>
                  <a:rect l="l" t="t" r="r" b="b"/>
                  <a:pathLst>
                    <a:path w="2018" h="1390">
                      <a:moveTo>
                        <a:pt x="1303" y="1306"/>
                      </a:moveTo>
                      <a:lnTo>
                        <a:pt x="1458" y="1369"/>
                      </a:lnTo>
                      <a:lnTo>
                        <a:pt x="1666" y="1390"/>
                      </a:lnTo>
                      <a:lnTo>
                        <a:pt x="1854" y="1326"/>
                      </a:lnTo>
                      <a:lnTo>
                        <a:pt x="1961" y="1222"/>
                      </a:lnTo>
                      <a:lnTo>
                        <a:pt x="2018" y="1097"/>
                      </a:lnTo>
                      <a:lnTo>
                        <a:pt x="2008" y="889"/>
                      </a:lnTo>
                      <a:lnTo>
                        <a:pt x="1884" y="735"/>
                      </a:lnTo>
                      <a:lnTo>
                        <a:pt x="1730" y="695"/>
                      </a:lnTo>
                      <a:lnTo>
                        <a:pt x="1532" y="641"/>
                      </a:lnTo>
                      <a:lnTo>
                        <a:pt x="1343" y="580"/>
                      </a:lnTo>
                      <a:lnTo>
                        <a:pt x="1149" y="507"/>
                      </a:lnTo>
                      <a:lnTo>
                        <a:pt x="1001" y="413"/>
                      </a:lnTo>
                      <a:lnTo>
                        <a:pt x="877" y="332"/>
                      </a:lnTo>
                      <a:lnTo>
                        <a:pt x="722" y="228"/>
                      </a:lnTo>
                      <a:lnTo>
                        <a:pt x="598" y="104"/>
                      </a:lnTo>
                      <a:lnTo>
                        <a:pt x="494" y="20"/>
                      </a:lnTo>
                      <a:lnTo>
                        <a:pt x="329" y="0"/>
                      </a:lnTo>
                      <a:lnTo>
                        <a:pt x="192" y="60"/>
                      </a:lnTo>
                      <a:lnTo>
                        <a:pt x="37" y="194"/>
                      </a:lnTo>
                      <a:lnTo>
                        <a:pt x="0" y="355"/>
                      </a:lnTo>
                      <a:lnTo>
                        <a:pt x="57" y="517"/>
                      </a:lnTo>
                      <a:lnTo>
                        <a:pt x="192" y="674"/>
                      </a:lnTo>
                      <a:lnTo>
                        <a:pt x="390" y="829"/>
                      </a:lnTo>
                      <a:lnTo>
                        <a:pt x="578" y="973"/>
                      </a:lnTo>
                      <a:lnTo>
                        <a:pt x="796" y="1118"/>
                      </a:lnTo>
                      <a:lnTo>
                        <a:pt x="1055" y="1222"/>
                      </a:lnTo>
                      <a:lnTo>
                        <a:pt x="1303" y="1306"/>
                      </a:lnTo>
                      <a:close/>
                    </a:path>
                  </a:pathLst>
                </a:custGeom>
                <a:solidFill>
                  <a:srgbClr val="c0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3083760" y="5114880"/>
                  <a:ext cx="95040" cy="45000"/>
                </a:xfrm>
                <a:custGeom>
                  <a:avLst/>
                  <a:gdLst/>
                  <a:ahLst/>
                  <a:rect l="l" t="t" r="r" b="b"/>
                  <a:pathLst>
                    <a:path w="168" h="8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55" y="87"/>
                      </a:lnTo>
                      <a:lnTo>
                        <a:pt x="168" y="6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173040" y="5146200"/>
                  <a:ext cx="119880" cy="24120"/>
                </a:xfrm>
                <a:custGeom>
                  <a:avLst/>
                  <a:gdLst/>
                  <a:ahLst/>
                  <a:rect l="l" t="t" r="r" b="b"/>
                  <a:pathLst>
                    <a:path w="212" h="47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208" y="47"/>
                      </a:lnTo>
                      <a:lnTo>
                        <a:pt x="212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171600" y="5146200"/>
                  <a:ext cx="7200" cy="1368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7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3290760" y="5123160"/>
                  <a:ext cx="110160" cy="47160"/>
                </a:xfrm>
                <a:custGeom>
                  <a:avLst/>
                  <a:gdLst/>
                  <a:ahLst/>
                  <a:rect l="l" t="t" r="r" b="b"/>
                  <a:pathLst>
                    <a:path w="195" h="91">
                      <a:moveTo>
                        <a:pt x="0" y="64"/>
                      </a:moveTo>
                      <a:lnTo>
                        <a:pt x="7" y="91"/>
                      </a:lnTo>
                      <a:lnTo>
                        <a:pt x="195" y="27"/>
                      </a:lnTo>
                      <a:lnTo>
                        <a:pt x="189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290760" y="515628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7" y="27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394080" y="5071320"/>
                  <a:ext cx="70200" cy="6408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04"/>
                      </a:moveTo>
                      <a:lnTo>
                        <a:pt x="17" y="124"/>
                      </a:lnTo>
                      <a:lnTo>
                        <a:pt x="124" y="20"/>
                      </a:lnTo>
                      <a:lnTo>
                        <a:pt x="107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394080" y="5123160"/>
                  <a:ext cx="9360" cy="1368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7"/>
                      </a:moveTo>
                      <a:lnTo>
                        <a:pt x="17" y="24"/>
                      </a:ln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3452760" y="5008320"/>
                  <a:ext cx="45720" cy="7092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0" y="124"/>
                      </a:moveTo>
                      <a:lnTo>
                        <a:pt x="23" y="137"/>
                      </a:lnTo>
                      <a:lnTo>
                        <a:pt x="81" y="13"/>
                      </a:lnTo>
                      <a:lnTo>
                        <a:pt x="57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452760" y="5071320"/>
                  <a:ext cx="12960" cy="100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479760" y="4903560"/>
                  <a:ext cx="19080" cy="108000"/>
                </a:xfrm>
                <a:custGeom>
                  <a:avLst/>
                  <a:gdLst/>
                  <a:ahLst/>
                  <a:rect l="l" t="t" r="r" b="b"/>
                  <a:pathLst>
                    <a:path w="34" h="208">
                      <a:moveTo>
                        <a:pt x="10" y="208"/>
                      </a:moveTo>
                      <a:lnTo>
                        <a:pt x="34" y="208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10" y="2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3485160" y="50083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13"/>
                      </a:moveTo>
                      <a:lnTo>
                        <a:pt x="24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411000" y="4820040"/>
                  <a:ext cx="81360" cy="88560"/>
                </a:xfrm>
                <a:custGeom>
                  <a:avLst/>
                  <a:gdLst/>
                  <a:ahLst/>
                  <a:rect l="l" t="t" r="r" b="b"/>
                  <a:pathLst>
                    <a:path w="144" h="171">
                      <a:moveTo>
                        <a:pt x="124" y="171"/>
                      </a:moveTo>
                      <a:lnTo>
                        <a:pt x="144" y="155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12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479760" y="49006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6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325320" y="4797360"/>
                  <a:ext cx="92520" cy="33120"/>
                </a:xfrm>
                <a:custGeom>
                  <a:avLst/>
                  <a:gdLst/>
                  <a:ahLst/>
                  <a:rect l="l" t="t" r="r" b="b"/>
                  <a:pathLst>
                    <a:path w="164" h="64">
                      <a:moveTo>
                        <a:pt x="154" y="64"/>
                      </a:moveTo>
                      <a:lnTo>
                        <a:pt x="16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5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411000" y="4818600"/>
                  <a:ext cx="11160" cy="118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213360" y="4770000"/>
                  <a:ext cx="117720" cy="39600"/>
                </a:xfrm>
                <a:custGeom>
                  <a:avLst/>
                  <a:gdLst/>
                  <a:ahLst/>
                  <a:rect l="l" t="t" r="r" b="b"/>
                  <a:pathLst>
                    <a:path w="208" h="77">
                      <a:moveTo>
                        <a:pt x="198" y="77"/>
                      </a:moveTo>
                      <a:lnTo>
                        <a:pt x="208" y="53"/>
                      </a:lnTo>
                      <a:lnTo>
                        <a:pt x="10" y="0"/>
                      </a:lnTo>
                      <a:lnTo>
                        <a:pt x="0" y="23"/>
                      </a:lnTo>
                      <a:lnTo>
                        <a:pt x="198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3325320" y="479736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3106800" y="4738320"/>
                  <a:ext cx="111960" cy="43200"/>
                </a:xfrm>
                <a:custGeom>
                  <a:avLst/>
                  <a:gdLst/>
                  <a:ahLst/>
                  <a:rect l="l" t="t" r="r" b="b"/>
                  <a:pathLst>
                    <a:path w="198" h="84">
                      <a:moveTo>
                        <a:pt x="188" y="84"/>
                      </a:moveTo>
                      <a:lnTo>
                        <a:pt x="198" y="6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8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3213360" y="4770000"/>
                  <a:ext cx="5400" cy="118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23"/>
                      </a:moveTo>
                      <a:lnTo>
                        <a:pt x="1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996280" y="4699800"/>
                  <a:ext cx="115920" cy="50760"/>
                </a:xfrm>
                <a:custGeom>
                  <a:avLst/>
                  <a:gdLst/>
                  <a:ahLst/>
                  <a:rect l="l" t="t" r="r" b="b"/>
                  <a:pathLst>
                    <a:path w="205" h="98">
                      <a:moveTo>
                        <a:pt x="195" y="98"/>
                      </a:moveTo>
                      <a:lnTo>
                        <a:pt x="205" y="7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3106800" y="473832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910960" y="4651200"/>
                  <a:ext cx="92520" cy="59400"/>
                </a:xfrm>
                <a:custGeom>
                  <a:avLst/>
                  <a:gdLst/>
                  <a:ahLst/>
                  <a:rect l="l" t="t" r="r" b="b"/>
                  <a:pathLst>
                    <a:path w="164" h="115">
                      <a:moveTo>
                        <a:pt x="148" y="115"/>
                      </a:moveTo>
                      <a:lnTo>
                        <a:pt x="164" y="94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48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994840" y="4699800"/>
                  <a:ext cx="8640" cy="122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3" y="24"/>
                      </a:moveTo>
                      <a:lnTo>
                        <a:pt x="0" y="21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840400" y="4609440"/>
                  <a:ext cx="79560" cy="52200"/>
                </a:xfrm>
                <a:custGeom>
                  <a:avLst/>
                  <a:gdLst/>
                  <a:ahLst/>
                  <a:rect l="l" t="t" r="r" b="b"/>
                  <a:pathLst>
                    <a:path w="141" h="101">
                      <a:moveTo>
                        <a:pt x="124" y="101"/>
                      </a:moveTo>
                      <a:lnTo>
                        <a:pt x="141" y="80"/>
                      </a:lnTo>
                      <a:lnTo>
                        <a:pt x="16" y="0"/>
                      </a:lnTo>
                      <a:lnTo>
                        <a:pt x="0" y="20"/>
                      </a:lnTo>
                      <a:lnTo>
                        <a:pt x="12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910960" y="46512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752920" y="4555440"/>
                  <a:ext cx="96840" cy="64080"/>
                </a:xfrm>
                <a:custGeom>
                  <a:avLst/>
                  <a:gdLst/>
                  <a:ahLst/>
                  <a:rect l="l" t="t" r="r" b="b"/>
                  <a:pathLst>
                    <a:path w="171" h="124">
                      <a:moveTo>
                        <a:pt x="155" y="124"/>
                      </a:moveTo>
                      <a:lnTo>
                        <a:pt x="171" y="10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5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840400" y="460944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682720" y="4491360"/>
                  <a:ext cx="79560" cy="74520"/>
                </a:xfrm>
                <a:custGeom>
                  <a:avLst/>
                  <a:gdLst/>
                  <a:ahLst/>
                  <a:rect l="l" t="t" r="r" b="b"/>
                  <a:pathLst>
                    <a:path w="141" h="144">
                      <a:moveTo>
                        <a:pt x="124" y="144"/>
                      </a:moveTo>
                      <a:lnTo>
                        <a:pt x="141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2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752920" y="455544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623680" y="4447800"/>
                  <a:ext cx="68400" cy="5400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104" y="104"/>
                      </a:moveTo>
                      <a:lnTo>
                        <a:pt x="121" y="8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682720" y="44913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535840" y="4437000"/>
                  <a:ext cx="93240" cy="22680"/>
                </a:xfrm>
                <a:custGeom>
                  <a:avLst/>
                  <a:gdLst/>
                  <a:ahLst/>
                  <a:rect l="l" t="t" r="r" b="b"/>
                  <a:pathLst>
                    <a:path w="165" h="44">
                      <a:moveTo>
                        <a:pt x="165" y="44"/>
                      </a:moveTo>
                      <a:lnTo>
                        <a:pt x="165" y="2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6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623680" y="4447800"/>
                  <a:ext cx="9360" cy="1188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0" y="0"/>
                      </a:lnTo>
                      <a:lnTo>
                        <a:pt x="10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454120" y="4437000"/>
                  <a:ext cx="85320" cy="43200"/>
                </a:xfrm>
                <a:custGeom>
                  <a:avLst/>
                  <a:gdLst/>
                  <a:ahLst/>
                  <a:rect l="l" t="t" r="r" b="b"/>
                  <a:pathLst>
                    <a:path w="151" h="84">
                      <a:moveTo>
                        <a:pt x="151" y="24"/>
                      </a:moveTo>
                      <a:lnTo>
                        <a:pt x="138" y="0"/>
                      </a:lnTo>
                      <a:lnTo>
                        <a:pt x="0" y="61"/>
                      </a:lnTo>
                      <a:lnTo>
                        <a:pt x="13" y="84"/>
                      </a:lnTo>
                      <a:lnTo>
                        <a:pt x="15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532600" y="4437000"/>
                  <a:ext cx="7200" cy="122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3" y="24"/>
                      </a:lnTo>
                      <a:lnTo>
                        <a:pt x="6" y="2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364840" y="4468320"/>
                  <a:ext cx="96840" cy="79560"/>
                </a:xfrm>
                <a:custGeom>
                  <a:avLst/>
                  <a:gdLst/>
                  <a:ahLst/>
                  <a:rect l="l" t="t" r="r" b="b"/>
                  <a:pathLst>
                    <a:path w="171" h="154">
                      <a:moveTo>
                        <a:pt x="171" y="20"/>
                      </a:moveTo>
                      <a:lnTo>
                        <a:pt x="155" y="0"/>
                      </a:lnTo>
                      <a:lnTo>
                        <a:pt x="0" y="134"/>
                      </a:lnTo>
                      <a:lnTo>
                        <a:pt x="17" y="154"/>
                      </a:lnTo>
                      <a:lnTo>
                        <a:pt x="17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452680" y="446832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342160" y="4541400"/>
                  <a:ext cx="36000" cy="8496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64" y="3"/>
                      </a:moveTo>
                      <a:lnTo>
                        <a:pt x="37" y="0"/>
                      </a:lnTo>
                      <a:lnTo>
                        <a:pt x="0" y="161"/>
                      </a:lnTo>
                      <a:lnTo>
                        <a:pt x="27" y="164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363040" y="4538160"/>
                  <a:ext cx="15120" cy="1008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342160" y="4624920"/>
                  <a:ext cx="47520" cy="87120"/>
                </a:xfrm>
                <a:custGeom>
                  <a:avLst/>
                  <a:gdLst/>
                  <a:ahLst/>
                  <a:rect l="l" t="t" r="r" b="b"/>
                  <a:pathLst>
                    <a:path w="84" h="168">
                      <a:moveTo>
                        <a:pt x="27" y="0"/>
                      </a:moveTo>
                      <a:lnTo>
                        <a:pt x="0" y="7"/>
                      </a:lnTo>
                      <a:lnTo>
                        <a:pt x="57" y="168"/>
                      </a:lnTo>
                      <a:lnTo>
                        <a:pt x="84" y="16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342160" y="462492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2376000" y="4707000"/>
                  <a:ext cx="87480" cy="9000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74"/>
                      </a:lnTo>
                      <a:lnTo>
                        <a:pt x="155" y="15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2374200" y="470700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2452680" y="4786920"/>
                  <a:ext cx="121680" cy="9072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16" y="0"/>
                      </a:moveTo>
                      <a:lnTo>
                        <a:pt x="0" y="20"/>
                      </a:lnTo>
                      <a:lnTo>
                        <a:pt x="198" y="175"/>
                      </a:lnTo>
                      <a:lnTo>
                        <a:pt x="215" y="15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2452680" y="4786920"/>
                  <a:ext cx="11160" cy="100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0" y="20"/>
                      </a:move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2564640" y="4867560"/>
                  <a:ext cx="115920" cy="84960"/>
                </a:xfrm>
                <a:custGeom>
                  <a:avLst/>
                  <a:gdLst/>
                  <a:ahLst/>
                  <a:rect l="l" t="t" r="r" b="b"/>
                  <a:pathLst>
                    <a:path w="205" h="164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88" y="164"/>
                      </a:lnTo>
                      <a:lnTo>
                        <a:pt x="205" y="1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2564640" y="48675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2673000" y="4942080"/>
                  <a:ext cx="131400" cy="87120"/>
                </a:xfrm>
                <a:custGeom>
                  <a:avLst/>
                  <a:gdLst/>
                  <a:ahLst/>
                  <a:rect l="l" t="t" r="r" b="b"/>
                  <a:pathLst>
                    <a:path w="232" h="168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218" y="168"/>
                      </a:lnTo>
                      <a:lnTo>
                        <a:pt x="232" y="14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2671200" y="4942080"/>
                  <a:ext cx="9360" cy="122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2796480" y="5017320"/>
                  <a:ext cx="153720" cy="65880"/>
                </a:xfrm>
                <a:custGeom>
                  <a:avLst/>
                  <a:gdLst/>
                  <a:ahLst/>
                  <a:rect l="l" t="t" r="r" b="b"/>
                  <a:pathLst>
                    <a:path w="272" h="12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59" y="127"/>
                      </a:lnTo>
                      <a:lnTo>
                        <a:pt x="272" y="10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2796480" y="5017320"/>
                  <a:ext cx="7560" cy="1188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2944800" y="5069160"/>
                  <a:ext cx="144720" cy="57600"/>
                </a:xfrm>
                <a:custGeom>
                  <a:avLst/>
                  <a:gdLst/>
                  <a:ahLst/>
                  <a:rect l="l" t="t" r="r" b="b"/>
                  <a:pathLst>
                    <a:path w="25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49" y="111"/>
                      </a:lnTo>
                      <a:lnTo>
                        <a:pt x="25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2943360" y="5069160"/>
                  <a:ext cx="7200" cy="1368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083760" y="5112720"/>
                  <a:ext cx="7920" cy="1368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1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2471400" y="4478760"/>
                  <a:ext cx="950760" cy="581400"/>
                </a:xfrm>
                <a:custGeom>
                  <a:avLst/>
                  <a:gdLst/>
                  <a:ahLst/>
                  <a:rect l="l" t="t" r="r" b="b"/>
                  <a:pathLst>
                    <a:path w="1679" h="1121">
                      <a:moveTo>
                        <a:pt x="1535" y="1121"/>
                      </a:moveTo>
                      <a:lnTo>
                        <a:pt x="1669" y="1007"/>
                      </a:lnTo>
                      <a:lnTo>
                        <a:pt x="1679" y="843"/>
                      </a:lnTo>
                      <a:lnTo>
                        <a:pt x="1585" y="719"/>
                      </a:lnTo>
                      <a:lnTo>
                        <a:pt x="1286" y="625"/>
                      </a:lnTo>
                      <a:lnTo>
                        <a:pt x="994" y="527"/>
                      </a:lnTo>
                      <a:lnTo>
                        <a:pt x="715" y="386"/>
                      </a:lnTo>
                      <a:lnTo>
                        <a:pt x="527" y="238"/>
                      </a:lnTo>
                      <a:lnTo>
                        <a:pt x="346" y="118"/>
                      </a:lnTo>
                      <a:lnTo>
                        <a:pt x="229" y="0"/>
                      </a:lnTo>
                      <a:lnTo>
                        <a:pt x="81" y="44"/>
                      </a:lnTo>
                      <a:lnTo>
                        <a:pt x="0" y="168"/>
                      </a:lnTo>
                      <a:lnTo>
                        <a:pt x="20" y="343"/>
                      </a:lnTo>
                      <a:lnTo>
                        <a:pt x="155" y="510"/>
                      </a:lnTo>
                      <a:lnTo>
                        <a:pt x="373" y="645"/>
                      </a:lnTo>
                      <a:lnTo>
                        <a:pt x="621" y="809"/>
                      </a:lnTo>
                      <a:lnTo>
                        <a:pt x="924" y="987"/>
                      </a:lnTo>
                      <a:lnTo>
                        <a:pt x="1202" y="1071"/>
                      </a:lnTo>
                      <a:lnTo>
                        <a:pt x="1535" y="1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3335040" y="4996080"/>
                  <a:ext cx="85320" cy="6984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0" y="114"/>
                      </a:moveTo>
                      <a:lnTo>
                        <a:pt x="17" y="135"/>
                      </a:lnTo>
                      <a:lnTo>
                        <a:pt x="151" y="20"/>
                      </a:lnTo>
                      <a:lnTo>
                        <a:pt x="134" y="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3409200" y="4916160"/>
                  <a:ext cx="18360" cy="84960"/>
                </a:xfrm>
                <a:custGeom>
                  <a:avLst/>
                  <a:gdLst/>
                  <a:ahLst/>
                  <a:rect l="l" t="t" r="r" b="b"/>
                  <a:pathLst>
                    <a:path w="33" h="164">
                      <a:moveTo>
                        <a:pt x="0" y="164"/>
                      </a:moveTo>
                      <a:lnTo>
                        <a:pt x="23" y="164"/>
                      </a:lnTo>
                      <a:lnTo>
                        <a:pt x="33" y="0"/>
                      </a:lnTo>
                      <a:lnTo>
                        <a:pt x="10" y="0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3409200" y="4996080"/>
                  <a:ext cx="12960" cy="1044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20" y="20"/>
                      </a:moveTo>
                      <a:lnTo>
                        <a:pt x="23" y="17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2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3363480" y="4848120"/>
                  <a:ext cx="64440" cy="727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94" y="141"/>
                      </a:moveTo>
                      <a:lnTo>
                        <a:pt x="114" y="124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94" y="14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414960" y="491256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3" y="7"/>
                      </a:moveTo>
                      <a:lnTo>
                        <a:pt x="23" y="0"/>
                      </a:lnTo>
                      <a:lnTo>
                        <a:pt x="3" y="17"/>
                      </a:lnTo>
                      <a:lnTo>
                        <a:pt x="0" y="7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3196440" y="4797360"/>
                  <a:ext cx="174600" cy="61200"/>
                </a:xfrm>
                <a:custGeom>
                  <a:avLst/>
                  <a:gdLst/>
                  <a:ahLst/>
                  <a:rect l="l" t="t" r="r" b="b"/>
                  <a:pathLst>
                    <a:path w="309" h="118">
                      <a:moveTo>
                        <a:pt x="298" y="118"/>
                      </a:moveTo>
                      <a:lnTo>
                        <a:pt x="309" y="94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298" y="11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363480" y="484596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4" y="0"/>
                      </a:lnTo>
                      <a:lnTo>
                        <a:pt x="3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030480" y="4746960"/>
                  <a:ext cx="171360" cy="6264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293" y="121"/>
                      </a:moveTo>
                      <a:lnTo>
                        <a:pt x="303" y="97"/>
                      </a:lnTo>
                      <a:lnTo>
                        <a:pt x="11" y="0"/>
                      </a:lnTo>
                      <a:lnTo>
                        <a:pt x="0" y="24"/>
                      </a:lnTo>
                      <a:lnTo>
                        <a:pt x="293" y="1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3196440" y="479736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24"/>
                      </a:moveTo>
                      <a:lnTo>
                        <a:pt x="1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2872800" y="4673880"/>
                  <a:ext cx="165240" cy="8532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8" y="165"/>
                      </a:moveTo>
                      <a:lnTo>
                        <a:pt x="292" y="14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030480" y="4746960"/>
                  <a:ext cx="7560" cy="122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0" y="24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764080" y="4597200"/>
                  <a:ext cx="115920" cy="87120"/>
                </a:xfrm>
                <a:custGeom>
                  <a:avLst/>
                  <a:gdLst/>
                  <a:ahLst/>
                  <a:rect l="l" t="t" r="r" b="b"/>
                  <a:pathLst>
                    <a:path w="205" h="168">
                      <a:moveTo>
                        <a:pt x="188" y="168"/>
                      </a:moveTo>
                      <a:lnTo>
                        <a:pt x="205" y="148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8" y="16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870640" y="4673880"/>
                  <a:ext cx="9360" cy="122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2661480" y="4534200"/>
                  <a:ext cx="111960" cy="73440"/>
                </a:xfrm>
                <a:custGeom>
                  <a:avLst/>
                  <a:gdLst/>
                  <a:ahLst/>
                  <a:rect l="l" t="t" r="r" b="b"/>
                  <a:pathLst>
                    <a:path w="198" h="142">
                      <a:moveTo>
                        <a:pt x="181" y="142"/>
                      </a:moveTo>
                      <a:lnTo>
                        <a:pt x="198" y="121"/>
                      </a:lnTo>
                      <a:lnTo>
                        <a:pt x="17" y="0"/>
                      </a:lnTo>
                      <a:lnTo>
                        <a:pt x="0" y="21"/>
                      </a:lnTo>
                      <a:lnTo>
                        <a:pt x="181" y="14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2764080" y="45972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2594880" y="447372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118" y="138"/>
                      </a:moveTo>
                      <a:lnTo>
                        <a:pt x="135" y="117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18" y="138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2661480" y="45342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0" y="21"/>
                      </a:moveTo>
                      <a:lnTo>
                        <a:pt x="1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2513160" y="4473720"/>
                  <a:ext cx="89280" cy="3456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158" y="23"/>
                      </a:moveTo>
                      <a:lnTo>
                        <a:pt x="148" y="0"/>
                      </a:lnTo>
                      <a:lnTo>
                        <a:pt x="0" y="44"/>
                      </a:lnTo>
                      <a:lnTo>
                        <a:pt x="10" y="67"/>
                      </a:lnTo>
                      <a:lnTo>
                        <a:pt x="158" y="2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2594880" y="447228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4" y="3"/>
                      </a:lnTo>
                      <a:lnTo>
                        <a:pt x="14" y="26"/>
                      </a:lnTo>
                      <a:lnTo>
                        <a:pt x="0" y="2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2463840" y="4497840"/>
                  <a:ext cx="58680" cy="71640"/>
                </a:xfrm>
                <a:custGeom>
                  <a:avLst/>
                  <a:gdLst/>
                  <a:ahLst/>
                  <a:rect l="l" t="t" r="r" b="b"/>
                  <a:pathLst>
                    <a:path w="104" h="138">
                      <a:moveTo>
                        <a:pt x="104" y="13"/>
                      </a:moveTo>
                      <a:lnTo>
                        <a:pt x="80" y="0"/>
                      </a:lnTo>
                      <a:lnTo>
                        <a:pt x="0" y="124"/>
                      </a:lnTo>
                      <a:lnTo>
                        <a:pt x="23" y="138"/>
                      </a:lnTo>
                      <a:lnTo>
                        <a:pt x="104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2509200" y="449640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16"/>
                      </a:lnTo>
                      <a:lnTo>
                        <a:pt x="17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2463840" y="4565880"/>
                  <a:ext cx="26280" cy="92160"/>
                </a:xfrm>
                <a:custGeom>
                  <a:avLst/>
                  <a:gdLst/>
                  <a:ahLst/>
                  <a:rect l="l" t="t" r="r" b="b"/>
                  <a:pathLst>
                    <a:path w="47" h="178">
                      <a:moveTo>
                        <a:pt x="27" y="0"/>
                      </a:moveTo>
                      <a:lnTo>
                        <a:pt x="0" y="3"/>
                      </a:lnTo>
                      <a:lnTo>
                        <a:pt x="20" y="178"/>
                      </a:lnTo>
                      <a:lnTo>
                        <a:pt x="47" y="17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2463840" y="4562280"/>
                  <a:ext cx="15120" cy="7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7" y="7"/>
                      </a:lnTo>
                      <a:lnTo>
                        <a:pt x="23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2476800" y="4653360"/>
                  <a:ext cx="87840" cy="95400"/>
                </a:xfrm>
                <a:custGeom>
                  <a:avLst/>
                  <a:gdLst/>
                  <a:ahLst/>
                  <a:rect l="l" t="t" r="r" b="b"/>
                  <a:pathLst>
                    <a:path w="155" h="184">
                      <a:moveTo>
                        <a:pt x="20" y="0"/>
                      </a:moveTo>
                      <a:lnTo>
                        <a:pt x="0" y="17"/>
                      </a:lnTo>
                      <a:lnTo>
                        <a:pt x="135" y="184"/>
                      </a:lnTo>
                      <a:lnTo>
                        <a:pt x="155" y="16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2475360" y="465336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0" y="10"/>
                      </a:move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23" y="0"/>
                      </a:lnTo>
                      <a:lnTo>
                        <a:pt x="2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555280" y="4738320"/>
                  <a:ext cx="131400" cy="81720"/>
                </a:xfrm>
                <a:custGeom>
                  <a:avLst/>
                  <a:gdLst/>
                  <a:ahLst/>
                  <a:rect l="l" t="t" r="r" b="b"/>
                  <a:pathLst>
                    <a:path w="232" h="158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218" y="158"/>
                      </a:lnTo>
                      <a:lnTo>
                        <a:pt x="232" y="1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553480" y="473832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2678400" y="4808160"/>
                  <a:ext cx="148320" cy="97200"/>
                </a:xfrm>
                <a:custGeom>
                  <a:avLst/>
                  <a:gdLst/>
                  <a:ahLst/>
                  <a:rect l="l" t="t" r="r" b="b"/>
                  <a:pathLst>
                    <a:path w="262" h="188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49" y="188"/>
                      </a:lnTo>
                      <a:lnTo>
                        <a:pt x="262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2678400" y="480816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2819520" y="4893480"/>
                  <a:ext cx="178200" cy="104760"/>
                </a:xfrm>
                <a:custGeom>
                  <a:avLst/>
                  <a:gdLst/>
                  <a:ahLst/>
                  <a:rect l="l" t="t" r="r" b="b"/>
                  <a:pathLst>
                    <a:path w="315" h="202">
                      <a:moveTo>
                        <a:pt x="13" y="0"/>
                      </a:moveTo>
                      <a:lnTo>
                        <a:pt x="0" y="24"/>
                      </a:lnTo>
                      <a:lnTo>
                        <a:pt x="302" y="202"/>
                      </a:lnTo>
                      <a:lnTo>
                        <a:pt x="315" y="1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2819520" y="4893480"/>
                  <a:ext cx="7200" cy="122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0" y="24"/>
                      </a:moveTo>
                      <a:lnTo>
                        <a:pt x="1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2992320" y="4984200"/>
                  <a:ext cx="161640" cy="57240"/>
                </a:xfrm>
                <a:custGeom>
                  <a:avLst/>
                  <a:gdLst/>
                  <a:ahLst/>
                  <a:rect l="l" t="t" r="r" b="b"/>
                  <a:pathLst>
                    <a:path w="286" h="111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279" y="111"/>
                      </a:lnTo>
                      <a:lnTo>
                        <a:pt x="286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2990880" y="4984200"/>
                  <a:ext cx="7200" cy="1368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27"/>
                      </a:moveTo>
                      <a:lnTo>
                        <a:pt x="3" y="27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3150360" y="5027760"/>
                  <a:ext cx="190080" cy="39960"/>
                </a:xfrm>
                <a:custGeom>
                  <a:avLst/>
                  <a:gdLst/>
                  <a:ahLst/>
                  <a:rect l="l" t="t" r="r" b="b"/>
                  <a:pathLst>
                    <a:path w="336" h="77">
                      <a:moveTo>
                        <a:pt x="3" y="0"/>
                      </a:moveTo>
                      <a:lnTo>
                        <a:pt x="0" y="27"/>
                      </a:lnTo>
                      <a:lnTo>
                        <a:pt x="332" y="77"/>
                      </a:lnTo>
                      <a:lnTo>
                        <a:pt x="336" y="5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3150360" y="5027760"/>
                  <a:ext cx="3600" cy="1368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0" y="27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3335040" y="5053680"/>
                  <a:ext cx="9360" cy="1368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6" y="27"/>
                      </a:moveTo>
                      <a:lnTo>
                        <a:pt x="13" y="27"/>
                      </a:lnTo>
                      <a:lnTo>
                        <a:pt x="17" y="24"/>
                      </a:lnTo>
                      <a:lnTo>
                        <a:pt x="0" y="3"/>
                      </a:lnTo>
                      <a:lnTo>
                        <a:pt x="10" y="0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2517120" y="4485600"/>
                  <a:ext cx="905040" cy="559080"/>
                </a:xfrm>
                <a:custGeom>
                  <a:avLst/>
                  <a:gdLst/>
                  <a:ahLst/>
                  <a:rect l="l" t="t" r="r" b="b"/>
                  <a:pathLst>
                    <a:path w="1598" h="1078">
                      <a:moveTo>
                        <a:pt x="1568" y="1045"/>
                      </a:moveTo>
                      <a:lnTo>
                        <a:pt x="1598" y="920"/>
                      </a:lnTo>
                      <a:lnTo>
                        <a:pt x="1578" y="796"/>
                      </a:lnTo>
                      <a:lnTo>
                        <a:pt x="1504" y="706"/>
                      </a:lnTo>
                      <a:lnTo>
                        <a:pt x="1246" y="652"/>
                      </a:lnTo>
                      <a:lnTo>
                        <a:pt x="1007" y="578"/>
                      </a:lnTo>
                      <a:lnTo>
                        <a:pt x="728" y="467"/>
                      </a:lnTo>
                      <a:lnTo>
                        <a:pt x="490" y="309"/>
                      </a:lnTo>
                      <a:lnTo>
                        <a:pt x="332" y="185"/>
                      </a:lnTo>
                      <a:lnTo>
                        <a:pt x="188" y="41"/>
                      </a:lnTo>
                      <a:lnTo>
                        <a:pt x="74" y="0"/>
                      </a:lnTo>
                      <a:lnTo>
                        <a:pt x="0" y="91"/>
                      </a:lnTo>
                      <a:lnTo>
                        <a:pt x="64" y="195"/>
                      </a:lnTo>
                      <a:lnTo>
                        <a:pt x="208" y="225"/>
                      </a:lnTo>
                      <a:lnTo>
                        <a:pt x="342" y="340"/>
                      </a:lnTo>
                      <a:lnTo>
                        <a:pt x="500" y="467"/>
                      </a:lnTo>
                      <a:lnTo>
                        <a:pt x="695" y="558"/>
                      </a:lnTo>
                      <a:lnTo>
                        <a:pt x="957" y="672"/>
                      </a:lnTo>
                      <a:lnTo>
                        <a:pt x="1182" y="756"/>
                      </a:lnTo>
                      <a:lnTo>
                        <a:pt x="1380" y="820"/>
                      </a:lnTo>
                      <a:lnTo>
                        <a:pt x="1484" y="890"/>
                      </a:lnTo>
                      <a:lnTo>
                        <a:pt x="1464" y="984"/>
                      </a:lnTo>
                      <a:lnTo>
                        <a:pt x="1474" y="1078"/>
                      </a:lnTo>
                      <a:lnTo>
                        <a:pt x="1568" y="1045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398040" y="4961160"/>
                  <a:ext cx="29880" cy="69480"/>
                </a:xfrm>
                <a:custGeom>
                  <a:avLst/>
                  <a:gdLst/>
                  <a:ahLst/>
                  <a:rect l="l" t="t" r="r" b="b"/>
                  <a:pathLst>
                    <a:path w="53" h="134">
                      <a:moveTo>
                        <a:pt x="0" y="124"/>
                      </a:moveTo>
                      <a:lnTo>
                        <a:pt x="23" y="134"/>
                      </a:lnTo>
                      <a:lnTo>
                        <a:pt x="53" y="10"/>
                      </a:lnTo>
                      <a:lnTo>
                        <a:pt x="3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403800" y="489708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43" h="131">
                      <a:moveTo>
                        <a:pt x="20" y="131"/>
                      </a:moveTo>
                      <a:lnTo>
                        <a:pt x="43" y="124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20" y="131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414960" y="496116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10"/>
                      </a:move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3363480" y="4848120"/>
                  <a:ext cx="52920" cy="5508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74" y="107"/>
                      </a:moveTo>
                      <a:lnTo>
                        <a:pt x="94" y="91"/>
                      </a:lnTo>
                      <a:lnTo>
                        <a:pt x="20" y="0"/>
                      </a:lnTo>
                      <a:lnTo>
                        <a:pt x="0" y="17"/>
                      </a:lnTo>
                      <a:lnTo>
                        <a:pt x="74" y="10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403800" y="489528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3" y="16"/>
                      </a:lnTo>
                      <a:lnTo>
                        <a:pt x="0" y="1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220560" y="4818600"/>
                  <a:ext cx="150480" cy="3996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259" y="77"/>
                      </a:moveTo>
                      <a:lnTo>
                        <a:pt x="266" y="53"/>
                      </a:lnTo>
                      <a:lnTo>
                        <a:pt x="7" y="0"/>
                      </a:lnTo>
                      <a:lnTo>
                        <a:pt x="0" y="23"/>
                      </a:lnTo>
                      <a:lnTo>
                        <a:pt x="259" y="7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3363480" y="484596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7" y="24"/>
                      </a:lnTo>
                      <a:lnTo>
                        <a:pt x="0" y="2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3083760" y="4780080"/>
                  <a:ext cx="140760" cy="50040"/>
                </a:xfrm>
                <a:custGeom>
                  <a:avLst/>
                  <a:gdLst/>
                  <a:ahLst/>
                  <a:rect l="l" t="t" r="r" b="b"/>
                  <a:pathLst>
                    <a:path w="249" h="97">
                      <a:moveTo>
                        <a:pt x="239" y="97"/>
                      </a:moveTo>
                      <a:lnTo>
                        <a:pt x="249" y="74"/>
                      </a:ln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239" y="9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219120" y="4818600"/>
                  <a:ext cx="5400" cy="118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3" y="23"/>
                      </a:moveTo>
                      <a:lnTo>
                        <a:pt x="0" y="23"/>
                      </a:lnTo>
                      <a:lnTo>
                        <a:pt x="10" y="0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926080" y="4722480"/>
                  <a:ext cx="165240" cy="69480"/>
                </a:xfrm>
                <a:custGeom>
                  <a:avLst/>
                  <a:gdLst/>
                  <a:ahLst/>
                  <a:rect l="l" t="t" r="r" b="b"/>
                  <a:pathLst>
                    <a:path w="292" h="134">
                      <a:moveTo>
                        <a:pt x="278" y="134"/>
                      </a:moveTo>
                      <a:lnTo>
                        <a:pt x="292" y="111"/>
                      </a:lnTo>
                      <a:lnTo>
                        <a:pt x="13" y="0"/>
                      </a:lnTo>
                      <a:lnTo>
                        <a:pt x="0" y="24"/>
                      </a:lnTo>
                      <a:lnTo>
                        <a:pt x="278" y="1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083760" y="478008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788920" y="4640760"/>
                  <a:ext cx="144360" cy="9216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238" y="178"/>
                      </a:moveTo>
                      <a:lnTo>
                        <a:pt x="255" y="158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238" y="178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2923920" y="4722480"/>
                  <a:ext cx="9360" cy="122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4" y="24"/>
                      </a:move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4" y="2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2699640" y="4576320"/>
                  <a:ext cx="99000" cy="74520"/>
                </a:xfrm>
                <a:custGeom>
                  <a:avLst/>
                  <a:gdLst/>
                  <a:ahLst/>
                  <a:rect l="l" t="t" r="r" b="b"/>
                  <a:pathLst>
                    <a:path w="175" h="144">
                      <a:moveTo>
                        <a:pt x="158" y="144"/>
                      </a:moveTo>
                      <a:lnTo>
                        <a:pt x="175" y="12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58" y="14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2788920" y="46407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2617920" y="4501800"/>
                  <a:ext cx="91080" cy="84960"/>
                </a:xfrm>
                <a:custGeom>
                  <a:avLst/>
                  <a:gdLst/>
                  <a:ahLst/>
                  <a:rect l="l" t="t" r="r" b="b"/>
                  <a:pathLst>
                    <a:path w="161" h="164">
                      <a:moveTo>
                        <a:pt x="144" y="164"/>
                      </a:moveTo>
                      <a:lnTo>
                        <a:pt x="161" y="144"/>
                      </a:lnTo>
                      <a:lnTo>
                        <a:pt x="17" y="0"/>
                      </a:lnTo>
                      <a:lnTo>
                        <a:pt x="0" y="20"/>
                      </a:lnTo>
                      <a:lnTo>
                        <a:pt x="144" y="1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2699640" y="45763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2555280" y="448020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14" y="64"/>
                      </a:moveTo>
                      <a:lnTo>
                        <a:pt x="124" y="41"/>
                      </a:lnTo>
                      <a:lnTo>
                        <a:pt x="10" y="0"/>
                      </a:lnTo>
                      <a:lnTo>
                        <a:pt x="0" y="24"/>
                      </a:lnTo>
                      <a:lnTo>
                        <a:pt x="114" y="6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2617920" y="4501800"/>
                  <a:ext cx="9360" cy="1188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0"/>
                      </a:lnTo>
                      <a:lnTo>
                        <a:pt x="3" y="23"/>
                      </a:lnTo>
                      <a:lnTo>
                        <a:pt x="0" y="2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511360" y="44823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94" h="107">
                      <a:moveTo>
                        <a:pt x="94" y="17"/>
                      </a:moveTo>
                      <a:lnTo>
                        <a:pt x="74" y="0"/>
                      </a:lnTo>
                      <a:lnTo>
                        <a:pt x="0" y="90"/>
                      </a:lnTo>
                      <a:lnTo>
                        <a:pt x="20" y="107"/>
                      </a:lnTo>
                      <a:lnTo>
                        <a:pt x="94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2553480" y="4478760"/>
                  <a:ext cx="11160" cy="1368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3" y="3"/>
                      </a:move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20" y="24"/>
                      </a:lnTo>
                      <a:lnTo>
                        <a:pt x="3" y="2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509200" y="4529160"/>
                  <a:ext cx="49680" cy="6084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24" y="0"/>
                      </a:moveTo>
                      <a:lnTo>
                        <a:pt x="0" y="14"/>
                      </a:lnTo>
                      <a:lnTo>
                        <a:pt x="64" y="118"/>
                      </a:lnTo>
                      <a:lnTo>
                        <a:pt x="88" y="10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2507760" y="452916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27" y="0"/>
                      </a:lnTo>
                      <a:lnTo>
                        <a:pt x="27" y="1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2550960" y="4579920"/>
                  <a:ext cx="85320" cy="29520"/>
                </a:xfrm>
                <a:custGeom>
                  <a:avLst/>
                  <a:gdLst/>
                  <a:ahLst/>
                  <a:rect l="l" t="t" r="r" b="b"/>
                  <a:pathLst>
                    <a:path w="151" h="57">
                      <a:moveTo>
                        <a:pt x="7" y="0"/>
                      </a:moveTo>
                      <a:lnTo>
                        <a:pt x="0" y="27"/>
                      </a:lnTo>
                      <a:lnTo>
                        <a:pt x="145" y="57"/>
                      </a:lnTo>
                      <a:lnTo>
                        <a:pt x="151" y="3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2545560" y="4579920"/>
                  <a:ext cx="13320" cy="1368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0"/>
                      </a:moveTo>
                      <a:lnTo>
                        <a:pt x="4" y="27"/>
                      </a:lnTo>
                      <a:lnTo>
                        <a:pt x="10" y="27"/>
                      </a:lnTo>
                      <a:lnTo>
                        <a:pt x="17" y="0"/>
                      </a:lnTo>
                      <a:lnTo>
                        <a:pt x="24" y="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2629440" y="4597200"/>
                  <a:ext cx="85320" cy="69840"/>
                </a:xfrm>
                <a:custGeom>
                  <a:avLst/>
                  <a:gdLst/>
                  <a:ahLst/>
                  <a:rect l="l" t="t" r="r" b="b"/>
                  <a:pathLst>
                    <a:path w="151" h="135">
                      <a:moveTo>
                        <a:pt x="17" y="0"/>
                      </a:moveTo>
                      <a:lnTo>
                        <a:pt x="0" y="21"/>
                      </a:lnTo>
                      <a:lnTo>
                        <a:pt x="134" y="135"/>
                      </a:lnTo>
                      <a:lnTo>
                        <a:pt x="151" y="11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2629440" y="4595400"/>
                  <a:ext cx="9360" cy="1368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0"/>
                      </a:moveTo>
                      <a:lnTo>
                        <a:pt x="17" y="3"/>
                      </a:lnTo>
                      <a:lnTo>
                        <a:pt x="0" y="24"/>
                      </a:lnTo>
                      <a:lnTo>
                        <a:pt x="7" y="2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2705400" y="4656600"/>
                  <a:ext cx="99000" cy="76320"/>
                </a:xfrm>
                <a:custGeom>
                  <a:avLst/>
                  <a:gdLst/>
                  <a:ahLst/>
                  <a:rect l="l" t="t" r="r" b="b"/>
                  <a:pathLst>
                    <a:path w="175" h="147">
                      <a:moveTo>
                        <a:pt x="17" y="0"/>
                      </a:moveTo>
                      <a:lnTo>
                        <a:pt x="0" y="20"/>
                      </a:lnTo>
                      <a:lnTo>
                        <a:pt x="158" y="147"/>
                      </a:lnTo>
                      <a:lnTo>
                        <a:pt x="175" y="12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2705400" y="46566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2796480" y="4722480"/>
                  <a:ext cx="118080" cy="5904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14" y="0"/>
                      </a:moveTo>
                      <a:lnTo>
                        <a:pt x="0" y="24"/>
                      </a:lnTo>
                      <a:lnTo>
                        <a:pt x="195" y="114"/>
                      </a:lnTo>
                      <a:lnTo>
                        <a:pt x="209" y="9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2794680" y="4722480"/>
                  <a:ext cx="9360" cy="122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0" y="20"/>
                      </a:moveTo>
                      <a:lnTo>
                        <a:pt x="3" y="24"/>
                      </a:ln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907000" y="4770000"/>
                  <a:ext cx="156240" cy="70920"/>
                </a:xfrm>
                <a:custGeom>
                  <a:avLst/>
                  <a:gdLst/>
                  <a:ahLst/>
                  <a:rect l="l" t="t" r="r" b="b"/>
                  <a:pathLst>
                    <a:path w="276" h="137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262" y="137"/>
                      </a:lnTo>
                      <a:lnTo>
                        <a:pt x="276" y="1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2907000" y="477000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0" y="23"/>
                      </a:moveTo>
                      <a:lnTo>
                        <a:pt x="14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3057120" y="4827600"/>
                  <a:ext cx="131400" cy="56880"/>
                </a:xfrm>
                <a:custGeom>
                  <a:avLst/>
                  <a:gdLst/>
                  <a:ahLst/>
                  <a:rect l="l" t="t" r="r" b="b"/>
                  <a:pathLst>
                    <a:path w="232" h="11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225" y="110"/>
                      </a:lnTo>
                      <a:lnTo>
                        <a:pt x="232" y="8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055320" y="4827600"/>
                  <a:ext cx="7920" cy="1332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0" y="26"/>
                      </a:moveTo>
                      <a:lnTo>
                        <a:pt x="3" y="26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3184560" y="4871160"/>
                  <a:ext cx="115920" cy="46440"/>
                </a:xfrm>
                <a:custGeom>
                  <a:avLst/>
                  <a:gdLst/>
                  <a:ahLst/>
                  <a:rect l="l" t="t" r="r" b="b"/>
                  <a:pathLst>
                    <a:path w="205" h="90">
                      <a:moveTo>
                        <a:pt x="7" y="0"/>
                      </a:moveTo>
                      <a:lnTo>
                        <a:pt x="0" y="26"/>
                      </a:lnTo>
                      <a:lnTo>
                        <a:pt x="199" y="90"/>
                      </a:lnTo>
                      <a:lnTo>
                        <a:pt x="205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3184560" y="4871160"/>
                  <a:ext cx="3960" cy="1332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3295080" y="4905720"/>
                  <a:ext cx="66600" cy="48600"/>
                </a:xfrm>
                <a:custGeom>
                  <a:avLst/>
                  <a:gdLst/>
                  <a:ahLst/>
                  <a:rect l="l" t="t" r="r" b="b"/>
                  <a:pathLst>
                    <a:path w="118" h="94">
                      <a:moveTo>
                        <a:pt x="14" y="0"/>
                      </a:moveTo>
                      <a:lnTo>
                        <a:pt x="0" y="23"/>
                      </a:lnTo>
                      <a:lnTo>
                        <a:pt x="104" y="94"/>
                      </a:lnTo>
                      <a:lnTo>
                        <a:pt x="118" y="7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3295080" y="4903560"/>
                  <a:ext cx="7920" cy="1368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10" y="0"/>
                      </a:moveTo>
                      <a:lnTo>
                        <a:pt x="14" y="4"/>
                      </a:lnTo>
                      <a:lnTo>
                        <a:pt x="0" y="27"/>
                      </a:lnTo>
                      <a:lnTo>
                        <a:pt x="4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338640" y="4945680"/>
                  <a:ext cx="26280" cy="50040"/>
                </a:xfrm>
                <a:custGeom>
                  <a:avLst/>
                  <a:gdLst/>
                  <a:ahLst/>
                  <a:rect l="l" t="t" r="r" b="b"/>
                  <a:pathLst>
                    <a:path w="47" h="97">
                      <a:moveTo>
                        <a:pt x="47" y="3"/>
                      </a:moveTo>
                      <a:lnTo>
                        <a:pt x="21" y="0"/>
                      </a:lnTo>
                      <a:lnTo>
                        <a:pt x="0" y="94"/>
                      </a:lnTo>
                      <a:lnTo>
                        <a:pt x="27" y="97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3350520" y="4942080"/>
                  <a:ext cx="14760" cy="1224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0" y="0"/>
                      </a:move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0" y="7"/>
                      </a:lnTo>
                      <a:lnTo>
                        <a:pt x="6" y="2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3338640" y="4996080"/>
                  <a:ext cx="20880" cy="50760"/>
                </a:xfrm>
                <a:custGeom>
                  <a:avLst/>
                  <a:gdLst/>
                  <a:ahLst/>
                  <a:rect l="l" t="t" r="r" b="b"/>
                  <a:pathLst>
                    <a:path w="37" h="98">
                      <a:moveTo>
                        <a:pt x="27" y="0"/>
                      </a:moveTo>
                      <a:lnTo>
                        <a:pt x="0" y="4"/>
                      </a:lnTo>
                      <a:lnTo>
                        <a:pt x="11" y="98"/>
                      </a:lnTo>
                      <a:lnTo>
                        <a:pt x="37" y="9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3338640" y="499464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3350520" y="5020560"/>
                  <a:ext cx="56520" cy="31320"/>
                </a:xfrm>
                <a:custGeom>
                  <a:avLst/>
                  <a:gdLst/>
                  <a:ahLst/>
                  <a:rect l="l" t="t" r="r" b="b"/>
                  <a:pathLst>
                    <a:path w="100" h="61">
                      <a:moveTo>
                        <a:pt x="0" y="34"/>
                      </a:moveTo>
                      <a:lnTo>
                        <a:pt x="6" y="61"/>
                      </a:lnTo>
                      <a:lnTo>
                        <a:pt x="100" y="27"/>
                      </a:lnTo>
                      <a:lnTo>
                        <a:pt x="94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3344760" y="5038200"/>
                  <a:ext cx="14760" cy="1692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0" y="17"/>
                      </a:moveTo>
                      <a:lnTo>
                        <a:pt x="0" y="33"/>
                      </a:lnTo>
                      <a:lnTo>
                        <a:pt x="16" y="27"/>
                      </a:lnTo>
                      <a:lnTo>
                        <a:pt x="10" y="0"/>
                      </a:lnTo>
                      <a:lnTo>
                        <a:pt x="26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3398040" y="5020560"/>
                  <a:ext cx="12960" cy="1368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16" y="27"/>
                      </a:moveTo>
                      <a:lnTo>
                        <a:pt x="23" y="24"/>
                      </a:lnTo>
                      <a:lnTo>
                        <a:pt x="23" y="2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d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102840" y="5017320"/>
                  <a:ext cx="157680" cy="50040"/>
                </a:xfrm>
                <a:custGeom>
                  <a:avLst/>
                  <a:gdLst/>
                  <a:ahLst/>
                  <a:rect l="l" t="t" r="r" b="b"/>
                  <a:pathLst>
                    <a:path w="279" h="97">
                      <a:moveTo>
                        <a:pt x="279" y="87"/>
                      </a:moveTo>
                      <a:lnTo>
                        <a:pt x="252" y="94"/>
                      </a:lnTo>
                      <a:lnTo>
                        <a:pt x="232" y="97"/>
                      </a:lnTo>
                      <a:lnTo>
                        <a:pt x="212" y="97"/>
                      </a:lnTo>
                      <a:lnTo>
                        <a:pt x="191" y="97"/>
                      </a:lnTo>
                      <a:lnTo>
                        <a:pt x="155" y="94"/>
                      </a:lnTo>
                      <a:lnTo>
                        <a:pt x="124" y="83"/>
                      </a:lnTo>
                      <a:lnTo>
                        <a:pt x="94" y="70"/>
                      </a:lnTo>
                      <a:lnTo>
                        <a:pt x="64" y="53"/>
                      </a:lnTo>
                      <a:lnTo>
                        <a:pt x="34" y="40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44" y="16"/>
                      </a:lnTo>
                      <a:lnTo>
                        <a:pt x="77" y="30"/>
                      </a:lnTo>
                      <a:lnTo>
                        <a:pt x="104" y="47"/>
                      </a:lnTo>
                      <a:lnTo>
                        <a:pt x="134" y="60"/>
                      </a:lnTo>
                      <a:lnTo>
                        <a:pt x="161" y="67"/>
                      </a:lnTo>
                      <a:lnTo>
                        <a:pt x="191" y="73"/>
                      </a:lnTo>
                      <a:lnTo>
                        <a:pt x="208" y="73"/>
                      </a:lnTo>
                      <a:lnTo>
                        <a:pt x="228" y="70"/>
                      </a:lnTo>
                      <a:lnTo>
                        <a:pt x="249" y="67"/>
                      </a:lnTo>
                      <a:lnTo>
                        <a:pt x="272" y="60"/>
                      </a:lnTo>
                      <a:lnTo>
                        <a:pt x="27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2994840" y="5011560"/>
                  <a:ext cx="113760" cy="19080"/>
                </a:xfrm>
                <a:custGeom>
                  <a:avLst/>
                  <a:gdLst/>
                  <a:ahLst/>
                  <a:rect l="l" t="t" r="r" b="b"/>
                  <a:pathLst>
                    <a:path w="201" h="37">
                      <a:moveTo>
                        <a:pt x="191" y="37"/>
                      </a:moveTo>
                      <a:lnTo>
                        <a:pt x="168" y="31"/>
                      </a:lnTo>
                      <a:lnTo>
                        <a:pt x="144" y="27"/>
                      </a:lnTo>
                      <a:lnTo>
                        <a:pt x="124" y="27"/>
                      </a:lnTo>
                      <a:lnTo>
                        <a:pt x="100" y="31"/>
                      </a:lnTo>
                      <a:lnTo>
                        <a:pt x="53" y="37"/>
                      </a:lnTo>
                      <a:lnTo>
                        <a:pt x="26" y="37"/>
                      </a:lnTo>
                      <a:lnTo>
                        <a:pt x="0" y="37"/>
                      </a:lnTo>
                      <a:lnTo>
                        <a:pt x="0" y="11"/>
                      </a:lnTo>
                      <a:lnTo>
                        <a:pt x="26" y="11"/>
                      </a:lnTo>
                      <a:lnTo>
                        <a:pt x="50" y="11"/>
                      </a:lnTo>
                      <a:lnTo>
                        <a:pt x="97" y="4"/>
                      </a:lnTo>
                      <a:lnTo>
                        <a:pt x="121" y="0"/>
                      </a:lnTo>
                      <a:lnTo>
                        <a:pt x="147" y="0"/>
                      </a:lnTo>
                      <a:lnTo>
                        <a:pt x="174" y="4"/>
                      </a:lnTo>
                      <a:lnTo>
                        <a:pt x="201" y="11"/>
                      </a:lnTo>
                      <a:lnTo>
                        <a:pt x="1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3102840" y="5017320"/>
                  <a:ext cx="5400" cy="1332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1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0" y="2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891520" y="4952520"/>
                  <a:ext cx="102960" cy="7812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78" y="151"/>
                      </a:moveTo>
                      <a:lnTo>
                        <a:pt x="161" y="148"/>
                      </a:lnTo>
                      <a:lnTo>
                        <a:pt x="145" y="145"/>
                      </a:lnTo>
                      <a:lnTo>
                        <a:pt x="131" y="138"/>
                      </a:lnTo>
                      <a:lnTo>
                        <a:pt x="118" y="128"/>
                      </a:lnTo>
                      <a:lnTo>
                        <a:pt x="91" y="108"/>
                      </a:lnTo>
                      <a:lnTo>
                        <a:pt x="67" y="88"/>
                      </a:lnTo>
                      <a:lnTo>
                        <a:pt x="31" y="47"/>
                      </a:lnTo>
                      <a:lnTo>
                        <a:pt x="14" y="34"/>
                      </a:lnTo>
                      <a:lnTo>
                        <a:pt x="10" y="31"/>
                      </a:lnTo>
                      <a:lnTo>
                        <a:pt x="7" y="27"/>
                      </a:lnTo>
                      <a:lnTo>
                        <a:pt x="0" y="27"/>
                      </a:lnTo>
                      <a:lnTo>
                        <a:pt x="10" y="0"/>
                      </a:lnTo>
                      <a:lnTo>
                        <a:pt x="20" y="4"/>
                      </a:lnTo>
                      <a:lnTo>
                        <a:pt x="24" y="7"/>
                      </a:lnTo>
                      <a:lnTo>
                        <a:pt x="31" y="14"/>
                      </a:lnTo>
                      <a:lnTo>
                        <a:pt x="47" y="27"/>
                      </a:lnTo>
                      <a:lnTo>
                        <a:pt x="88" y="67"/>
                      </a:lnTo>
                      <a:lnTo>
                        <a:pt x="108" y="88"/>
                      </a:lnTo>
                      <a:lnTo>
                        <a:pt x="131" y="108"/>
                      </a:lnTo>
                      <a:lnTo>
                        <a:pt x="145" y="114"/>
                      </a:lnTo>
                      <a:lnTo>
                        <a:pt x="155" y="118"/>
                      </a:lnTo>
                      <a:lnTo>
                        <a:pt x="168" y="121"/>
                      </a:lnTo>
                      <a:lnTo>
                        <a:pt x="182" y="125"/>
                      </a:lnTo>
                      <a:lnTo>
                        <a:pt x="178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992320" y="5017320"/>
                  <a:ext cx="2160" cy="1332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4" y="26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747160" y="4916160"/>
                  <a:ext cx="149760" cy="50040"/>
                </a:xfrm>
                <a:custGeom>
                  <a:avLst/>
                  <a:gdLst/>
                  <a:ahLst/>
                  <a:rect l="l" t="t" r="r" b="b"/>
                  <a:pathLst>
                    <a:path w="265" h="97">
                      <a:moveTo>
                        <a:pt x="255" y="97"/>
                      </a:moveTo>
                      <a:lnTo>
                        <a:pt x="222" y="87"/>
                      </a:lnTo>
                      <a:lnTo>
                        <a:pt x="188" y="80"/>
                      </a:lnTo>
                      <a:lnTo>
                        <a:pt x="124" y="70"/>
                      </a:lnTo>
                      <a:lnTo>
                        <a:pt x="94" y="64"/>
                      </a:lnTo>
                      <a:lnTo>
                        <a:pt x="64" y="54"/>
                      </a:lnTo>
                      <a:lnTo>
                        <a:pt x="47" y="47"/>
                      </a:lnTo>
                      <a:lnTo>
                        <a:pt x="30" y="40"/>
                      </a:lnTo>
                      <a:lnTo>
                        <a:pt x="17" y="30"/>
                      </a:lnTo>
                      <a:lnTo>
                        <a:pt x="0" y="20"/>
                      </a:lnTo>
                      <a:lnTo>
                        <a:pt x="17" y="0"/>
                      </a:lnTo>
                      <a:lnTo>
                        <a:pt x="30" y="10"/>
                      </a:lnTo>
                      <a:lnTo>
                        <a:pt x="44" y="17"/>
                      </a:lnTo>
                      <a:lnTo>
                        <a:pt x="57" y="23"/>
                      </a:lnTo>
                      <a:lnTo>
                        <a:pt x="71" y="30"/>
                      </a:lnTo>
                      <a:lnTo>
                        <a:pt x="101" y="37"/>
                      </a:lnTo>
                      <a:lnTo>
                        <a:pt x="131" y="43"/>
                      </a:lnTo>
                      <a:lnTo>
                        <a:pt x="192" y="54"/>
                      </a:lnTo>
                      <a:lnTo>
                        <a:pt x="225" y="60"/>
                      </a:lnTo>
                      <a:lnTo>
                        <a:pt x="265" y="70"/>
                      </a:lnTo>
                      <a:lnTo>
                        <a:pt x="255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891520" y="4952520"/>
                  <a:ext cx="5400" cy="1368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0"/>
                      </a:moveTo>
                      <a:lnTo>
                        <a:pt x="0" y="2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2699640" y="4837680"/>
                  <a:ext cx="57240" cy="88560"/>
                </a:xfrm>
                <a:custGeom>
                  <a:avLst/>
                  <a:gdLst/>
                  <a:ahLst/>
                  <a:rect l="l" t="t" r="r" b="b"/>
                  <a:pathLst>
                    <a:path w="101" h="171">
                      <a:moveTo>
                        <a:pt x="84" y="171"/>
                      </a:moveTo>
                      <a:lnTo>
                        <a:pt x="74" y="164"/>
                      </a:lnTo>
                      <a:lnTo>
                        <a:pt x="64" y="154"/>
                      </a:lnTo>
                      <a:lnTo>
                        <a:pt x="51" y="137"/>
                      </a:lnTo>
                      <a:lnTo>
                        <a:pt x="44" y="124"/>
                      </a:lnTo>
                      <a:lnTo>
                        <a:pt x="40" y="114"/>
                      </a:lnTo>
                      <a:lnTo>
                        <a:pt x="30" y="94"/>
                      </a:lnTo>
                      <a:lnTo>
                        <a:pt x="17" y="53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23"/>
                      </a:lnTo>
                      <a:lnTo>
                        <a:pt x="44" y="43"/>
                      </a:lnTo>
                      <a:lnTo>
                        <a:pt x="57" y="87"/>
                      </a:lnTo>
                      <a:lnTo>
                        <a:pt x="64" y="104"/>
                      </a:lnTo>
                      <a:lnTo>
                        <a:pt x="67" y="114"/>
                      </a:lnTo>
                      <a:lnTo>
                        <a:pt x="74" y="121"/>
                      </a:lnTo>
                      <a:lnTo>
                        <a:pt x="84" y="137"/>
                      </a:lnTo>
                      <a:lnTo>
                        <a:pt x="94" y="144"/>
                      </a:lnTo>
                      <a:lnTo>
                        <a:pt x="101" y="151"/>
                      </a:lnTo>
                      <a:lnTo>
                        <a:pt x="84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2747160" y="49161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20"/>
                      </a:moveTo>
                      <a:lnTo>
                        <a:pt x="1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2559240" y="4745520"/>
                  <a:ext cx="153720" cy="99000"/>
                </a:xfrm>
                <a:custGeom>
                  <a:avLst/>
                  <a:gdLst/>
                  <a:ahLst/>
                  <a:rect l="l" t="t" r="r" b="b"/>
                  <a:pathLst>
                    <a:path w="272" h="191">
                      <a:moveTo>
                        <a:pt x="248" y="191"/>
                      </a:moveTo>
                      <a:lnTo>
                        <a:pt x="238" y="174"/>
                      </a:lnTo>
                      <a:lnTo>
                        <a:pt x="225" y="161"/>
                      </a:lnTo>
                      <a:lnTo>
                        <a:pt x="211" y="151"/>
                      </a:lnTo>
                      <a:lnTo>
                        <a:pt x="198" y="141"/>
                      </a:lnTo>
                      <a:lnTo>
                        <a:pt x="181" y="131"/>
                      </a:lnTo>
                      <a:lnTo>
                        <a:pt x="164" y="124"/>
                      </a:lnTo>
                      <a:lnTo>
                        <a:pt x="127" y="111"/>
                      </a:lnTo>
                      <a:lnTo>
                        <a:pt x="90" y="94"/>
                      </a:lnTo>
                      <a:lnTo>
                        <a:pt x="74" y="84"/>
                      </a:lnTo>
                      <a:lnTo>
                        <a:pt x="57" y="74"/>
                      </a:lnTo>
                      <a:lnTo>
                        <a:pt x="40" y="64"/>
                      </a:lnTo>
                      <a:lnTo>
                        <a:pt x="23" y="50"/>
                      </a:lnTo>
                      <a:lnTo>
                        <a:pt x="10" y="33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33" y="17"/>
                      </a:lnTo>
                      <a:lnTo>
                        <a:pt x="43" y="30"/>
                      </a:lnTo>
                      <a:lnTo>
                        <a:pt x="57" y="43"/>
                      </a:lnTo>
                      <a:lnTo>
                        <a:pt x="70" y="53"/>
                      </a:lnTo>
                      <a:lnTo>
                        <a:pt x="87" y="60"/>
                      </a:lnTo>
                      <a:lnTo>
                        <a:pt x="104" y="70"/>
                      </a:lnTo>
                      <a:lnTo>
                        <a:pt x="137" y="84"/>
                      </a:lnTo>
                      <a:lnTo>
                        <a:pt x="174" y="100"/>
                      </a:lnTo>
                      <a:lnTo>
                        <a:pt x="194" y="107"/>
                      </a:lnTo>
                      <a:lnTo>
                        <a:pt x="211" y="117"/>
                      </a:lnTo>
                      <a:lnTo>
                        <a:pt x="228" y="131"/>
                      </a:lnTo>
                      <a:lnTo>
                        <a:pt x="245" y="144"/>
                      </a:lnTo>
                      <a:lnTo>
                        <a:pt x="258" y="158"/>
                      </a:lnTo>
                      <a:lnTo>
                        <a:pt x="272" y="178"/>
                      </a:lnTo>
                      <a:lnTo>
                        <a:pt x="248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699640" y="4835880"/>
                  <a:ext cx="13320" cy="864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0" y="17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2423880" y="4560840"/>
                  <a:ext cx="148320" cy="191160"/>
                </a:xfrm>
                <a:custGeom>
                  <a:avLst/>
                  <a:gdLst/>
                  <a:ahLst/>
                  <a:rect l="l" t="t" r="r" b="b"/>
                  <a:pathLst>
                    <a:path w="262" h="369">
                      <a:moveTo>
                        <a:pt x="239" y="369"/>
                      </a:moveTo>
                      <a:lnTo>
                        <a:pt x="235" y="359"/>
                      </a:lnTo>
                      <a:lnTo>
                        <a:pt x="225" y="349"/>
                      </a:lnTo>
                      <a:lnTo>
                        <a:pt x="219" y="342"/>
                      </a:lnTo>
                      <a:lnTo>
                        <a:pt x="212" y="332"/>
                      </a:lnTo>
                      <a:lnTo>
                        <a:pt x="188" y="312"/>
                      </a:lnTo>
                      <a:lnTo>
                        <a:pt x="165" y="295"/>
                      </a:lnTo>
                      <a:lnTo>
                        <a:pt x="111" y="255"/>
                      </a:lnTo>
                      <a:lnTo>
                        <a:pt x="84" y="235"/>
                      </a:lnTo>
                      <a:lnTo>
                        <a:pt x="61" y="215"/>
                      </a:lnTo>
                      <a:lnTo>
                        <a:pt x="37" y="191"/>
                      </a:lnTo>
                      <a:lnTo>
                        <a:pt x="27" y="181"/>
                      </a:lnTo>
                      <a:lnTo>
                        <a:pt x="20" y="168"/>
                      </a:lnTo>
                      <a:lnTo>
                        <a:pt x="10" y="158"/>
                      </a:lnTo>
                      <a:lnTo>
                        <a:pt x="7" y="144"/>
                      </a:lnTo>
                      <a:lnTo>
                        <a:pt x="0" y="131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87"/>
                      </a:lnTo>
                      <a:lnTo>
                        <a:pt x="7" y="74"/>
                      </a:lnTo>
                      <a:lnTo>
                        <a:pt x="17" y="57"/>
                      </a:lnTo>
                      <a:lnTo>
                        <a:pt x="27" y="44"/>
                      </a:lnTo>
                      <a:lnTo>
                        <a:pt x="41" y="30"/>
                      </a:lnTo>
                      <a:lnTo>
                        <a:pt x="74" y="0"/>
                      </a:lnTo>
                      <a:lnTo>
                        <a:pt x="91" y="20"/>
                      </a:lnTo>
                      <a:lnTo>
                        <a:pt x="57" y="47"/>
                      </a:lnTo>
                      <a:lnTo>
                        <a:pt x="47" y="60"/>
                      </a:lnTo>
                      <a:lnTo>
                        <a:pt x="41" y="74"/>
                      </a:lnTo>
                      <a:lnTo>
                        <a:pt x="34" y="84"/>
                      </a:lnTo>
                      <a:lnTo>
                        <a:pt x="30" y="94"/>
                      </a:lnTo>
                      <a:lnTo>
                        <a:pt x="27" y="104"/>
                      </a:lnTo>
                      <a:lnTo>
                        <a:pt x="27" y="114"/>
                      </a:lnTo>
                      <a:lnTo>
                        <a:pt x="27" y="124"/>
                      </a:lnTo>
                      <a:lnTo>
                        <a:pt x="30" y="134"/>
                      </a:lnTo>
                      <a:lnTo>
                        <a:pt x="34" y="144"/>
                      </a:lnTo>
                      <a:lnTo>
                        <a:pt x="41" y="154"/>
                      </a:lnTo>
                      <a:lnTo>
                        <a:pt x="47" y="164"/>
                      </a:lnTo>
                      <a:lnTo>
                        <a:pt x="57" y="174"/>
                      </a:lnTo>
                      <a:lnTo>
                        <a:pt x="77" y="195"/>
                      </a:lnTo>
                      <a:lnTo>
                        <a:pt x="101" y="215"/>
                      </a:lnTo>
                      <a:lnTo>
                        <a:pt x="128" y="235"/>
                      </a:lnTo>
                      <a:lnTo>
                        <a:pt x="182" y="272"/>
                      </a:lnTo>
                      <a:lnTo>
                        <a:pt x="205" y="292"/>
                      </a:lnTo>
                      <a:lnTo>
                        <a:pt x="229" y="312"/>
                      </a:lnTo>
                      <a:lnTo>
                        <a:pt x="239" y="322"/>
                      </a:lnTo>
                      <a:lnTo>
                        <a:pt x="249" y="332"/>
                      </a:lnTo>
                      <a:lnTo>
                        <a:pt x="255" y="346"/>
                      </a:lnTo>
                      <a:lnTo>
                        <a:pt x="262" y="356"/>
                      </a:lnTo>
                      <a:lnTo>
                        <a:pt x="239" y="3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559240" y="474552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3"/>
                      </a:moveTo>
                      <a:lnTo>
                        <a:pt x="2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325320" y="4876200"/>
                  <a:ext cx="81360" cy="121680"/>
                </a:xfrm>
                <a:custGeom>
                  <a:avLst/>
                  <a:gdLst/>
                  <a:ahLst/>
                  <a:rect l="l" t="t" r="r" b="b"/>
                  <a:pathLst>
                    <a:path w="144" h="235">
                      <a:moveTo>
                        <a:pt x="107" y="228"/>
                      </a:moveTo>
                      <a:lnTo>
                        <a:pt x="111" y="204"/>
                      </a:lnTo>
                      <a:lnTo>
                        <a:pt x="114" y="181"/>
                      </a:lnTo>
                      <a:lnTo>
                        <a:pt x="117" y="141"/>
                      </a:lnTo>
                      <a:lnTo>
                        <a:pt x="117" y="127"/>
                      </a:lnTo>
                      <a:lnTo>
                        <a:pt x="114" y="114"/>
                      </a:lnTo>
                      <a:lnTo>
                        <a:pt x="111" y="100"/>
                      </a:lnTo>
                      <a:lnTo>
                        <a:pt x="107" y="87"/>
                      </a:lnTo>
                      <a:lnTo>
                        <a:pt x="101" y="77"/>
                      </a:lnTo>
                      <a:lnTo>
                        <a:pt x="91" y="70"/>
                      </a:lnTo>
                      <a:lnTo>
                        <a:pt x="81" y="60"/>
                      </a:lnTo>
                      <a:lnTo>
                        <a:pt x="70" y="53"/>
                      </a:lnTo>
                      <a:lnTo>
                        <a:pt x="57" y="47"/>
                      </a:lnTo>
                      <a:lnTo>
                        <a:pt x="40" y="40"/>
                      </a:lnTo>
                      <a:lnTo>
                        <a:pt x="20" y="33"/>
                      </a:lnTo>
                      <a:lnTo>
                        <a:pt x="0" y="26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0" y="13"/>
                      </a:lnTo>
                      <a:lnTo>
                        <a:pt x="67" y="23"/>
                      </a:lnTo>
                      <a:lnTo>
                        <a:pt x="84" y="30"/>
                      </a:lnTo>
                      <a:lnTo>
                        <a:pt x="97" y="40"/>
                      </a:lnTo>
                      <a:lnTo>
                        <a:pt x="111" y="50"/>
                      </a:lnTo>
                      <a:lnTo>
                        <a:pt x="121" y="60"/>
                      </a:lnTo>
                      <a:lnTo>
                        <a:pt x="128" y="73"/>
                      </a:lnTo>
                      <a:lnTo>
                        <a:pt x="138" y="90"/>
                      </a:lnTo>
                      <a:lnTo>
                        <a:pt x="141" y="107"/>
                      </a:lnTo>
                      <a:lnTo>
                        <a:pt x="141" y="124"/>
                      </a:lnTo>
                      <a:lnTo>
                        <a:pt x="144" y="144"/>
                      </a:lnTo>
                      <a:lnTo>
                        <a:pt x="141" y="184"/>
                      </a:lnTo>
                      <a:lnTo>
                        <a:pt x="138" y="208"/>
                      </a:lnTo>
                      <a:lnTo>
                        <a:pt x="131" y="235"/>
                      </a:lnTo>
                      <a:lnTo>
                        <a:pt x="107" y="2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2535840" y="4501800"/>
                  <a:ext cx="104760" cy="9540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14" y="110"/>
                      </a:moveTo>
                      <a:lnTo>
                        <a:pt x="7" y="90"/>
                      </a:lnTo>
                      <a:lnTo>
                        <a:pt x="0" y="74"/>
                      </a:lnTo>
                      <a:lnTo>
                        <a:pt x="0" y="57"/>
                      </a:lnTo>
                      <a:lnTo>
                        <a:pt x="4" y="47"/>
                      </a:lnTo>
                      <a:lnTo>
                        <a:pt x="4" y="40"/>
                      </a:lnTo>
                      <a:lnTo>
                        <a:pt x="10" y="27"/>
                      </a:lnTo>
                      <a:lnTo>
                        <a:pt x="21" y="16"/>
                      </a:lnTo>
                      <a:lnTo>
                        <a:pt x="24" y="10"/>
                      </a:lnTo>
                      <a:lnTo>
                        <a:pt x="31" y="6"/>
                      </a:lnTo>
                      <a:lnTo>
                        <a:pt x="47" y="0"/>
                      </a:lnTo>
                      <a:lnTo>
                        <a:pt x="64" y="0"/>
                      </a:lnTo>
                      <a:lnTo>
                        <a:pt x="81" y="0"/>
                      </a:lnTo>
                      <a:lnTo>
                        <a:pt x="98" y="6"/>
                      </a:lnTo>
                      <a:lnTo>
                        <a:pt x="115" y="13"/>
                      </a:lnTo>
                      <a:lnTo>
                        <a:pt x="131" y="27"/>
                      </a:lnTo>
                      <a:lnTo>
                        <a:pt x="148" y="40"/>
                      </a:lnTo>
                      <a:lnTo>
                        <a:pt x="162" y="57"/>
                      </a:lnTo>
                      <a:lnTo>
                        <a:pt x="172" y="74"/>
                      </a:lnTo>
                      <a:lnTo>
                        <a:pt x="178" y="94"/>
                      </a:lnTo>
                      <a:lnTo>
                        <a:pt x="182" y="110"/>
                      </a:lnTo>
                      <a:lnTo>
                        <a:pt x="185" y="127"/>
                      </a:lnTo>
                      <a:lnTo>
                        <a:pt x="182" y="134"/>
                      </a:lnTo>
                      <a:lnTo>
                        <a:pt x="182" y="144"/>
                      </a:lnTo>
                      <a:lnTo>
                        <a:pt x="175" y="158"/>
                      </a:lnTo>
                      <a:lnTo>
                        <a:pt x="165" y="168"/>
                      </a:lnTo>
                      <a:lnTo>
                        <a:pt x="162" y="174"/>
                      </a:lnTo>
                      <a:lnTo>
                        <a:pt x="155" y="178"/>
                      </a:lnTo>
                      <a:lnTo>
                        <a:pt x="138" y="181"/>
                      </a:lnTo>
                      <a:lnTo>
                        <a:pt x="121" y="184"/>
                      </a:lnTo>
                      <a:lnTo>
                        <a:pt x="104" y="181"/>
                      </a:lnTo>
                      <a:lnTo>
                        <a:pt x="88" y="178"/>
                      </a:lnTo>
                      <a:lnTo>
                        <a:pt x="71" y="168"/>
                      </a:lnTo>
                      <a:lnTo>
                        <a:pt x="54" y="158"/>
                      </a:lnTo>
                      <a:lnTo>
                        <a:pt x="37" y="144"/>
                      </a:lnTo>
                      <a:lnTo>
                        <a:pt x="24" y="127"/>
                      </a:lnTo>
                      <a:lnTo>
                        <a:pt x="14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2528640" y="4494240"/>
                  <a:ext cx="36000" cy="67680"/>
                </a:xfrm>
                <a:custGeom>
                  <a:avLst/>
                  <a:gdLst/>
                  <a:ahLst/>
                  <a:rect l="l" t="t" r="r" b="b"/>
                  <a:pathLst>
                    <a:path w="64" h="131">
                      <a:moveTo>
                        <a:pt x="13" y="131"/>
                      </a:moveTo>
                      <a:lnTo>
                        <a:pt x="7" y="111"/>
                      </a:lnTo>
                      <a:lnTo>
                        <a:pt x="0" y="91"/>
                      </a:lnTo>
                      <a:lnTo>
                        <a:pt x="0" y="71"/>
                      </a:lnTo>
                      <a:lnTo>
                        <a:pt x="0" y="57"/>
                      </a:lnTo>
                      <a:lnTo>
                        <a:pt x="3" y="51"/>
                      </a:lnTo>
                      <a:lnTo>
                        <a:pt x="10" y="34"/>
                      </a:lnTo>
                      <a:lnTo>
                        <a:pt x="23" y="20"/>
                      </a:lnTo>
                      <a:lnTo>
                        <a:pt x="30" y="14"/>
                      </a:lnTo>
                      <a:lnTo>
                        <a:pt x="37" y="7"/>
                      </a:lnTo>
                      <a:lnTo>
                        <a:pt x="54" y="0"/>
                      </a:lnTo>
                      <a:lnTo>
                        <a:pt x="64" y="27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44" y="41"/>
                      </a:lnTo>
                      <a:lnTo>
                        <a:pt x="34" y="47"/>
                      </a:lnTo>
                      <a:lnTo>
                        <a:pt x="30" y="61"/>
                      </a:lnTo>
                      <a:lnTo>
                        <a:pt x="30" y="64"/>
                      </a:lnTo>
                      <a:lnTo>
                        <a:pt x="27" y="71"/>
                      </a:lnTo>
                      <a:lnTo>
                        <a:pt x="27" y="84"/>
                      </a:lnTo>
                      <a:lnTo>
                        <a:pt x="34" y="101"/>
                      </a:lnTo>
                      <a:lnTo>
                        <a:pt x="40" y="118"/>
                      </a:lnTo>
                      <a:lnTo>
                        <a:pt x="13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2560680" y="4494240"/>
                  <a:ext cx="78120" cy="48600"/>
                </a:xfrm>
                <a:custGeom>
                  <a:avLst/>
                  <a:gdLst/>
                  <a:ahLst/>
                  <a:rect l="l" t="t" r="r" b="b"/>
                  <a:pathLst>
                    <a:path w="138" h="94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0" y="0"/>
                      </a:lnTo>
                      <a:lnTo>
                        <a:pt x="60" y="7"/>
                      </a:lnTo>
                      <a:lnTo>
                        <a:pt x="77" y="17"/>
                      </a:lnTo>
                      <a:lnTo>
                        <a:pt x="97" y="30"/>
                      </a:lnTo>
                      <a:lnTo>
                        <a:pt x="114" y="44"/>
                      </a:lnTo>
                      <a:lnTo>
                        <a:pt x="128" y="61"/>
                      </a:lnTo>
                      <a:lnTo>
                        <a:pt x="138" y="81"/>
                      </a:lnTo>
                      <a:lnTo>
                        <a:pt x="114" y="94"/>
                      </a:lnTo>
                      <a:lnTo>
                        <a:pt x="104" y="77"/>
                      </a:lnTo>
                      <a:lnTo>
                        <a:pt x="91" y="64"/>
                      </a:lnTo>
                      <a:lnTo>
                        <a:pt x="77" y="51"/>
                      </a:lnTo>
                      <a:lnTo>
                        <a:pt x="64" y="41"/>
                      </a:lnTo>
                      <a:lnTo>
                        <a:pt x="50" y="34"/>
                      </a:lnTo>
                      <a:lnTo>
                        <a:pt x="34" y="30"/>
                      </a:lnTo>
                      <a:lnTo>
                        <a:pt x="20" y="27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2559240" y="4494240"/>
                  <a:ext cx="5400" cy="154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0"/>
                      </a:lnTo>
                      <a:lnTo>
                        <a:pt x="1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610000" y="4536360"/>
                  <a:ext cx="37800" cy="65880"/>
                </a:xfrm>
                <a:custGeom>
                  <a:avLst/>
                  <a:gdLst/>
                  <a:ahLst/>
                  <a:rect l="l" t="t" r="r" b="b"/>
                  <a:pathLst>
                    <a:path w="67" h="127">
                      <a:moveTo>
                        <a:pt x="54" y="0"/>
                      </a:moveTo>
                      <a:lnTo>
                        <a:pt x="61" y="20"/>
                      </a:lnTo>
                      <a:lnTo>
                        <a:pt x="67" y="40"/>
                      </a:lnTo>
                      <a:lnTo>
                        <a:pt x="67" y="60"/>
                      </a:lnTo>
                      <a:lnTo>
                        <a:pt x="64" y="70"/>
                      </a:lnTo>
                      <a:lnTo>
                        <a:pt x="64" y="80"/>
                      </a:lnTo>
                      <a:lnTo>
                        <a:pt x="54" y="97"/>
                      </a:lnTo>
                      <a:lnTo>
                        <a:pt x="44" y="111"/>
                      </a:lnTo>
                      <a:lnTo>
                        <a:pt x="37" y="117"/>
                      </a:lnTo>
                      <a:lnTo>
                        <a:pt x="27" y="124"/>
                      </a:lnTo>
                      <a:lnTo>
                        <a:pt x="14" y="127"/>
                      </a:lnTo>
                      <a:lnTo>
                        <a:pt x="0" y="104"/>
                      </a:lnTo>
                      <a:lnTo>
                        <a:pt x="17" y="97"/>
                      </a:lnTo>
                      <a:lnTo>
                        <a:pt x="20" y="94"/>
                      </a:lnTo>
                      <a:lnTo>
                        <a:pt x="24" y="91"/>
                      </a:lnTo>
                      <a:lnTo>
                        <a:pt x="31" y="84"/>
                      </a:lnTo>
                      <a:lnTo>
                        <a:pt x="37" y="70"/>
                      </a:lnTo>
                      <a:lnTo>
                        <a:pt x="37" y="67"/>
                      </a:lnTo>
                      <a:lnTo>
                        <a:pt x="37" y="60"/>
                      </a:lnTo>
                      <a:lnTo>
                        <a:pt x="37" y="43"/>
                      </a:lnTo>
                      <a:lnTo>
                        <a:pt x="34" y="30"/>
                      </a:lnTo>
                      <a:lnTo>
                        <a:pt x="27" y="1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2625480" y="45363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2535840" y="4555440"/>
                  <a:ext cx="79560" cy="48600"/>
                </a:xfrm>
                <a:custGeom>
                  <a:avLst/>
                  <a:gdLst/>
                  <a:ahLst/>
                  <a:rect l="l" t="t" r="r" b="b"/>
                  <a:pathLst>
                    <a:path w="141" h="94">
                      <a:moveTo>
                        <a:pt x="141" y="94"/>
                      </a:moveTo>
                      <a:lnTo>
                        <a:pt x="121" y="94"/>
                      </a:lnTo>
                      <a:lnTo>
                        <a:pt x="101" y="94"/>
                      </a:lnTo>
                      <a:lnTo>
                        <a:pt x="81" y="87"/>
                      </a:lnTo>
                      <a:lnTo>
                        <a:pt x="61" y="77"/>
                      </a:lnTo>
                      <a:lnTo>
                        <a:pt x="44" y="64"/>
                      </a:lnTo>
                      <a:lnTo>
                        <a:pt x="27" y="50"/>
                      </a:lnTo>
                      <a:lnTo>
                        <a:pt x="14" y="33"/>
                      </a:lnTo>
                      <a:lnTo>
                        <a:pt x="0" y="13"/>
                      </a:lnTo>
                      <a:lnTo>
                        <a:pt x="24" y="0"/>
                      </a:lnTo>
                      <a:lnTo>
                        <a:pt x="34" y="17"/>
                      </a:lnTo>
                      <a:lnTo>
                        <a:pt x="47" y="30"/>
                      </a:lnTo>
                      <a:lnTo>
                        <a:pt x="61" y="43"/>
                      </a:lnTo>
                      <a:lnTo>
                        <a:pt x="78" y="54"/>
                      </a:lnTo>
                      <a:lnTo>
                        <a:pt x="91" y="60"/>
                      </a:lnTo>
                      <a:lnTo>
                        <a:pt x="108" y="64"/>
                      </a:lnTo>
                      <a:lnTo>
                        <a:pt x="121" y="67"/>
                      </a:lnTo>
                      <a:lnTo>
                        <a:pt x="135" y="64"/>
                      </a:lnTo>
                      <a:lnTo>
                        <a:pt x="14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610000" y="4588920"/>
                  <a:ext cx="7560" cy="1548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14" y="26"/>
                      </a:moveTo>
                      <a:lnTo>
                        <a:pt x="10" y="3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2535840" y="455544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0" y="13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7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grpSp>
        <p:nvGrpSpPr>
          <p:cNvPr id="1889" name=""/>
          <p:cNvGrpSpPr/>
          <p:nvPr/>
        </p:nvGrpSpPr>
        <p:grpSpPr>
          <a:xfrm>
            <a:off x="539640" y="3716280"/>
            <a:ext cx="3912120" cy="1484280"/>
            <a:chOff x="539640" y="3716280"/>
            <a:chExt cx="3912120" cy="1484280"/>
          </a:xfrm>
        </p:grpSpPr>
        <p:grpSp>
          <p:nvGrpSpPr>
            <p:cNvPr id="1890" name=""/>
            <p:cNvGrpSpPr/>
            <p:nvPr/>
          </p:nvGrpSpPr>
          <p:grpSpPr>
            <a:xfrm>
              <a:off x="684360" y="4076640"/>
              <a:ext cx="1304640" cy="803160"/>
              <a:chOff x="684360" y="4076640"/>
              <a:chExt cx="1304640" cy="803160"/>
            </a:xfrm>
          </p:grpSpPr>
          <p:sp>
            <p:nvSpPr>
              <p:cNvPr id="1891" name=""/>
              <p:cNvSpPr/>
              <p:nvPr/>
            </p:nvSpPr>
            <p:spPr>
              <a:xfrm>
                <a:off x="746640" y="442404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90280" y="4183200"/>
                <a:ext cx="166680" cy="838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48320" y="41832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53120" y="4254120"/>
                <a:ext cx="143280" cy="3204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90280" y="42541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53120" y="42728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99480" y="40996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63920" y="40788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91200" y="42768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84360" y="414180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57880" y="4084200"/>
                <a:ext cx="81360" cy="4212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57880" y="411120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930960" y="40842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999360" y="420444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99800" y="420444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926640" y="4294080"/>
                <a:ext cx="83520" cy="208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99360" y="4294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9240" y="4294080"/>
                <a:ext cx="78840" cy="644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1960" y="42940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57440" y="4337640"/>
                <a:ext cx="96120" cy="2484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49240" y="434592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95160" y="4082760"/>
                <a:ext cx="1286640" cy="7898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521360" y="4818960"/>
                <a:ext cx="106920" cy="49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622160" y="4853160"/>
                <a:ext cx="135000" cy="2664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20360" y="48531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755000" y="482832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5000" y="48646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70920" y="4771440"/>
                <a:ext cx="78840" cy="702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70920" y="48283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937160" y="4702680"/>
                <a:ext cx="51480" cy="7776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937160" y="47714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967400" y="4587840"/>
                <a:ext cx="21600" cy="11808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973880" y="47026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890000" y="4496400"/>
                <a:ext cx="91800" cy="9720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967400" y="45842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793880" y="4471200"/>
                <a:ext cx="104400" cy="3636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90000" y="44946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667520" y="4441320"/>
                <a:ext cx="132480" cy="435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93880" y="447120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547640" y="4406400"/>
                <a:ext cx="126000" cy="475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667520" y="444132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423440" y="4364280"/>
                <a:ext cx="130680" cy="5544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547640" y="440640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326960" y="4311000"/>
                <a:ext cx="104400" cy="6516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421280" y="436428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247760" y="4265640"/>
                <a:ext cx="89640" cy="5724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326960" y="431100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149120" y="4206600"/>
                <a:ext cx="108720" cy="702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247760" y="42656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069920" y="4136040"/>
                <a:ext cx="89640" cy="817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149120" y="4206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003680" y="4088160"/>
                <a:ext cx="77040" cy="590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069920" y="41360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905040" y="4076640"/>
                <a:ext cx="105120" cy="2484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003680" y="40881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812880" y="4076640"/>
                <a:ext cx="96120" cy="475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901080" y="40766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12080" y="4111200"/>
                <a:ext cx="108720" cy="874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811080" y="411120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6880" y="4191120"/>
                <a:ext cx="40680" cy="932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10280" y="418716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86880" y="4282560"/>
                <a:ext cx="53280" cy="9540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86880" y="428256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5040" y="437256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3240" y="43725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11080" y="4460040"/>
                <a:ext cx="136800" cy="9936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811080" y="44600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937440" y="4547880"/>
                <a:ext cx="130680" cy="9288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937440" y="4547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059120" y="4629960"/>
                <a:ext cx="147600" cy="9540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057320" y="46299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198440" y="471204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198440" y="471204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365480" y="4768920"/>
                <a:ext cx="163080" cy="630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363320" y="476892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521360" y="481680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831960" y="4122360"/>
                <a:ext cx="1070640" cy="636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804680" y="468900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888200" y="4601520"/>
                <a:ext cx="20880" cy="9288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888200" y="46890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36720" y="452700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894680" y="45975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648440" y="4471200"/>
                <a:ext cx="196920" cy="6696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836720" y="45248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461600" y="4416120"/>
                <a:ext cx="192960" cy="6840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48440" y="447120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284480" y="4336200"/>
                <a:ext cx="185760" cy="9360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461600" y="441612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161720" y="4251960"/>
                <a:ext cx="130680" cy="9540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281600" y="433620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046520" y="4183200"/>
                <a:ext cx="126000" cy="806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161720" y="42519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971280" y="4116960"/>
                <a:ext cx="86040" cy="781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046520" y="418320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79480" y="4116960"/>
                <a:ext cx="100440" cy="3780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971280" y="4115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24040" y="4143600"/>
                <a:ext cx="66240" cy="781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74800" y="4141800"/>
                <a:ext cx="15120" cy="12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24040" y="4217760"/>
                <a:ext cx="29880" cy="100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824040" y="4213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838440" y="4313520"/>
                <a:ext cx="98640" cy="104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836640" y="431352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926640" y="4406400"/>
                <a:ext cx="147600" cy="896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924840" y="440640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65600" y="4483080"/>
                <a:ext cx="167040" cy="10656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5600" y="448308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224360" y="4576320"/>
                <a:ext cx="200520" cy="11448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224360" y="457632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418760" y="4676040"/>
                <a:ext cx="182160" cy="6300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416960" y="46760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596960" y="4723560"/>
                <a:ext cx="213840" cy="435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596960" y="47235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804680" y="47520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883800" y="4129920"/>
                <a:ext cx="1018800" cy="61236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875600" y="4650840"/>
                <a:ext cx="33480" cy="7596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881720" y="4580280"/>
                <a:ext cx="27000" cy="7416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894680" y="465084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836720" y="452700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881720" y="45788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675800" y="4494600"/>
                <a:ext cx="169560" cy="435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836720" y="45248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521360" y="445248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4000" y="44946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344240" y="4389480"/>
                <a:ext cx="186120" cy="7596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521360" y="445248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189800" y="4299840"/>
                <a:ext cx="162360" cy="100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341720" y="43894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089000" y="4229280"/>
                <a:ext cx="111600" cy="817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189800" y="4299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997200" y="414756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089000" y="4229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926640" y="4124160"/>
                <a:ext cx="78840" cy="360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997200" y="41475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877320" y="412632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924840" y="41223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74800" y="417744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73000" y="41774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921960" y="4233240"/>
                <a:ext cx="96120" cy="3204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915840" y="423324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010160" y="425196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010160" y="42501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095480" y="4317120"/>
                <a:ext cx="111240" cy="835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095480" y="4317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198440" y="438948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196280" y="43894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322640" y="4441320"/>
                <a:ext cx="176040" cy="7776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322640" y="444132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491480" y="4504320"/>
                <a:ext cx="147600" cy="622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489680" y="450432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35120" y="4552200"/>
                <a:ext cx="130680" cy="50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35120" y="45522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759320" y="4590000"/>
                <a:ext cx="74880" cy="5328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759320" y="45878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808640" y="4633920"/>
                <a:ext cx="29880" cy="5472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821960" y="462996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808640" y="4689000"/>
                <a:ext cx="23400" cy="5544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808640" y="468720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821960" y="471564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5480" y="473508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875600" y="4715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543320" y="4712040"/>
                <a:ext cx="177840" cy="5508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421280" y="4705920"/>
                <a:ext cx="127800" cy="208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543320" y="471204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305360" y="464112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418760" y="471204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42640" y="4601520"/>
                <a:ext cx="168840" cy="5508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305360" y="46411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089000" y="4515480"/>
                <a:ext cx="64440" cy="9684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142640" y="4601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930960" y="4414320"/>
                <a:ext cx="173160" cy="10836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089000" y="45133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78680" y="4212360"/>
                <a:ext cx="166680" cy="20952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30960" y="441432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793880" y="4557600"/>
                <a:ext cx="91800" cy="1332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05040" y="4147560"/>
                <a:ext cx="117720" cy="104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896760" y="4139640"/>
                <a:ext cx="40680" cy="7416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32760" y="4139640"/>
                <a:ext cx="87840" cy="5328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30960" y="41396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88560" y="4185360"/>
                <a:ext cx="42480" cy="7200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005480" y="418536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5040" y="4206600"/>
                <a:ext cx="89640" cy="532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988560" y="4242960"/>
                <a:ext cx="8640" cy="169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905040" y="420660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4" name=""/>
            <p:cNvGrpSpPr/>
            <p:nvPr/>
          </p:nvGrpSpPr>
          <p:grpSpPr>
            <a:xfrm>
              <a:off x="1476360" y="4363920"/>
              <a:ext cx="1339560" cy="836640"/>
              <a:chOff x="1476360" y="4363920"/>
              <a:chExt cx="1339560" cy="836640"/>
            </a:xfrm>
          </p:grpSpPr>
          <p:sp>
            <p:nvSpPr>
              <p:cNvPr id="2075" name=""/>
              <p:cNvSpPr/>
              <p:nvPr/>
            </p:nvSpPr>
            <p:spPr>
              <a:xfrm>
                <a:off x="1540440" y="4725720"/>
                <a:ext cx="180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687680" y="4475160"/>
                <a:ext cx="17136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850040" y="44751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546920" y="4548960"/>
                <a:ext cx="14724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687680" y="45489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546920" y="45684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491840" y="43880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558080" y="436608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483560" y="457272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476360" y="443196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54560" y="4371840"/>
                <a:ext cx="835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54560" y="43999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729800" y="43718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799640" y="4496760"/>
                <a:ext cx="10980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903320" y="44967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725120" y="4590360"/>
                <a:ext cx="8568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799640" y="4590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645920" y="4590360"/>
                <a:ext cx="8100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720440" y="45903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551600" y="4636080"/>
                <a:ext cx="986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645920" y="464436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487160" y="4370040"/>
                <a:ext cx="13215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336040" y="5137200"/>
                <a:ext cx="10980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439720" y="5172840"/>
                <a:ext cx="13860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437560" y="51728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75800" y="5146920"/>
                <a:ext cx="12744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75800" y="51847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694960" y="50875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694960" y="5146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763000" y="5015880"/>
                <a:ext cx="529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763000" y="508752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793960" y="4896360"/>
                <a:ext cx="219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00440" y="501588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14760" y="4800960"/>
                <a:ext cx="9396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793960" y="489276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615760" y="4775040"/>
                <a:ext cx="1072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714760" y="47991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86160" y="4743720"/>
                <a:ext cx="13608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15760" y="47750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63040" y="4707720"/>
                <a:ext cx="1296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486160" y="47437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235240" y="4663800"/>
                <a:ext cx="13392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63040" y="470772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136240" y="4608000"/>
                <a:ext cx="1072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233440" y="46638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055240" y="4560840"/>
                <a:ext cx="9216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136240" y="46080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1953720" y="4499280"/>
                <a:ext cx="11196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055240" y="4560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872360" y="4425840"/>
                <a:ext cx="9216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953720" y="449928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804320" y="4376160"/>
                <a:ext cx="7884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872360" y="4425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702800" y="4363920"/>
                <a:ext cx="10800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804320" y="437616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608480" y="4363920"/>
                <a:ext cx="986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698840" y="436392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505160" y="4399920"/>
                <a:ext cx="11196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606680" y="439992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478880" y="4483080"/>
                <a:ext cx="4176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503000" y="4479120"/>
                <a:ext cx="1764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478880" y="4578480"/>
                <a:ext cx="5472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478880" y="457848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518120" y="4672080"/>
                <a:ext cx="10116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515960" y="46720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606680" y="4763160"/>
                <a:ext cx="14076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606680" y="476316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736280" y="4854960"/>
                <a:ext cx="13392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736280" y="48549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861200" y="4940280"/>
                <a:ext cx="15192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859400" y="4940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04120" y="5025960"/>
                <a:ext cx="17784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04120" y="50259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75840" y="5085000"/>
                <a:ext cx="1674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173680" y="50850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336040" y="51350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628280" y="4411800"/>
                <a:ext cx="10994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626920" y="50018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712960" y="4910400"/>
                <a:ext cx="2124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712960" y="50018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659680" y="4833000"/>
                <a:ext cx="7452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719440" y="4906440"/>
                <a:ext cx="147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466360" y="4775040"/>
                <a:ext cx="20196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659680" y="48308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274480" y="4717800"/>
                <a:ext cx="1983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466360" y="47750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092680" y="4634280"/>
                <a:ext cx="19080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274480" y="4717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966680" y="4546440"/>
                <a:ext cx="13392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089800" y="4634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48240" y="4475160"/>
                <a:ext cx="1296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966680" y="45464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770840" y="4405680"/>
                <a:ext cx="8820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848240" y="44751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676520" y="4405680"/>
                <a:ext cx="10332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770840" y="44038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619640" y="4433400"/>
                <a:ext cx="6804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672200" y="443196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619640" y="4511160"/>
                <a:ext cx="306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619640" y="450684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634760" y="4610520"/>
                <a:ext cx="10152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632600" y="46105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25120" y="4707720"/>
                <a:ext cx="15192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23320" y="47077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867680" y="4787640"/>
                <a:ext cx="17136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867680" y="478764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030760" y="4884480"/>
                <a:ext cx="2062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030760" y="488448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230560" y="4988160"/>
                <a:ext cx="18720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228760" y="498816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413440" y="5037840"/>
                <a:ext cx="21996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413440" y="50378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626920" y="50673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81200" y="4419360"/>
                <a:ext cx="10461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699640" y="4962240"/>
                <a:ext cx="3456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706120" y="4888800"/>
                <a:ext cx="2772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719440" y="4962240"/>
                <a:ext cx="147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659680" y="4833000"/>
                <a:ext cx="6120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706120" y="488700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494440" y="4799160"/>
                <a:ext cx="17388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659680" y="48308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336040" y="4755600"/>
                <a:ext cx="16272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492640" y="479916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153880" y="4689720"/>
                <a:ext cx="191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336040" y="475560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995480" y="4596480"/>
                <a:ext cx="16704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151360" y="46897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892160" y="4523040"/>
                <a:ext cx="114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995480" y="45964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797840" y="4437720"/>
                <a:ext cx="10512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892160" y="45230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725120" y="441324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797840" y="44377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674720" y="4415760"/>
                <a:ext cx="615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723320" y="44118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672200" y="4469040"/>
                <a:ext cx="5760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670040" y="446904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720440" y="4527000"/>
                <a:ext cx="986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713960" y="452700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810800" y="45464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810800" y="45446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898640" y="4614480"/>
                <a:ext cx="114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898640" y="461448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004120" y="4689720"/>
                <a:ext cx="1364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001960" y="46897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131920" y="4743720"/>
                <a:ext cx="18072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131920" y="47437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305440" y="4809240"/>
                <a:ext cx="15192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303280" y="480924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452680" y="4859280"/>
                <a:ext cx="13392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452680" y="48592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580480" y="4898880"/>
                <a:ext cx="7704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580480" y="48963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630880" y="4944240"/>
                <a:ext cx="306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644560" y="494028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630880" y="500184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630880" y="500004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644560" y="5029560"/>
                <a:ext cx="6516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638080" y="504972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699640" y="502956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358360" y="5025960"/>
                <a:ext cx="18252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233440" y="501948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358360" y="502596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113920" y="4952160"/>
                <a:ext cx="11916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230560" y="502596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947240" y="4910400"/>
                <a:ext cx="17316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113920" y="49521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892160" y="4821120"/>
                <a:ext cx="6624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947240" y="491040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729800" y="4715640"/>
                <a:ext cx="17784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892160" y="481896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573200" y="4505040"/>
                <a:ext cx="17136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729800" y="4715640"/>
                <a:ext cx="147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615760" y="4865040"/>
                <a:ext cx="9396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702800" y="4437720"/>
                <a:ext cx="12096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694520" y="4429440"/>
                <a:ext cx="4176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731600" y="4429440"/>
                <a:ext cx="9036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729800" y="442944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788840" y="4477320"/>
                <a:ext cx="4356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806480" y="447732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702800" y="449928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788840" y="4537080"/>
                <a:ext cx="900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702800" y="449928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1692360" y="3931920"/>
              <a:ext cx="1655640" cy="836640"/>
              <a:chOff x="1692360" y="3931920"/>
              <a:chExt cx="1655640" cy="836640"/>
            </a:xfrm>
          </p:grpSpPr>
          <p:sp>
            <p:nvSpPr>
              <p:cNvPr id="2259" name=""/>
              <p:cNvSpPr/>
              <p:nvPr/>
            </p:nvSpPr>
            <p:spPr>
              <a:xfrm>
                <a:off x="1771560" y="429372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953720" y="4043160"/>
                <a:ext cx="21168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2154240" y="40431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779840" y="4116960"/>
                <a:ext cx="18180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953720" y="411696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779840" y="41364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711800" y="395604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793520" y="393408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701000" y="414072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692360" y="39999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912320" y="393984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912320" y="39679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005560" y="393984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091960" y="4064760"/>
                <a:ext cx="13572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219760" y="40647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999800" y="4158360"/>
                <a:ext cx="10584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091960" y="41583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901880" y="4158360"/>
                <a:ext cx="10008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994040" y="41583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85240" y="4204080"/>
                <a:ext cx="1220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901880" y="42123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706040" y="3938040"/>
                <a:ext cx="16329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754720" y="4705200"/>
                <a:ext cx="13572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882520" y="4740840"/>
                <a:ext cx="17136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880360" y="474084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51000" y="4714920"/>
                <a:ext cx="15768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51000" y="475272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198240" y="465552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198240" y="47149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282120" y="4583880"/>
                <a:ext cx="655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282120" y="465552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320640" y="4464360"/>
                <a:ext cx="273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328560" y="458388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222360" y="4368960"/>
                <a:ext cx="11628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320640" y="44607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100320" y="4343040"/>
                <a:ext cx="1324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222360" y="436716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40120" y="4311720"/>
                <a:ext cx="16812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100320" y="43430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787840" y="4275720"/>
                <a:ext cx="1602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940120" y="4311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630160" y="4231800"/>
                <a:ext cx="16560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787840" y="42757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507760" y="4176000"/>
                <a:ext cx="1324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627640" y="42318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407680" y="4128840"/>
                <a:ext cx="11412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507760" y="417600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282040" y="4067280"/>
                <a:ext cx="13824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407680" y="412884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181960" y="3993840"/>
                <a:ext cx="11412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282040" y="406728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097720" y="3944160"/>
                <a:ext cx="9756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181960" y="39938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1972080" y="3931920"/>
                <a:ext cx="13356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2097720" y="394416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855800" y="393192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1967400" y="393192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727640" y="3967920"/>
                <a:ext cx="13824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853280" y="396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695600" y="4051080"/>
                <a:ext cx="5148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725480" y="4047120"/>
                <a:ext cx="2160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695600" y="4146480"/>
                <a:ext cx="6768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695600" y="414648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744200" y="4240080"/>
                <a:ext cx="12528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741680" y="424008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853280" y="4331160"/>
                <a:ext cx="17388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853280" y="4331160"/>
                <a:ext cx="1584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13480" y="4422960"/>
                <a:ext cx="16560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013480" y="442296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167920" y="4508280"/>
                <a:ext cx="18756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165760" y="45082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344680" y="4593960"/>
                <a:ext cx="21996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344680" y="45939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556360" y="4653000"/>
                <a:ext cx="2070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554200" y="465300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2754720" y="47030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879920" y="3979800"/>
                <a:ext cx="13586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114000" y="456984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220200" y="4478400"/>
                <a:ext cx="2628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220200" y="45698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154680" y="4401000"/>
                <a:ext cx="9180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28120" y="447444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916000" y="4343040"/>
                <a:ext cx="24984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154680" y="4398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678760" y="4285800"/>
                <a:ext cx="2451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916000" y="43430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453760" y="4202280"/>
                <a:ext cx="23616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678760" y="42858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298240" y="4114440"/>
                <a:ext cx="16560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450520" y="42022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151720" y="4043160"/>
                <a:ext cx="1602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298240" y="41144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056320" y="3973680"/>
                <a:ext cx="10908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51720" y="404316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940040" y="3973680"/>
                <a:ext cx="12744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056320" y="397188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869480" y="4001400"/>
                <a:ext cx="8388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934280" y="39999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869480" y="4079160"/>
                <a:ext cx="378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869480" y="407484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887840" y="4178520"/>
                <a:ext cx="12528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885680" y="417852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999800" y="4275720"/>
                <a:ext cx="18756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997280" y="42757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176200" y="4355640"/>
                <a:ext cx="21204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176200" y="43556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377440" y="4452480"/>
                <a:ext cx="2548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377440" y="445248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2624400" y="4556160"/>
                <a:ext cx="23112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2621880" y="45561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850480" y="4605840"/>
                <a:ext cx="27144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850480" y="460584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114000" y="463536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45440" y="3987360"/>
                <a:ext cx="12927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204000" y="4530240"/>
                <a:ext cx="4248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211920" y="445680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228120" y="4530240"/>
                <a:ext cx="183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154680" y="440100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211920" y="44550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950560" y="4367160"/>
                <a:ext cx="21492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3154680" y="4398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754720" y="4323600"/>
                <a:ext cx="20124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948040" y="43671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529720" y="4257720"/>
                <a:ext cx="236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754720" y="432360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2333880" y="4164480"/>
                <a:ext cx="20628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2526480" y="4257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2206080" y="4091040"/>
                <a:ext cx="141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2333880" y="41644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089440" y="4005720"/>
                <a:ext cx="12996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2206080" y="40910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99800" y="3981240"/>
                <a:ext cx="10008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2089440" y="400572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37520" y="398376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97280" y="3979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34280" y="4037040"/>
                <a:ext cx="7092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31760" y="403704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994040" y="4095000"/>
                <a:ext cx="1220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6120" y="409500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105640" y="411444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105640" y="411264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214360" y="4182480"/>
                <a:ext cx="141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214360" y="418248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344680" y="425772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342160" y="4257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502360" y="4311720"/>
                <a:ext cx="22320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502360" y="431172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716560" y="4377240"/>
                <a:ext cx="18756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2714400" y="43772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898720" y="4427280"/>
                <a:ext cx="16560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898720" y="442728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056760" y="446688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056760" y="44643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119040" y="451224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135960" y="450828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119040" y="4569840"/>
                <a:ext cx="2988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3119040" y="456804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3135960" y="4597560"/>
                <a:ext cx="8064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127680" y="4617720"/>
                <a:ext cx="2088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204000" y="459756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782080" y="4593960"/>
                <a:ext cx="22536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627640" y="4587480"/>
                <a:ext cx="16236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782080" y="45939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2480400" y="4520160"/>
                <a:ext cx="14724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624400" y="459396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2274120" y="4478400"/>
                <a:ext cx="21420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480400" y="45201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2206080" y="4389120"/>
                <a:ext cx="8172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274120" y="44784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2005560" y="4283640"/>
                <a:ext cx="21996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2206080" y="4386960"/>
                <a:ext cx="1944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811880" y="4073040"/>
                <a:ext cx="21168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2005560" y="428364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3100320" y="4433040"/>
                <a:ext cx="11628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72080" y="4005720"/>
                <a:ext cx="14940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961640" y="3997440"/>
                <a:ext cx="5148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007720" y="3997440"/>
                <a:ext cx="11160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005560" y="399744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078280" y="404532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100240" y="404532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972080" y="406728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078280" y="41050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972080" y="406728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2" name=""/>
            <p:cNvGrpSpPr/>
            <p:nvPr/>
          </p:nvGrpSpPr>
          <p:grpSpPr>
            <a:xfrm>
              <a:off x="2771640" y="3716280"/>
              <a:ext cx="1297080" cy="660240"/>
              <a:chOff x="2771640" y="3716280"/>
              <a:chExt cx="1297080" cy="660240"/>
            </a:xfrm>
          </p:grpSpPr>
          <p:sp>
            <p:nvSpPr>
              <p:cNvPr id="2443" name=""/>
              <p:cNvSpPr/>
              <p:nvPr/>
            </p:nvSpPr>
            <p:spPr>
              <a:xfrm>
                <a:off x="2833560" y="400176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976480" y="380376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3133440" y="38037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840040" y="386244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976480" y="386244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840040" y="38775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786760" y="3735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850840" y="37180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778480" y="3880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771640" y="37699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944080" y="372240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944080" y="37447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016800" y="37224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084840" y="382104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184920" y="38210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012480" y="389520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084840" y="389520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935800" y="389520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007800" y="38952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844360" y="393084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935800" y="39376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782080" y="3721320"/>
                <a:ext cx="127944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603960" y="432648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704040" y="435456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702240" y="4354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36160" y="433404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836160" y="43639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951360" y="428724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951360" y="433404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017240" y="423072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017240" y="42872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047120" y="413640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053600" y="423072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970440" y="406116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47120" y="413352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874680" y="404064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970440" y="40597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749040" y="401616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874680" y="40406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629880" y="398736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749040" y="40161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506400" y="3952800"/>
                <a:ext cx="12996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629880" y="39873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410640" y="390888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504600" y="3952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331800" y="387144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410640" y="390888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233880" y="382284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331800" y="38714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155040" y="376524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233880" y="382284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089160" y="372600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155040" y="37652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990880" y="371628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089160" y="372600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899440" y="371628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987280" y="37162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799360" y="374472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897640" y="37447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774160" y="381024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797560" y="380736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2774160" y="388548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2774160" y="388548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812320" y="395928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810160" y="39592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897640" y="403128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897640" y="403128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023280" y="4103640"/>
                <a:ext cx="12996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023280" y="4103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144240" y="417096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142440" y="417096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282480" y="423864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282480" y="423864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448800" y="428544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446640" y="4285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603960" y="43246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2918520" y="3754080"/>
                <a:ext cx="106452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885480" y="42195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968640" y="414756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968640" y="42195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917160" y="408672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974760" y="41443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730320" y="404064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917160" y="40845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544560" y="399528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730320" y="40406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368160" y="3929400"/>
                <a:ext cx="18504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544560" y="399528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46480" y="3860280"/>
                <a:ext cx="12996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65640" y="3929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131640" y="380376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46480" y="386028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056760" y="374940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131640" y="38037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965680" y="374940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056760" y="374796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2910240" y="377136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961000" y="376992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910240" y="383256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910240" y="382896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925000" y="391104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922840" y="39110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012480" y="398736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010680" y="3987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150720" y="405036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150720" y="40503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308400" y="412704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308400" y="412704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501720" y="420876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499920" y="42087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678840" y="424800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678840" y="424800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85480" y="427140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2970000" y="3759840"/>
                <a:ext cx="10130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56040" y="418824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62160" y="413028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74760" y="418824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17160" y="408672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62160" y="41292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757320" y="405972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917160" y="40845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03960" y="402516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55520" y="405972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427560" y="397332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603960" y="40251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274200" y="389952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425040" y="39733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174120" y="384156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274200" y="38995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082680" y="377460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174120" y="384156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012480" y="375516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082680" y="37746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963520" y="375732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010680" y="37540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961000" y="37990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959200" y="37990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007800" y="384516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001680" y="384516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095640" y="386028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095640" y="385884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180600" y="391392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180600" y="39139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282480" y="397332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280680" y="39733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405960" y="401616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405960" y="40161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574080" y="406764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572280" y="406764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716640" y="4107240"/>
                <a:ext cx="12996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716640" y="410724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40480" y="413820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40480" y="41364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89440" y="417420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02400" y="417096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889440" y="421956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889440" y="421812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02400" y="424152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896280" y="425736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56040" y="42415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625560" y="423864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504600" y="423360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625560" y="423864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389040" y="418032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501720" y="42386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227400" y="414756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389040" y="418032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174120" y="407700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227400" y="414756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016800" y="399384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174120" y="40752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865240" y="382788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016800" y="399384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874680" y="411192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990880" y="377460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982600" y="376776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018600" y="376776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016800" y="376776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074040" y="380556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090960" y="380556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990880" y="382284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074040" y="385308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990880" y="38228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6" name=""/>
            <p:cNvGrpSpPr/>
            <p:nvPr/>
          </p:nvGrpSpPr>
          <p:grpSpPr>
            <a:xfrm>
              <a:off x="539640" y="3716280"/>
              <a:ext cx="1368360" cy="660240"/>
              <a:chOff x="539640" y="3716280"/>
              <a:chExt cx="1368360" cy="660240"/>
            </a:xfrm>
          </p:grpSpPr>
          <p:sp>
            <p:nvSpPr>
              <p:cNvPr id="2627" name=""/>
              <p:cNvSpPr/>
              <p:nvPr/>
            </p:nvSpPr>
            <p:spPr>
              <a:xfrm>
                <a:off x="605160" y="400176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55640" y="3803760"/>
                <a:ext cx="174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921240" y="3803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11640" y="3862440"/>
                <a:ext cx="15012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55640" y="38624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11640" y="38775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55480" y="37350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23160" y="37180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46840" y="38808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39640" y="37699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21440" y="372240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21440" y="37447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8480" y="372240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70120" y="3821040"/>
                <a:ext cx="11232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975600" y="3821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3800" y="389520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70120" y="389520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12800" y="389520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89120" y="38952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16320" y="3930840"/>
                <a:ext cx="1008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12800" y="393768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50800" y="3721320"/>
                <a:ext cx="134964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417680" y="4326480"/>
                <a:ext cx="11232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523520" y="4354560"/>
                <a:ext cx="1414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521360" y="43545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662480" y="4334040"/>
                <a:ext cx="13032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662480" y="436392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784160" y="4287240"/>
                <a:ext cx="8280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784160" y="43340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853640" y="423072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853640" y="428724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885320" y="4136400"/>
                <a:ext cx="2268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91800" y="423072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04320" y="4061160"/>
                <a:ext cx="9612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885320" y="413352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703160" y="4040640"/>
                <a:ext cx="10944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04320" y="405972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570680" y="4016160"/>
                <a:ext cx="1389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703160" y="4040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445040" y="3987360"/>
                <a:ext cx="13212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570680" y="40161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314720" y="3952800"/>
                <a:ext cx="1368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445040" y="39873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213560" y="390888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312560" y="39528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130760" y="3871440"/>
                <a:ext cx="9432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213560" y="39088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027080" y="3822840"/>
                <a:ext cx="11412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130760" y="38714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944280" y="376524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027080" y="3822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874800" y="3726000"/>
                <a:ext cx="8064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944280" y="3765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70760" y="3716280"/>
                <a:ext cx="11016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874800" y="372600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674640" y="3716280"/>
                <a:ext cx="1008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66800" y="37162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68800" y="37447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72480" y="37447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42160" y="381024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67000" y="38073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42160" y="3885480"/>
                <a:ext cx="5580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42160" y="388548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82480" y="395928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80320" y="395928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72480" y="4031280"/>
                <a:ext cx="14364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72480" y="403128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04960" y="4103640"/>
                <a:ext cx="1368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804960" y="4103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932760" y="417096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930960" y="4170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078560" y="4238640"/>
                <a:ext cx="18180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078560" y="423864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253880" y="4285440"/>
                <a:ext cx="171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251720" y="42854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417680" y="43246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4800" y="3754080"/>
                <a:ext cx="112284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714680" y="421956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802160" y="4147560"/>
                <a:ext cx="2196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802160" y="42195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748160" y="4086720"/>
                <a:ext cx="7596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809000" y="414432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550880" y="4040640"/>
                <a:ext cx="2062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748160" y="40845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355040" y="3995280"/>
                <a:ext cx="20232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550880" y="4040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168920" y="3929400"/>
                <a:ext cx="19512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355040" y="399528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040400" y="3860280"/>
                <a:ext cx="1368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166040" y="3929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919440" y="3803760"/>
                <a:ext cx="13212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040400" y="38602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840600" y="3749400"/>
                <a:ext cx="9000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919440" y="38037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44120" y="3749400"/>
                <a:ext cx="10548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840600" y="374796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85800" y="3771360"/>
                <a:ext cx="694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39440" y="3769920"/>
                <a:ext cx="1584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85800" y="383256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85800" y="382896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01280" y="3911040"/>
                <a:ext cx="1036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99480" y="391104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3800" y="3987360"/>
                <a:ext cx="15516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1640" y="39873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939600" y="4050360"/>
                <a:ext cx="17532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39600" y="40503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105920" y="4127040"/>
                <a:ext cx="21060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05920" y="41270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310040" y="4208760"/>
                <a:ext cx="19116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307880" y="42087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496520" y="4248000"/>
                <a:ext cx="22428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96520" y="4248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714680" y="42714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48800" y="3759840"/>
                <a:ext cx="106848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788840" y="4188240"/>
                <a:ext cx="352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795680" y="4130280"/>
                <a:ext cx="2844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809000" y="418824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748160" y="408672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795680" y="41292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579320" y="4059720"/>
                <a:ext cx="17784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748160" y="40845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417680" y="4025160"/>
                <a:ext cx="16632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577520" y="40597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231560" y="3973320"/>
                <a:ext cx="19512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417680" y="4025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069920" y="3899520"/>
                <a:ext cx="17028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229040" y="3973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964080" y="3841560"/>
                <a:ext cx="11700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069920" y="38995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67960" y="3774600"/>
                <a:ext cx="10764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964080" y="38415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3800" y="3755160"/>
                <a:ext cx="8280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867960" y="3774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41960" y="375732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1640" y="375408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39440" y="3799080"/>
                <a:ext cx="5868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7640" y="379908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89120" y="3845160"/>
                <a:ext cx="1008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82280" y="38451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81280" y="386028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81280" y="3858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970920" y="3913920"/>
                <a:ext cx="11664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970920" y="39139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1078560" y="3973320"/>
                <a:ext cx="13968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1076400" y="3973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1208880" y="4016160"/>
                <a:ext cx="18468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1208880" y="4016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1386360" y="4067640"/>
                <a:ext cx="15516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1384200" y="40676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1536840" y="4107240"/>
                <a:ext cx="1368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1536840" y="41072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1667160" y="413820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1667160" y="41364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1718640" y="417420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1732680" y="417096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1718640" y="4219560"/>
                <a:ext cx="2448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1718640" y="421812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732680" y="424152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725840" y="425736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1788840" y="42415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1440360" y="4238640"/>
                <a:ext cx="18648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312560" y="4233600"/>
                <a:ext cx="1342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1440360" y="423864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1190880" y="4180320"/>
                <a:ext cx="12168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1310040" y="42386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1020600" y="4147560"/>
                <a:ext cx="17712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1190880" y="4180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964080" y="4077000"/>
                <a:ext cx="6732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1020600" y="41475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8480" y="3993840"/>
                <a:ext cx="18180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964080" y="407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38640" y="3827880"/>
                <a:ext cx="174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8480" y="3993840"/>
                <a:ext cx="1512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1703160" y="4111920"/>
                <a:ext cx="9612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70760" y="3774600"/>
                <a:ext cx="12348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62120" y="3767760"/>
                <a:ext cx="4248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00280" y="376776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8480" y="376776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58600" y="3805560"/>
                <a:ext cx="4464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76600" y="380556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70760" y="3822840"/>
                <a:ext cx="9432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58600" y="385308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70760" y="38228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0" name=""/>
            <p:cNvGrpSpPr/>
            <p:nvPr/>
          </p:nvGrpSpPr>
          <p:grpSpPr>
            <a:xfrm>
              <a:off x="2700360" y="4147920"/>
              <a:ext cx="1152360" cy="792000"/>
              <a:chOff x="2700360" y="4147920"/>
              <a:chExt cx="1152360" cy="792000"/>
            </a:xfrm>
          </p:grpSpPr>
          <p:sp>
            <p:nvSpPr>
              <p:cNvPr id="2811" name=""/>
              <p:cNvSpPr/>
              <p:nvPr/>
            </p:nvSpPr>
            <p:spPr>
              <a:xfrm>
                <a:off x="2755440" y="44906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882160" y="4253040"/>
                <a:ext cx="14724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21840" y="425304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761200" y="4323240"/>
                <a:ext cx="12636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882160" y="432324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761200" y="434160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13680" y="417060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70560" y="415008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06480" y="434556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2700360" y="421200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2853360" y="415548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2853360" y="418176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2918160" y="415548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2978640" y="4273920"/>
                <a:ext cx="9432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067560" y="427392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2914200" y="436248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2978640" y="43624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2846160" y="43624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2910240" y="436248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2764800" y="4405320"/>
                <a:ext cx="8496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2846160" y="441324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2709720" y="4153680"/>
                <a:ext cx="1136520" cy="7786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439800" y="4880160"/>
                <a:ext cx="9432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528720" y="4913640"/>
                <a:ext cx="1191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527280" y="49136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646080" y="4889160"/>
                <a:ext cx="1098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646080" y="492480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748680" y="4833000"/>
                <a:ext cx="698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748680" y="48891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807000" y="4764960"/>
                <a:ext cx="4572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807000" y="483300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833640" y="4651920"/>
                <a:ext cx="190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839400" y="476496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765240" y="4561560"/>
                <a:ext cx="8100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833640" y="464868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680280" y="453708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765240" y="45601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568680" y="4507560"/>
                <a:ext cx="11700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680280" y="453708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462840" y="4473360"/>
                <a:ext cx="11124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568680" y="450756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353040" y="4431600"/>
                <a:ext cx="11520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462840" y="44733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268080" y="4379040"/>
                <a:ext cx="92160" cy="6408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51240" y="44316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198240" y="433440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268080" y="43790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110760" y="4276080"/>
                <a:ext cx="9612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198240" y="433440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040920" y="4206600"/>
                <a:ext cx="792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110760" y="4276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982600" y="4159440"/>
                <a:ext cx="6804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040920" y="4206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895120" y="4147920"/>
                <a:ext cx="9288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982600" y="415944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2814120" y="4147920"/>
                <a:ext cx="8496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2891880" y="414792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724840" y="418176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812320" y="41817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702520" y="4260960"/>
                <a:ext cx="3600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2723400" y="4257000"/>
                <a:ext cx="151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702520" y="4350960"/>
                <a:ext cx="4716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702520" y="435096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736360" y="4439520"/>
                <a:ext cx="8712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34560" y="44395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2812320" y="4525920"/>
                <a:ext cx="12096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2812320" y="4525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2923920" y="4612680"/>
                <a:ext cx="11520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23920" y="4612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031560" y="4693320"/>
                <a:ext cx="13032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29760" y="46933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54320" y="4774680"/>
                <a:ext cx="15300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154320" y="47746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301920" y="4830840"/>
                <a:ext cx="144000" cy="619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300120" y="48308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439800" y="487800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2830680" y="4193280"/>
                <a:ext cx="945720" cy="627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690000" y="475164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763800" y="4665240"/>
                <a:ext cx="1836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763800" y="4751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718080" y="4592160"/>
                <a:ext cx="6408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769200" y="46612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552120" y="4537080"/>
                <a:ext cx="17388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718080" y="45896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386880" y="4482720"/>
                <a:ext cx="17064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552120" y="453708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230280" y="4403880"/>
                <a:ext cx="164160" cy="921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86880" y="448272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122280" y="4320720"/>
                <a:ext cx="11520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228120" y="44038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020040" y="4253040"/>
                <a:ext cx="111240" cy="7920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122280" y="43207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2953800" y="418752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020040" y="42530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2872800" y="4187520"/>
                <a:ext cx="8856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2953800" y="4185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2823480" y="4213800"/>
                <a:ext cx="58320" cy="770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2868840" y="421200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2823480" y="4287240"/>
                <a:ext cx="2628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2823480" y="4283280"/>
                <a:ext cx="1512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2836440" y="438156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2834640" y="43815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2914200" y="4473360"/>
                <a:ext cx="13032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2912760" y="447336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036960" y="4548960"/>
                <a:ext cx="14760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036960" y="45489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177360" y="4640760"/>
                <a:ext cx="17712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177360" y="464076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349080" y="4738680"/>
                <a:ext cx="16092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347280" y="473868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506400" y="4785840"/>
                <a:ext cx="1890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506400" y="478584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690000" y="48139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2876760" y="4200480"/>
                <a:ext cx="900000" cy="6037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752640" y="4714200"/>
                <a:ext cx="295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758040" y="4644720"/>
                <a:ext cx="2412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769200" y="4714200"/>
                <a:ext cx="126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718080" y="459216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758040" y="464292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576240" y="4560120"/>
                <a:ext cx="149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718080" y="45896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439800" y="4518720"/>
                <a:ext cx="1400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574440" y="45601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283200" y="4456440"/>
                <a:ext cx="16452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439800" y="45187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146760" y="4367880"/>
                <a:ext cx="14364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281040" y="445644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057840" y="4298400"/>
                <a:ext cx="9828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146760" y="4367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976840" y="4217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057840" y="42984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4200" y="4194720"/>
                <a:ext cx="698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976840" y="4217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71000" y="4196880"/>
                <a:ext cx="5292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912760" y="41932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868840" y="424764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867040" y="4247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10240" y="4302360"/>
                <a:ext cx="8496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904840" y="430236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988000" y="432072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988000" y="431928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063600" y="4385160"/>
                <a:ext cx="9828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063600" y="43851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154320" y="4456440"/>
                <a:ext cx="11736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152520" y="445644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64120" y="4507560"/>
                <a:ext cx="15552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264120" y="45075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413520" y="4569480"/>
                <a:ext cx="13032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411720" y="45694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40240" y="4616640"/>
                <a:ext cx="11520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540240" y="461664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650040" y="4654080"/>
                <a:ext cx="6624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650040" y="46519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693240" y="4697280"/>
                <a:ext cx="2628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705120" y="4693320"/>
                <a:ext cx="1440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693240" y="4751640"/>
                <a:ext cx="205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693240" y="47498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705120" y="4777920"/>
                <a:ext cx="5616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699360" y="479700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752640" y="4777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458880" y="477468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51240" y="4768560"/>
                <a:ext cx="11304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458880" y="4774680"/>
                <a:ext cx="540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249000" y="4704480"/>
                <a:ext cx="10224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349080" y="477468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105360" y="4665240"/>
                <a:ext cx="149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249000" y="470448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057840" y="4580640"/>
                <a:ext cx="5688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105360" y="4665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2918160" y="4480920"/>
                <a:ext cx="15300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057840" y="4578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2783520" y="4281840"/>
                <a:ext cx="14724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918160" y="44809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680280" y="4622400"/>
                <a:ext cx="8100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895120" y="4217760"/>
                <a:ext cx="10404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887920" y="4209840"/>
                <a:ext cx="3600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919960" y="420984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918160" y="4209840"/>
                <a:ext cx="540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968920" y="4255200"/>
                <a:ext cx="3744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984040" y="42552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895120" y="4276080"/>
                <a:ext cx="792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968920" y="4312080"/>
                <a:ext cx="756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895120" y="42760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3615120" y="3986640"/>
              <a:ext cx="836640" cy="976320"/>
              <a:chOff x="3615120" y="3986640"/>
              <a:chExt cx="836640" cy="976320"/>
            </a:xfrm>
          </p:grpSpPr>
          <p:sp>
            <p:nvSpPr>
              <p:cNvPr id="2995" name=""/>
              <p:cNvSpPr/>
              <p:nvPr/>
            </p:nvSpPr>
            <p:spPr>
              <a:xfrm rot="16404600">
                <a:off x="3961080" y="48916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rot="16404600">
                <a:off x="3708000" y="4681800"/>
                <a:ext cx="12060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rot="16404600">
                <a:off x="3733920" y="46573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rot="16404600">
                <a:off x="3754440" y="4817520"/>
                <a:ext cx="10368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rot="16404600">
                <a:off x="3796920" y="477648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rot="16404600">
                <a:off x="3810960" y="487764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rot="16404600">
                <a:off x="3638880" y="490536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rot="16404600">
                <a:off x="3618720" y="4857480"/>
                <a:ext cx="576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rot="16404600">
                <a:off x="3812040" y="492048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rot="16404600">
                <a:off x="3677760" y="491760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rot="16404600">
                <a:off x="3617640" y="4749840"/>
                <a:ext cx="5904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rot="16404600">
                <a:off x="3655440" y="47898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rot="16404600">
                <a:off x="3631320" y="4736880"/>
                <a:ext cx="576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rot="16404600">
                <a:off x="3763440" y="461700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rot="16404600">
                <a:off x="3757680" y="4622400"/>
                <a:ext cx="46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rot="16404600">
                <a:off x="3816000" y="472176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rot="16404600">
                <a:off x="3840480" y="46990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rot="16404600">
                <a:off x="3835800" y="4758480"/>
                <a:ext cx="572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rot="16404600">
                <a:off x="3838320" y="47563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rot="16404600">
                <a:off x="3849120" y="4839840"/>
                <a:ext cx="6948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rot="16404600">
                <a:off x="3885480" y="481212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rot="16404600">
                <a:off x="3566160" y="4085280"/>
                <a:ext cx="931680" cy="7786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rot="16404600">
                <a:off x="4364280" y="430056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rot="16404600">
                <a:off x="4381200" y="4230000"/>
                <a:ext cx="975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rot="16404600">
                <a:off x="4419000" y="428256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rot="16404600">
                <a:off x="4378320" y="4125240"/>
                <a:ext cx="900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rot="16404600">
                <a:off x="4437000" y="418716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rot="16404600">
                <a:off x="4352400" y="404532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rot="16404600">
                <a:off x="4404600" y="409896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rot="16404600">
                <a:off x="4300200" y="3999960"/>
                <a:ext cx="3744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rot="16404600">
                <a:off x="4347720" y="40482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rot="16404600">
                <a:off x="4218840" y="3963600"/>
                <a:ext cx="154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rot="16404600">
                <a:off x="4279320" y="4019760"/>
                <a:ext cx="1080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rot="16404600">
                <a:off x="4091040" y="3998880"/>
                <a:ext cx="6624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rot="16404600">
                <a:off x="4164120" y="40165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rot="16404600">
                <a:off x="4028040" y="4089960"/>
                <a:ext cx="7560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rot="16404600">
                <a:off x="4075200" y="406620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rot="16404600">
                <a:off x="3987360" y="4166280"/>
                <a:ext cx="9576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rot="16404600">
                <a:off x="4050360" y="41360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rot="16404600">
                <a:off x="3952080" y="4251600"/>
                <a:ext cx="9108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rot="16404600">
                <a:off x="4015080" y="42260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rot="16404600">
                <a:off x="3907440" y="4333680"/>
                <a:ext cx="9432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rot="16404600">
                <a:off x="3976200" y="43106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rot="16404600">
                <a:off x="3864600" y="440496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rot="16404600">
                <a:off x="3927960" y="439812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404600">
                <a:off x="3817440" y="4468680"/>
                <a:ext cx="648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404600">
                <a:off x="3870360" y="446364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404600">
                <a:off x="3755160" y="4523040"/>
                <a:ext cx="7884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404600">
                <a:off x="3822120" y="4518720"/>
                <a:ext cx="72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404600">
                <a:off x="3694680" y="4577760"/>
                <a:ext cx="648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404600">
                <a:off x="3759480" y="45860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404600">
                <a:off x="3637440" y="4638240"/>
                <a:ext cx="5580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404600">
                <a:off x="3686760" y="46389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404600">
                <a:off x="3595320" y="4714920"/>
                <a:ext cx="7596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rot="16404600">
                <a:off x="3637800" y="468360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rot="16404600">
                <a:off x="3605760" y="4773960"/>
                <a:ext cx="6948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rot="16404600">
                <a:off x="3622680" y="475776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rot="16404600">
                <a:off x="3650400" y="4825800"/>
                <a:ext cx="7884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rot="16404600">
                <a:off x="3651840" y="482436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rot="16404600">
                <a:off x="3754440" y="4870800"/>
                <a:ext cx="2952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rot="16404600">
                <a:off x="3719160" y="489996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rot="16404600">
                <a:off x="3840840" y="4870440"/>
                <a:ext cx="3852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rot="16404600">
                <a:off x="3808440" y="492624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rot="16404600">
                <a:off x="3917160" y="4830480"/>
                <a:ext cx="7128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rot="16404600">
                <a:off x="3900960" y="490248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rot="16404600">
                <a:off x="3994560" y="4758840"/>
                <a:ext cx="9900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rot="16404600">
                <a:off x="3993480" y="484452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rot="16404600">
                <a:off x="4086000" y="4678200"/>
                <a:ext cx="9432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rot="16404600">
                <a:off x="4086360" y="47592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rot="16404600">
                <a:off x="4166640" y="4587840"/>
                <a:ext cx="10692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rot="16404600">
                <a:off x="4173120" y="46767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rot="16404600">
                <a:off x="4233600" y="4493520"/>
                <a:ext cx="12528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rot="16404600">
                <a:off x="4260600" y="45802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rot="16404600">
                <a:off x="4295880" y="4384080"/>
                <a:ext cx="118080" cy="619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rot="16404600">
                <a:off x="4325400" y="446364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rot="16404600">
                <a:off x="4378680" y="43516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rot="16404600">
                <a:off x="3609720" y="4137480"/>
                <a:ext cx="775080" cy="627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rot="16404600">
                <a:off x="4265640" y="4079520"/>
                <a:ext cx="6948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rot="16404600">
                <a:off x="4216320" y="4033800"/>
                <a:ext cx="1512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rot="16404600">
                <a:off x="4264560" y="40788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rot="16404600">
                <a:off x="4117320" y="4053960"/>
                <a:ext cx="5256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rot="16404600">
                <a:off x="4173840" y="406980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rot="16404600">
                <a:off x="4005360" y="4147920"/>
                <a:ext cx="14256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rot="16404600">
                <a:off x="4102560" y="41061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rot="16404600">
                <a:off x="3945240" y="4280040"/>
                <a:ext cx="13968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rot="16404600">
                <a:off x="4043880" y="42415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rot="16404600">
                <a:off x="3873240" y="4394520"/>
                <a:ext cx="134640" cy="921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rot="16404600">
                <a:off x="3980880" y="437256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rot="16404600">
                <a:off x="3805200" y="4497480"/>
                <a:ext cx="9432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rot="16404600">
                <a:off x="3893760" y="44974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rot="16404600">
                <a:off x="3726720" y="4585680"/>
                <a:ext cx="91080" cy="7920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rot="16404600">
                <a:off x="3804840" y="457956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rot="16404600">
                <a:off x="3670560" y="4651560"/>
                <a:ext cx="6228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rot="16404600">
                <a:off x="3732480" y="465912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rot="16404600">
                <a:off x="3641760" y="4731120"/>
                <a:ext cx="7272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rot="16404600">
                <a:off x="3663360" y="47080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rot="16404600">
                <a:off x="3697200" y="4766400"/>
                <a:ext cx="47880" cy="770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rot="16404600">
                <a:off x="3682800" y="47786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rot="16404600">
                <a:off x="3794400" y="4773240"/>
                <a:ext cx="2160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rot="16404600">
                <a:off x="3748680" y="48211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rot="16404600">
                <a:off x="3867120" y="4741920"/>
                <a:ext cx="7128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rot="16404600">
                <a:off x="3848040" y="48168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rot="16404600">
                <a:off x="3938400" y="4673160"/>
                <a:ext cx="10692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rot="16404600">
                <a:off x="3947040" y="475884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rot="16404600">
                <a:off x="4021920" y="4561920"/>
                <a:ext cx="12096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rot="16404600">
                <a:off x="4029840" y="46627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rot="16404600">
                <a:off x="4112640" y="4437000"/>
                <a:ext cx="14544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rot="16404600">
                <a:off x="4128480" y="455364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rot="16404600">
                <a:off x="4199760" y="433296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rot="16404600">
                <a:off x="4235760" y="441936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rot="16404600">
                <a:off x="4234320" y="4204440"/>
                <a:ext cx="1548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rot="16404600">
                <a:off x="4291920" y="429372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rot="16404600">
                <a:off x="4326840" y="41425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rot="16404600">
                <a:off x="3625200" y="4130640"/>
                <a:ext cx="737640" cy="6037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rot="16404600">
                <a:off x="4252320" y="4048920"/>
                <a:ext cx="241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rot="16404600">
                <a:off x="4184640" y="4043520"/>
                <a:ext cx="1944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rot="16404600">
                <a:off x="4224600" y="4074840"/>
                <a:ext cx="1044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rot="16404600">
                <a:off x="4112280" y="4067640"/>
                <a:ext cx="4320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rot="16404600">
                <a:off x="4154760" y="407808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rot="16404600">
                <a:off x="4027320" y="4150080"/>
                <a:ext cx="122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rot="16404600">
                <a:off x="4102560" y="41061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rot="16404600">
                <a:off x="3988800" y="4257360"/>
                <a:ext cx="1148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rot="16404600">
                <a:off x="4068000" y="422496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rot="16404600">
                <a:off x="3919680" y="436284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rot="16404600">
                <a:off x="4019040" y="43311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rot="16404600">
                <a:off x="3845160" y="4465440"/>
                <a:ext cx="11772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rot="16404600">
                <a:off x="3948840" y="44571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rot="16404600">
                <a:off x="3779640" y="456192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rot="16404600">
                <a:off x="3852720" y="45619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rot="16404600">
                <a:off x="3703680" y="462168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rot="16404600">
                <a:off x="3779280" y="46310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rot="16404600">
                <a:off x="3657600" y="4706280"/>
                <a:ext cx="572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rot="16404600">
                <a:off x="3695400" y="46922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rot="16404600">
                <a:off x="3676320" y="4737600"/>
                <a:ext cx="4320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rot="16404600">
                <a:off x="3668400" y="474120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rot="16404600">
                <a:off x="3731040" y="4740840"/>
                <a:ext cx="40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rot="16404600">
                <a:off x="3715920" y="47826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404600">
                <a:off x="3757320" y="471168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rot="16404600">
                <a:off x="3776040" y="47534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404600">
                <a:off x="3801240" y="4628160"/>
                <a:ext cx="6948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404600">
                <a:off x="3798720" y="468756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rot="16404600">
                <a:off x="3867120" y="4561560"/>
                <a:ext cx="8064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rot="16404600">
                <a:off x="3866040" y="46314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rot="16404600">
                <a:off x="3926160" y="4492440"/>
                <a:ext cx="9612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rot="16404600">
                <a:off x="3942720" y="456192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rot="16404600">
                <a:off x="3974040" y="4384440"/>
                <a:ext cx="12744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rot="16404600">
                <a:off x="3999240" y="44748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rot="16404600">
                <a:off x="4045320" y="4282920"/>
                <a:ext cx="10692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rot="16404600">
                <a:off x="4069080" y="43567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rot="16404600">
                <a:off x="4098960" y="4193640"/>
                <a:ext cx="9432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rot="16404600">
                <a:off x="4123800" y="42559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404600">
                <a:off x="4161600" y="4124880"/>
                <a:ext cx="5436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rot="16404600">
                <a:off x="4163400" y="41662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rot="16404600">
                <a:off x="4223160" y="4107600"/>
                <a:ext cx="2160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404600">
                <a:off x="4203720" y="412164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rot="16404600">
                <a:off x="4279680" y="4113000"/>
                <a:ext cx="169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rot="16404600">
                <a:off x="4254840" y="413928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rot="16404600">
                <a:off x="4282560" y="4099680"/>
                <a:ext cx="4608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6404600">
                <a:off x="4309560" y="413028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rot="16404600">
                <a:off x="4292280" y="4087800"/>
                <a:ext cx="1044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rot="16404600">
                <a:off x="4239000" y="4250520"/>
                <a:ext cx="12852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rot="16404600">
                <a:off x="4227480" y="4371840"/>
                <a:ext cx="9252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rot="16404600">
                <a:off x="4277520" y="433152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rot="16404600">
                <a:off x="4194360" y="4426200"/>
                <a:ext cx="8388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rot="16404600">
                <a:off x="4273200" y="4422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rot="16404600">
                <a:off x="4115160" y="4536360"/>
                <a:ext cx="122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rot="16404600">
                <a:off x="4197240" y="44985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rot="16404600">
                <a:off x="4084920" y="4588560"/>
                <a:ext cx="4644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rot="16404600">
                <a:off x="4147560" y="46137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rot="16404600">
                <a:off x="3947040" y="4652280"/>
                <a:ext cx="12528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rot="16404600">
                <a:off x="4056120" y="464688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rot="16404600">
                <a:off x="3793320" y="4706280"/>
                <a:ext cx="12060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rot="16404600">
                <a:off x="3951360" y="4756680"/>
                <a:ext cx="1044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rot="16404600">
                <a:off x="4165200" y="4055040"/>
                <a:ext cx="6624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rot="16404600">
                <a:off x="3700080" y="4677840"/>
                <a:ext cx="8532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rot="16404600">
                <a:off x="3703320" y="4724640"/>
                <a:ext cx="2952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rot="16404600">
                <a:off x="3678120" y="4690800"/>
                <a:ext cx="6372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rot="16404600">
                <a:off x="3688200" y="47390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rot="16404600">
                <a:off x="3750840" y="4661280"/>
                <a:ext cx="3060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rot="16404600">
                <a:off x="3728160" y="4688280"/>
                <a:ext cx="1224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rot="16404600">
                <a:off x="3742920" y="4714920"/>
                <a:ext cx="648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rot="16404600">
                <a:off x="3791880" y="470232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rot="16404600">
                <a:off x="3744720" y="4762440"/>
                <a:ext cx="1224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8" name=""/>
            <p:cNvGrpSpPr/>
            <p:nvPr/>
          </p:nvGrpSpPr>
          <p:grpSpPr>
            <a:xfrm>
              <a:off x="2268360" y="4435200"/>
              <a:ext cx="1159200" cy="733320"/>
              <a:chOff x="2268360" y="4435200"/>
              <a:chExt cx="1159200" cy="733320"/>
            </a:xfrm>
          </p:grpSpPr>
          <p:sp>
            <p:nvSpPr>
              <p:cNvPr id="3179" name=""/>
              <p:cNvSpPr/>
              <p:nvPr/>
            </p:nvSpPr>
            <p:spPr>
              <a:xfrm>
                <a:off x="2323800" y="4752360"/>
                <a:ext cx="1440" cy="133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2451240" y="453240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591640" y="4532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329560" y="4597560"/>
                <a:ext cx="127440" cy="295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451240" y="459756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329560" y="461448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281680" y="445608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2339280" y="4437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274480" y="461808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268360" y="44946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422440" y="4442040"/>
                <a:ext cx="72360" cy="381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422440" y="4466520"/>
                <a:ext cx="756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487600" y="444204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548080" y="4551840"/>
                <a:ext cx="95040" cy="94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637720" y="455184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2483640" y="463356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548080" y="46335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414880" y="4633560"/>
                <a:ext cx="70200" cy="590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2479680" y="46335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2333160" y="4673520"/>
                <a:ext cx="85320" cy="226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414880" y="468108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277720" y="4440600"/>
                <a:ext cx="1143360" cy="721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3012120" y="5113080"/>
                <a:ext cx="95040" cy="450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101760" y="5144400"/>
                <a:ext cx="119880" cy="241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099960" y="51444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219480" y="5121360"/>
                <a:ext cx="110160" cy="471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219480" y="515448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3322800" y="5069520"/>
                <a:ext cx="70200" cy="64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3322800" y="51213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3381480" y="5006520"/>
                <a:ext cx="45720" cy="709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381480" y="506952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408480" y="4901760"/>
                <a:ext cx="19080" cy="1080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413880" y="500652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339720" y="4818240"/>
                <a:ext cx="81360" cy="885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408480" y="4898880"/>
                <a:ext cx="12960" cy="82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254040" y="4795560"/>
                <a:ext cx="92880" cy="3312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3339720" y="481680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3142080" y="476820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3254040" y="47955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3035520" y="4736520"/>
                <a:ext cx="111960" cy="432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3142080" y="47682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925000" y="46980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035520" y="473652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839320" y="4649400"/>
                <a:ext cx="92880" cy="594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923200" y="469800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769120" y="4607640"/>
                <a:ext cx="79920" cy="52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839320" y="46494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681280" y="455364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2769120" y="46076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2611080" y="4489560"/>
                <a:ext cx="79920" cy="745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2681280" y="45536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2552040" y="444600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2611080" y="44895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2464200" y="4435200"/>
                <a:ext cx="93240" cy="226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2552040" y="4446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382840" y="4435200"/>
                <a:ext cx="85320" cy="432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60960" y="443520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293200" y="446652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381040" y="44665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270520" y="4539600"/>
                <a:ext cx="36000" cy="8496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291400" y="453636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270520" y="462312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270520" y="462312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304720" y="4705200"/>
                <a:ext cx="87480" cy="90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2302920" y="47052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2381040" y="4785120"/>
                <a:ext cx="121680" cy="90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2381040" y="478512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493000" y="4865760"/>
                <a:ext cx="115920" cy="8496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2493000" y="48657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2601360" y="4940280"/>
                <a:ext cx="131400" cy="8712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599560" y="4940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724840" y="5015520"/>
                <a:ext cx="153720" cy="65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24840" y="501552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73520" y="5067360"/>
                <a:ext cx="144720" cy="576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871720" y="506736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3012120" y="511092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399760" y="4476960"/>
                <a:ext cx="951120" cy="5814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3263760" y="499428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3337920" y="491436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337920" y="499428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3292200" y="484632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3343680" y="49107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3125160" y="4795560"/>
                <a:ext cx="174960" cy="6120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292200" y="48441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2958840" y="4745160"/>
                <a:ext cx="171360" cy="6264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3125160" y="47955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801520" y="467208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958840" y="474516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692440" y="4595400"/>
                <a:ext cx="115920" cy="87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2799000" y="46720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2590200" y="4532400"/>
                <a:ext cx="111960" cy="734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2692440" y="45954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523240" y="447192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590200" y="45324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441520" y="4471920"/>
                <a:ext cx="89280" cy="345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523240" y="44704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392200" y="449604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437560" y="449460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2392200" y="4564080"/>
                <a:ext cx="26280" cy="9216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392200" y="45604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405160" y="4651560"/>
                <a:ext cx="87840" cy="95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403720" y="465156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483640" y="4736520"/>
                <a:ext cx="131400" cy="817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481840" y="47365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607120" y="4806360"/>
                <a:ext cx="148320" cy="9720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607120" y="480636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48240" y="4891680"/>
                <a:ext cx="178200" cy="10476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748240" y="48916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921040" y="4982400"/>
                <a:ext cx="162000" cy="5724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2919240" y="49824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079080" y="5025960"/>
                <a:ext cx="190080" cy="399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079080" y="5025960"/>
                <a:ext cx="360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3263760" y="505188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2445480" y="4483800"/>
                <a:ext cx="905040" cy="559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326760" y="4959360"/>
                <a:ext cx="29880" cy="694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332520" y="4895280"/>
                <a:ext cx="24120" cy="6768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343680" y="49593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292200" y="4846320"/>
                <a:ext cx="52920" cy="550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332520" y="489348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149280" y="4816800"/>
                <a:ext cx="150480" cy="399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292200" y="48441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3012120" y="4778280"/>
                <a:ext cx="140760" cy="500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3147480" y="48168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2854800" y="4720680"/>
                <a:ext cx="165240" cy="694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012120" y="477828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2717640" y="4638960"/>
                <a:ext cx="144360" cy="9216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2852280" y="47206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2628000" y="4574520"/>
                <a:ext cx="99000" cy="745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2717640" y="4638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546280" y="4500000"/>
                <a:ext cx="91080" cy="8496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628000" y="457452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483640" y="4478400"/>
                <a:ext cx="70200" cy="33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546280" y="4500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439720" y="4480560"/>
                <a:ext cx="53280" cy="5544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481840" y="44769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437560" y="4527360"/>
                <a:ext cx="49680" cy="6084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436120" y="452736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479680" y="457812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473920" y="457812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557800" y="459540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557800" y="45936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633760" y="4654800"/>
                <a:ext cx="99000" cy="763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633760" y="46548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2724840" y="4720680"/>
                <a:ext cx="118080" cy="5904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723040" y="47206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835360" y="476820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835360" y="47682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985480" y="4825800"/>
                <a:ext cx="131400" cy="568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984040" y="4825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3112920" y="4869360"/>
                <a:ext cx="115920" cy="464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3112920" y="4869360"/>
                <a:ext cx="3960" cy="133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223440" y="490392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223440" y="49017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267360" y="494388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3279240" y="494028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3267360" y="4994280"/>
                <a:ext cx="20880" cy="507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3267360" y="49928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279240" y="5018760"/>
                <a:ext cx="56520" cy="3132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273480" y="50364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3326760" y="50187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031560" y="5015520"/>
                <a:ext cx="158040" cy="500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923200" y="5009760"/>
                <a:ext cx="113760" cy="190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031560" y="501552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820240" y="4950720"/>
                <a:ext cx="102960" cy="781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2921040" y="5015520"/>
                <a:ext cx="2160" cy="133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675520" y="4914360"/>
                <a:ext cx="149760" cy="500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820240" y="495072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628000" y="4835880"/>
                <a:ext cx="57240" cy="88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675520" y="49143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487600" y="474372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2628000" y="483408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2352240" y="4559040"/>
                <a:ext cx="148320" cy="191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2487600" y="474372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254040" y="4874400"/>
                <a:ext cx="81360" cy="12168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2464200" y="450000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2457000" y="4492440"/>
                <a:ext cx="36000" cy="6768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2489040" y="4492440"/>
                <a:ext cx="78120" cy="4860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2487600" y="449244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2538360" y="4534560"/>
                <a:ext cx="37800" cy="65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553840" y="453456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2464200" y="4553640"/>
                <a:ext cx="79920" cy="4860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538360" y="4587120"/>
                <a:ext cx="7560" cy="154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2464200" y="455364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2" name=""/>
          <p:cNvSpPr/>
          <p:nvPr/>
        </p:nvSpPr>
        <p:spPr>
          <a:xfrm>
            <a:off x="37620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-117360" y="0"/>
            <a:ext cx="65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went pop and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ther went b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5" name=""/>
          <p:cNvGrpSpPr/>
          <p:nvPr/>
        </p:nvGrpSpPr>
        <p:grpSpPr>
          <a:xfrm>
            <a:off x="2484360" y="3141720"/>
            <a:ext cx="1798560" cy="863640"/>
            <a:chOff x="2484360" y="3141720"/>
            <a:chExt cx="1798560" cy="863640"/>
          </a:xfrm>
        </p:grpSpPr>
        <p:sp>
          <p:nvSpPr>
            <p:cNvPr id="3366" name=""/>
            <p:cNvSpPr/>
            <p:nvPr/>
          </p:nvSpPr>
          <p:spPr>
            <a:xfrm>
              <a:off x="2570400" y="3515400"/>
              <a:ext cx="2520" cy="1584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768400" y="3256560"/>
              <a:ext cx="230040" cy="9000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986200" y="3256560"/>
              <a:ext cx="12240" cy="144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579400" y="3332880"/>
              <a:ext cx="197640" cy="3456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768400" y="3332880"/>
              <a:ext cx="11160" cy="13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579400" y="3352680"/>
              <a:ext cx="5760" cy="14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505240" y="3166560"/>
              <a:ext cx="6120" cy="165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2594160" y="3143880"/>
              <a:ext cx="11160" cy="14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2494080" y="3357000"/>
              <a:ext cx="11160" cy="1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2484360" y="3211920"/>
              <a:ext cx="12240" cy="154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723400" y="3150000"/>
              <a:ext cx="112320" cy="4500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2723400" y="3178800"/>
              <a:ext cx="11880" cy="16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824560" y="3150000"/>
              <a:ext cx="11160" cy="14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2918520" y="3278880"/>
              <a:ext cx="147600" cy="11088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057480" y="3278880"/>
              <a:ext cx="8640" cy="144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2818440" y="3375720"/>
              <a:ext cx="115200" cy="223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918520" y="3375720"/>
              <a:ext cx="14760" cy="144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711880" y="3375720"/>
              <a:ext cx="108720" cy="6948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811960" y="3375720"/>
              <a:ext cx="8640" cy="144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585160" y="3422520"/>
              <a:ext cx="132480" cy="2664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711880" y="3431160"/>
              <a:ext cx="8640" cy="136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499120" y="3148200"/>
              <a:ext cx="1773720" cy="84924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638520" y="3939840"/>
              <a:ext cx="147600" cy="529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777480" y="3976560"/>
              <a:ext cx="186120" cy="2844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774600" y="3976560"/>
              <a:ext cx="11160" cy="1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960000" y="3949920"/>
              <a:ext cx="171360" cy="5544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960000" y="3988800"/>
              <a:ext cx="6120" cy="162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120200" y="3888720"/>
              <a:ext cx="108720" cy="756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120200" y="3949920"/>
              <a:ext cx="14760" cy="16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211640" y="3814920"/>
              <a:ext cx="71280" cy="835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211640" y="3888720"/>
              <a:ext cx="20160" cy="118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253040" y="3691440"/>
              <a:ext cx="29880" cy="12708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261680" y="3814920"/>
              <a:ext cx="20880" cy="75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146480" y="3592800"/>
              <a:ext cx="126360" cy="10440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253040" y="3687840"/>
              <a:ext cx="19800" cy="97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013640" y="3566160"/>
              <a:ext cx="144000" cy="3888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146480" y="3591000"/>
              <a:ext cx="17280" cy="140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839760" y="3533760"/>
              <a:ext cx="182520" cy="4680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013640" y="3566160"/>
              <a:ext cx="8640" cy="144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674520" y="3496680"/>
              <a:ext cx="173880" cy="5112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839760" y="3533760"/>
              <a:ext cx="8640" cy="136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503160" y="3451320"/>
              <a:ext cx="180000" cy="5976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674520" y="3496680"/>
              <a:ext cx="8640" cy="144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70320" y="3393720"/>
              <a:ext cx="144000" cy="7020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500280" y="3451320"/>
              <a:ext cx="13680" cy="144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261240" y="3344760"/>
              <a:ext cx="123840" cy="6156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70320" y="3393720"/>
              <a:ext cx="14760" cy="12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125160" y="3281400"/>
              <a:ext cx="150120" cy="756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261240" y="3344760"/>
              <a:ext cx="14040" cy="118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016080" y="3205800"/>
              <a:ext cx="123840" cy="8784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125160" y="3281400"/>
              <a:ext cx="14760" cy="12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924640" y="3154320"/>
              <a:ext cx="106200" cy="633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016080" y="3205800"/>
              <a:ext cx="14760" cy="11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788560" y="3141720"/>
              <a:ext cx="145080" cy="2664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924640" y="3154320"/>
              <a:ext cx="14760" cy="14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661840" y="3141720"/>
              <a:ext cx="132480" cy="5112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783160" y="3141720"/>
              <a:ext cx="11160" cy="144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522880" y="3178800"/>
              <a:ext cx="150120" cy="939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659320" y="3178800"/>
              <a:ext cx="13680" cy="136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487600" y="3264840"/>
              <a:ext cx="56160" cy="10008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520360" y="3260520"/>
              <a:ext cx="23400" cy="118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487600" y="3363120"/>
              <a:ext cx="73440" cy="10260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87600" y="3363120"/>
              <a:ext cx="23400" cy="39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540520" y="3459960"/>
              <a:ext cx="136080" cy="1062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537640" y="3459960"/>
              <a:ext cx="23400" cy="100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659320" y="3553920"/>
              <a:ext cx="188640" cy="1069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659320" y="3553920"/>
              <a:ext cx="17280" cy="118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833200" y="3648600"/>
              <a:ext cx="180000" cy="10008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833200" y="3648600"/>
              <a:ext cx="14760" cy="11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3000960" y="3736440"/>
              <a:ext cx="203760" cy="10260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998440" y="3736440"/>
              <a:ext cx="14760" cy="144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192840" y="3825000"/>
              <a:ext cx="238680" cy="7740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192840" y="3825000"/>
              <a:ext cx="11880" cy="14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423240" y="3886200"/>
              <a:ext cx="225000" cy="6768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20360" y="3886200"/>
              <a:ext cx="11160" cy="1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638520" y="3937680"/>
              <a:ext cx="12240" cy="16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688120" y="3191040"/>
              <a:ext cx="1475640" cy="68472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028760" y="3800160"/>
              <a:ext cx="132480" cy="824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143960" y="3705840"/>
              <a:ext cx="28800" cy="10008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143960" y="3800160"/>
              <a:ext cx="19800" cy="122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072680" y="3625920"/>
              <a:ext cx="99720" cy="8568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152600" y="3701520"/>
              <a:ext cx="19800" cy="1008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813480" y="3566160"/>
              <a:ext cx="271440" cy="7200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072680" y="3623400"/>
              <a:ext cx="17280" cy="1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555720" y="3506760"/>
              <a:ext cx="266040" cy="7380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813480" y="3566160"/>
              <a:ext cx="8640" cy="144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311640" y="3420720"/>
              <a:ext cx="256320" cy="10080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55720" y="3506760"/>
              <a:ext cx="11880" cy="144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142800" y="3330360"/>
              <a:ext cx="180000" cy="10260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308040" y="3420720"/>
              <a:ext cx="14760" cy="144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2983680" y="3256560"/>
              <a:ext cx="173880" cy="8640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142800" y="3330360"/>
              <a:ext cx="14760" cy="12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2880000" y="3184920"/>
              <a:ext cx="118440" cy="838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2983680" y="3256560"/>
              <a:ext cx="14760" cy="12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2753280" y="3184920"/>
              <a:ext cx="138600" cy="4068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880000" y="3183120"/>
              <a:ext cx="14760" cy="154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676600" y="3213720"/>
              <a:ext cx="91440" cy="842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747160" y="3211920"/>
              <a:ext cx="20880" cy="13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676600" y="3293640"/>
              <a:ext cx="41040" cy="10872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676600" y="3289320"/>
              <a:ext cx="23400" cy="82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696760" y="3396240"/>
              <a:ext cx="136080" cy="11232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694240" y="3396240"/>
              <a:ext cx="23400" cy="100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818440" y="3496680"/>
              <a:ext cx="203760" cy="9612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815560" y="3496680"/>
              <a:ext cx="17280" cy="1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009960" y="3579120"/>
              <a:ext cx="230400" cy="11484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009960" y="3579120"/>
              <a:ext cx="12240" cy="13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228840" y="3679200"/>
              <a:ext cx="276840" cy="1231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228840" y="3679200"/>
              <a:ext cx="11520" cy="144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497040" y="3786120"/>
              <a:ext cx="251280" cy="6768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494160" y="3786120"/>
              <a:ext cx="11160" cy="1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742200" y="3837240"/>
              <a:ext cx="295200" cy="4680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742200" y="3837240"/>
              <a:ext cx="5760" cy="162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028760" y="3867840"/>
              <a:ext cx="14760" cy="16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759400" y="3198960"/>
              <a:ext cx="1404360" cy="65844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126320" y="3759120"/>
              <a:ext cx="46440" cy="8172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135320" y="3683520"/>
              <a:ext cx="37440" cy="7992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152600" y="3759120"/>
              <a:ext cx="19800" cy="576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072680" y="3625920"/>
              <a:ext cx="82440" cy="651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135320" y="3681720"/>
              <a:ext cx="19800" cy="93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851280" y="3591000"/>
              <a:ext cx="233640" cy="4680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072680" y="3623400"/>
              <a:ext cx="17280" cy="1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638520" y="3546000"/>
              <a:ext cx="218880" cy="5904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848400" y="3591000"/>
              <a:ext cx="8640" cy="140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94080" y="3477960"/>
              <a:ext cx="256680" cy="8172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638520" y="3546000"/>
              <a:ext cx="12240" cy="13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181320" y="3381480"/>
              <a:ext cx="223920" cy="10872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390480" y="3477960"/>
              <a:ext cx="14760" cy="144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3042360" y="3305880"/>
              <a:ext cx="153720" cy="878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181320" y="3381480"/>
              <a:ext cx="14760" cy="11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915640" y="3218040"/>
              <a:ext cx="141480" cy="10008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042360" y="3305880"/>
              <a:ext cx="14760" cy="11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818440" y="3192840"/>
              <a:ext cx="108720" cy="3888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915640" y="3218040"/>
              <a:ext cx="14760" cy="136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750400" y="3195360"/>
              <a:ext cx="82440" cy="651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815560" y="3191040"/>
              <a:ext cx="17280" cy="162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747160" y="3250440"/>
              <a:ext cx="77040" cy="7200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744640" y="3250440"/>
              <a:ext cx="23400" cy="100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811960" y="3310200"/>
              <a:ext cx="132480" cy="3456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803320" y="3310200"/>
              <a:ext cx="20880" cy="162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933640" y="3330360"/>
              <a:ext cx="132480" cy="824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933640" y="3328560"/>
              <a:ext cx="14760" cy="16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3051360" y="3400560"/>
              <a:ext cx="153360" cy="8964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3051360" y="3400560"/>
              <a:ext cx="14760" cy="12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3192840" y="3477960"/>
              <a:ext cx="183240" cy="6948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3189960" y="3477960"/>
              <a:ext cx="14760" cy="144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364200" y="3533760"/>
              <a:ext cx="242640" cy="835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364200" y="3533760"/>
              <a:ext cx="12240" cy="13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597120" y="3601440"/>
              <a:ext cx="203760" cy="6696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3594600" y="3601440"/>
              <a:ext cx="12240" cy="158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3794760" y="3652920"/>
              <a:ext cx="180000" cy="5472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3794760" y="3652920"/>
              <a:ext cx="6120" cy="1548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966480" y="3693960"/>
              <a:ext cx="103320" cy="5724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966480" y="3691440"/>
              <a:ext cx="12240" cy="16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034160" y="3740760"/>
              <a:ext cx="41040" cy="5904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052520" y="3736440"/>
              <a:ext cx="22680" cy="144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034160" y="3800160"/>
              <a:ext cx="32400" cy="5976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034160" y="3798360"/>
              <a:ext cx="23400" cy="39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052520" y="3828960"/>
              <a:ext cx="87840" cy="370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043520" y="3849840"/>
              <a:ext cx="22680" cy="1980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126320" y="3828960"/>
              <a:ext cx="19800" cy="162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668400" y="3825000"/>
              <a:ext cx="245160" cy="5904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500280" y="3818520"/>
              <a:ext cx="176400" cy="223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668400" y="3825000"/>
              <a:ext cx="8640" cy="158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340440" y="3748680"/>
              <a:ext cx="159840" cy="921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497040" y="3825000"/>
              <a:ext cx="3240" cy="158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116160" y="3705840"/>
              <a:ext cx="232560" cy="5904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340440" y="3748680"/>
              <a:ext cx="8640" cy="1620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042360" y="3613680"/>
              <a:ext cx="88560" cy="10440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116160" y="3705840"/>
              <a:ext cx="14760" cy="11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824560" y="3504960"/>
              <a:ext cx="238680" cy="11664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042360" y="3611520"/>
              <a:ext cx="20880" cy="100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614320" y="3287520"/>
              <a:ext cx="230040" cy="22536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824560" y="3504960"/>
              <a:ext cx="19800" cy="79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013640" y="3659040"/>
              <a:ext cx="126360" cy="14328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788560" y="3218040"/>
              <a:ext cx="162360" cy="11232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777040" y="3209400"/>
              <a:ext cx="56160" cy="7992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827080" y="3209400"/>
              <a:ext cx="121320" cy="5724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824560" y="3209400"/>
              <a:ext cx="8640" cy="1800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03760" y="3258720"/>
              <a:ext cx="58680" cy="774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27160" y="3258720"/>
              <a:ext cx="23400" cy="79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788560" y="3281400"/>
              <a:ext cx="123840" cy="5724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903760" y="332064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788560" y="3281400"/>
              <a:ext cx="23400" cy="79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1116000" y="3213000"/>
            <a:ext cx="1440000" cy="719280"/>
            <a:chOff x="1116000" y="3213000"/>
            <a:chExt cx="1440000" cy="719280"/>
          </a:xfrm>
        </p:grpSpPr>
        <p:sp>
          <p:nvSpPr>
            <p:cNvPr id="3550" name=""/>
            <p:cNvSpPr/>
            <p:nvPr/>
          </p:nvSpPr>
          <p:spPr>
            <a:xfrm>
              <a:off x="1184760" y="3524040"/>
              <a:ext cx="2160" cy="1296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343160" y="3308400"/>
              <a:ext cx="184320" cy="7524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517760" y="3308400"/>
              <a:ext cx="9720" cy="118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191960" y="3372120"/>
              <a:ext cx="158040" cy="2880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1343160" y="3372120"/>
              <a:ext cx="9000" cy="115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1191960" y="3388680"/>
              <a:ext cx="4680" cy="1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1132560" y="3233520"/>
              <a:ext cx="468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1203840" y="3214800"/>
              <a:ext cx="9000" cy="115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123560" y="3392280"/>
              <a:ext cx="90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1116000" y="3271320"/>
              <a:ext cx="9720" cy="1296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1307520" y="3219840"/>
              <a:ext cx="90000" cy="3744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1307520" y="3243960"/>
              <a:ext cx="97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1388160" y="3219840"/>
              <a:ext cx="9000" cy="115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1463760" y="3327120"/>
              <a:ext cx="118080" cy="9252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1574640" y="3327120"/>
              <a:ext cx="6840" cy="118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1383480" y="3407760"/>
              <a:ext cx="92160" cy="187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463760" y="3407760"/>
              <a:ext cx="11880" cy="118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298160" y="3407760"/>
              <a:ext cx="87120" cy="5760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378440" y="3407760"/>
              <a:ext cx="6840" cy="118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196640" y="3447000"/>
              <a:ext cx="106200" cy="223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160" y="3453840"/>
              <a:ext cx="6840" cy="115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127880" y="3218400"/>
              <a:ext cx="1420200" cy="70740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040120" y="3877920"/>
              <a:ext cx="118080" cy="4428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151360" y="3908520"/>
              <a:ext cx="149040" cy="2376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149200" y="3908520"/>
              <a:ext cx="90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297520" y="3886200"/>
              <a:ext cx="137160" cy="4608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297520" y="3918600"/>
              <a:ext cx="468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425680" y="3835080"/>
              <a:ext cx="87120" cy="630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425680" y="3886200"/>
              <a:ext cx="1188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498760" y="3773520"/>
              <a:ext cx="56880" cy="6948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498760" y="3835080"/>
              <a:ext cx="16200" cy="100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532240" y="3670560"/>
              <a:ext cx="23760" cy="10584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539080" y="3773520"/>
              <a:ext cx="16560" cy="64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446920" y="3588840"/>
              <a:ext cx="101160" cy="8712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532240" y="3667680"/>
              <a:ext cx="15840" cy="7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340720" y="3566520"/>
              <a:ext cx="115200" cy="3240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446920" y="3587400"/>
              <a:ext cx="14040" cy="115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201040" y="3539520"/>
              <a:ext cx="146160" cy="3888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340720" y="3566520"/>
              <a:ext cx="6840" cy="118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068920" y="3508560"/>
              <a:ext cx="139320" cy="424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201040" y="3539520"/>
              <a:ext cx="6840" cy="115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931760" y="3470760"/>
              <a:ext cx="144000" cy="4968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068920" y="3508560"/>
              <a:ext cx="6840" cy="118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825200" y="3422880"/>
              <a:ext cx="115200" cy="5832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929600" y="3470760"/>
              <a:ext cx="11160" cy="11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738080" y="3382200"/>
              <a:ext cx="99000" cy="5112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825200" y="3422880"/>
              <a:ext cx="11880" cy="104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629000" y="3329280"/>
              <a:ext cx="120240" cy="630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738080" y="3382200"/>
              <a:ext cx="1116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541520" y="3266280"/>
              <a:ext cx="99000" cy="7308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629000" y="332928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468440" y="3223440"/>
              <a:ext cx="84960" cy="5292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541520" y="326628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359360" y="3213000"/>
              <a:ext cx="115920" cy="2232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468440" y="3223440"/>
              <a:ext cx="11880" cy="11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258200" y="3213000"/>
              <a:ext cx="106200" cy="4248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355400" y="3213000"/>
              <a:ext cx="9000" cy="118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146960" y="3243960"/>
              <a:ext cx="120240" cy="7812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256040" y="3243960"/>
              <a:ext cx="11160" cy="115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118520" y="3315600"/>
              <a:ext cx="45000" cy="8352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144800" y="3312000"/>
              <a:ext cx="18720" cy="100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118520" y="3397320"/>
              <a:ext cx="59040" cy="8532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118520" y="3397320"/>
              <a:ext cx="187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161000" y="3477960"/>
              <a:ext cx="108720" cy="882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1158840" y="3477960"/>
              <a:ext cx="187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1256040" y="3556080"/>
              <a:ext cx="151200" cy="889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1256040" y="3556080"/>
              <a:ext cx="14040" cy="10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1395360" y="3635280"/>
              <a:ext cx="144000" cy="8316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1395360" y="363528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529640" y="3708360"/>
              <a:ext cx="163080" cy="8532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527480" y="3708360"/>
              <a:ext cx="11880" cy="118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1683360" y="3782160"/>
              <a:ext cx="191160" cy="6444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683360" y="3782160"/>
              <a:ext cx="9720" cy="115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867680" y="3832920"/>
              <a:ext cx="180000" cy="5652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865520" y="3832920"/>
              <a:ext cx="90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040120" y="3875760"/>
              <a:ext cx="97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279080" y="3254040"/>
              <a:ext cx="1181520" cy="57024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352600" y="3761280"/>
              <a:ext cx="106200" cy="6876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444760" y="3682800"/>
              <a:ext cx="23040" cy="8316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444760" y="3761280"/>
              <a:ext cx="15840" cy="100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387880" y="3616200"/>
              <a:ext cx="79920" cy="7164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451960" y="3679560"/>
              <a:ext cx="15840" cy="8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180160" y="3566520"/>
              <a:ext cx="217080" cy="6012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387880" y="3614400"/>
              <a:ext cx="14040" cy="118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973880" y="3517200"/>
              <a:ext cx="213120" cy="6120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180160" y="3566520"/>
              <a:ext cx="6840" cy="118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1778040" y="3445200"/>
              <a:ext cx="205200" cy="8388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973880" y="3517200"/>
              <a:ext cx="9720" cy="118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1643040" y="3369960"/>
              <a:ext cx="144000" cy="8532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1775520" y="3445200"/>
              <a:ext cx="11880" cy="118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1515600" y="3308400"/>
              <a:ext cx="139320" cy="7200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1643040" y="3369960"/>
              <a:ext cx="11880" cy="104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1432800" y="3249000"/>
              <a:ext cx="94680" cy="698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515600" y="3308400"/>
              <a:ext cx="11880" cy="104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331280" y="3249000"/>
              <a:ext cx="110880" cy="3384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432800" y="3247560"/>
              <a:ext cx="11880" cy="12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270080" y="3272760"/>
              <a:ext cx="73080" cy="7020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326240" y="3271320"/>
              <a:ext cx="16560" cy="115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270080" y="3339360"/>
              <a:ext cx="32760" cy="9036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270080" y="3336120"/>
              <a:ext cx="18720" cy="6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286280" y="3425040"/>
              <a:ext cx="109080" cy="9324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1284120" y="3425040"/>
              <a:ext cx="18720" cy="82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1383480" y="3508560"/>
              <a:ext cx="163080" cy="8028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381320" y="3508560"/>
              <a:ext cx="14040" cy="118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536840" y="3577320"/>
              <a:ext cx="184320" cy="9540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536840" y="3577320"/>
              <a:ext cx="9720" cy="115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711800" y="3660480"/>
              <a:ext cx="221400" cy="10260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711800" y="3660480"/>
              <a:ext cx="9000" cy="118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926720" y="3749760"/>
              <a:ext cx="201240" cy="5616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924560" y="3749760"/>
              <a:ext cx="90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123280" y="3792240"/>
              <a:ext cx="236160" cy="3888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123280" y="3792240"/>
              <a:ext cx="468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352600" y="3817800"/>
              <a:ext cx="1188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336320" y="3260520"/>
              <a:ext cx="1124640" cy="5482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430720" y="3727440"/>
              <a:ext cx="37080" cy="6804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437920" y="3664080"/>
              <a:ext cx="29880" cy="6660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451960" y="3727440"/>
              <a:ext cx="15840" cy="50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387880" y="3616200"/>
              <a:ext cx="65880" cy="5400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437920" y="3662640"/>
              <a:ext cx="15840" cy="7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210400" y="3587400"/>
              <a:ext cx="187200" cy="3888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387880" y="3614400"/>
              <a:ext cx="14040" cy="118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040120" y="3549600"/>
              <a:ext cx="174960" cy="4932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208240" y="3587400"/>
              <a:ext cx="6840" cy="115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1844280" y="3493080"/>
              <a:ext cx="205560" cy="6804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040120" y="3549600"/>
              <a:ext cx="9720" cy="115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674000" y="3412800"/>
              <a:ext cx="179280" cy="9036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841760" y="3493080"/>
              <a:ext cx="11880" cy="118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562760" y="3349800"/>
              <a:ext cx="123120" cy="730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674000" y="341280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1461240" y="3276360"/>
              <a:ext cx="113040" cy="83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1562760" y="334980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1383480" y="3255480"/>
              <a:ext cx="87120" cy="3240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461240" y="3276360"/>
              <a:ext cx="11880" cy="11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329120" y="3257640"/>
              <a:ext cx="65880" cy="543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1381320" y="3254040"/>
              <a:ext cx="14040" cy="136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326240" y="3303360"/>
              <a:ext cx="61920" cy="5976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324440" y="3303360"/>
              <a:ext cx="187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1378440" y="3353400"/>
              <a:ext cx="106200" cy="2880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371240" y="3353400"/>
              <a:ext cx="16560" cy="13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475640" y="3369960"/>
              <a:ext cx="106200" cy="6876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1475640" y="3368520"/>
              <a:ext cx="1188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569960" y="3428640"/>
              <a:ext cx="122760" cy="7488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1569960" y="342864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683360" y="3493080"/>
              <a:ext cx="146880" cy="5796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1680840" y="3493080"/>
              <a:ext cx="11880" cy="118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820520" y="3539520"/>
              <a:ext cx="194400" cy="6948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820520" y="3539520"/>
              <a:ext cx="9720" cy="115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007000" y="3596040"/>
              <a:ext cx="163080" cy="5580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004840" y="3596040"/>
              <a:ext cx="9720" cy="1296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165400" y="3638880"/>
              <a:ext cx="144000" cy="453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165400" y="3638880"/>
              <a:ext cx="4680" cy="1296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302560" y="3672720"/>
              <a:ext cx="82800" cy="4788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302560" y="3670560"/>
              <a:ext cx="97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356920" y="3711960"/>
              <a:ext cx="32760" cy="4896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371680" y="3708360"/>
              <a:ext cx="18000" cy="11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356920" y="3761280"/>
              <a:ext cx="25920" cy="4968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356920" y="3759840"/>
              <a:ext cx="187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371680" y="3785400"/>
              <a:ext cx="70200" cy="3096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364480" y="3802680"/>
              <a:ext cx="18000" cy="165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430720" y="3785400"/>
              <a:ext cx="15840" cy="13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2063880" y="3782160"/>
              <a:ext cx="196200" cy="4932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929600" y="3776760"/>
              <a:ext cx="141120" cy="187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063880" y="3782160"/>
              <a:ext cx="6840" cy="1296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801440" y="3718800"/>
              <a:ext cx="128160" cy="7668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926720" y="3782160"/>
              <a:ext cx="2520" cy="1296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621800" y="3682800"/>
              <a:ext cx="186120" cy="4932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801440" y="3718800"/>
              <a:ext cx="6840" cy="136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562760" y="3606120"/>
              <a:ext cx="70920" cy="867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621800" y="3682800"/>
              <a:ext cx="1188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388160" y="3515400"/>
              <a:ext cx="191160" cy="9720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562760" y="3604320"/>
              <a:ext cx="16560" cy="8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220040" y="3334320"/>
              <a:ext cx="184320" cy="18756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388160" y="3515400"/>
              <a:ext cx="15840" cy="6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340720" y="3643920"/>
              <a:ext cx="101160" cy="11952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359360" y="3276360"/>
              <a:ext cx="129960" cy="9324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350360" y="3269160"/>
              <a:ext cx="45000" cy="6660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390320" y="3269160"/>
              <a:ext cx="97200" cy="4788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388160" y="3269160"/>
              <a:ext cx="6840" cy="151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451520" y="3310560"/>
              <a:ext cx="46800" cy="6444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470600" y="3310560"/>
              <a:ext cx="187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359360" y="3329280"/>
              <a:ext cx="99000" cy="4788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451520" y="3362040"/>
              <a:ext cx="9720" cy="151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359360" y="3329280"/>
              <a:ext cx="187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2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2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6" dur="34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34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34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680" fill="hold">
                                          <p:stCondLst>
                                            <p:cond delay="68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680" fill="hold">
                                          <p:stCondLst>
                                            <p:cond delay="136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680" fill="hold">
                                          <p:stCondLst>
                                            <p:cond delay="204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680" fill="hold">
                                          <p:stCondLst>
                                            <p:cond delay="272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1">
                                  <p:stCondLst>
                                    <p:cond delay="2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7" dur="1230" fill="hold"/>
                                        <p:tgtEl>
                                          <p:spTgt spid="33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8" dur="1230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0" dur="1230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1">
                                  <p:stCondLst>
                                    <p:cond delay="4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6" dur="1230" fill="hold"/>
                                        <p:tgtEl>
                                          <p:spTgt spid="35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7" dur="1230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9" dur="1230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2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2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sp>
        <p:nvSpPr>
          <p:cNvPr id="3734" name=""/>
          <p:cNvSpPr/>
          <p:nvPr/>
        </p:nvSpPr>
        <p:spPr>
          <a:xfrm>
            <a:off x="-114840" y="18720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f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usages sizzling in a 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539640" y="3718080"/>
            <a:ext cx="3912120" cy="1484280"/>
            <a:chOff x="539640" y="3718080"/>
            <a:chExt cx="3912120" cy="1484280"/>
          </a:xfrm>
        </p:grpSpPr>
        <p:grpSp>
          <p:nvGrpSpPr>
            <p:cNvPr id="3736" name=""/>
            <p:cNvGrpSpPr/>
            <p:nvPr/>
          </p:nvGrpSpPr>
          <p:grpSpPr>
            <a:xfrm>
              <a:off x="684360" y="4078440"/>
              <a:ext cx="1304640" cy="803160"/>
              <a:chOff x="684360" y="4078440"/>
              <a:chExt cx="1304640" cy="803160"/>
            </a:xfrm>
          </p:grpSpPr>
          <p:sp>
            <p:nvSpPr>
              <p:cNvPr id="3737" name=""/>
              <p:cNvSpPr/>
              <p:nvPr/>
            </p:nvSpPr>
            <p:spPr>
              <a:xfrm>
                <a:off x="746640" y="442584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90280" y="4185000"/>
                <a:ext cx="166680" cy="838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1048320" y="41850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53120" y="4255920"/>
                <a:ext cx="143280" cy="3204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90280" y="42559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53120" y="42746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99480" y="41014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63920" y="40806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91200" y="42786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84360" y="414360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857880" y="4086000"/>
                <a:ext cx="81360" cy="4212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857880" y="411300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930960" y="40860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999360" y="420624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1099800" y="420624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926640" y="4295880"/>
                <a:ext cx="83520" cy="208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999360" y="42958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849240" y="4295880"/>
                <a:ext cx="78840" cy="644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921960" y="42958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57440" y="4339440"/>
                <a:ext cx="96120" cy="2484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849240" y="434772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5160" y="4084560"/>
                <a:ext cx="1286640" cy="7898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521360" y="4820760"/>
                <a:ext cx="106920" cy="49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1622160" y="4854960"/>
                <a:ext cx="135000" cy="2664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1620360" y="48549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755000" y="483012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755000" y="48664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870920" y="4773240"/>
                <a:ext cx="78840" cy="702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870920" y="48301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1937160" y="4704480"/>
                <a:ext cx="51480" cy="7776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1937160" y="47732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967400" y="4589640"/>
                <a:ext cx="21600" cy="11808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973880" y="47044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890000" y="4498200"/>
                <a:ext cx="91800" cy="9720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967400" y="45860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1793880" y="4473000"/>
                <a:ext cx="104400" cy="3636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890000" y="44964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667520" y="4443120"/>
                <a:ext cx="132480" cy="435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793880" y="447300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1547640" y="4408200"/>
                <a:ext cx="126000" cy="475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1667520" y="444312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1423440" y="4366080"/>
                <a:ext cx="130680" cy="5544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1547640" y="440820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1326960" y="4312800"/>
                <a:ext cx="104400" cy="6516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421280" y="436608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1247760" y="4267440"/>
                <a:ext cx="89640" cy="5724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1326960" y="431280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1149120" y="4208400"/>
                <a:ext cx="108720" cy="702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1247760" y="42674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1069920" y="4137840"/>
                <a:ext cx="89640" cy="817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149120" y="4208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003680" y="4089960"/>
                <a:ext cx="77040" cy="590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069920" y="4137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905040" y="4078440"/>
                <a:ext cx="105120" cy="2484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1003680" y="40899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812880" y="4078440"/>
                <a:ext cx="96120" cy="475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901080" y="40784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12080" y="4113000"/>
                <a:ext cx="108720" cy="874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1080" y="411300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686880" y="4192920"/>
                <a:ext cx="40680" cy="932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10280" y="418896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686880" y="4284360"/>
                <a:ext cx="53280" cy="9540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686880" y="428436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25040" y="437436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23240" y="43743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11080" y="4461840"/>
                <a:ext cx="136800" cy="9936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11080" y="44618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937440" y="4549680"/>
                <a:ext cx="130680" cy="9288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937440" y="45496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1059120" y="4631760"/>
                <a:ext cx="147600" cy="9540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1057320" y="46317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1198440" y="471384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198440" y="471384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1365480" y="4770720"/>
                <a:ext cx="163080" cy="630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1363320" y="477072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521360" y="481860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1960" y="4124160"/>
                <a:ext cx="1070640" cy="636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804680" y="469080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888200" y="4603320"/>
                <a:ext cx="20880" cy="9288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888200" y="46908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836720" y="452880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894680" y="45993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648440" y="4473000"/>
                <a:ext cx="196920" cy="6696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836720" y="452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461600" y="4417920"/>
                <a:ext cx="192960" cy="6840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648440" y="447300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284480" y="4338000"/>
                <a:ext cx="185760" cy="9360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461600" y="441792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161720" y="4253760"/>
                <a:ext cx="130680" cy="9540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281600" y="433800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046520" y="4185000"/>
                <a:ext cx="126000" cy="806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161720" y="42537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971280" y="4118760"/>
                <a:ext cx="86040" cy="781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046520" y="418500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879480" y="4118760"/>
                <a:ext cx="100440" cy="3780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971280" y="4116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824040" y="4145400"/>
                <a:ext cx="66240" cy="781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874800" y="4143600"/>
                <a:ext cx="15120" cy="12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824040" y="4219560"/>
                <a:ext cx="29880" cy="100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824040" y="4215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838440" y="4315320"/>
                <a:ext cx="98640" cy="104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836640" y="431532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926640" y="4408200"/>
                <a:ext cx="147600" cy="896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924840" y="440820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1065600" y="4484880"/>
                <a:ext cx="167040" cy="10656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1065600" y="448488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224360" y="4578120"/>
                <a:ext cx="200520" cy="11448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1224360" y="457812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1418760" y="4677840"/>
                <a:ext cx="182160" cy="6300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1416960" y="46778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1596960" y="4725360"/>
                <a:ext cx="213840" cy="435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1596960" y="47253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804680" y="47538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883800" y="4131720"/>
                <a:ext cx="1018800" cy="61236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875600" y="4652640"/>
                <a:ext cx="33480" cy="7596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881720" y="4582080"/>
                <a:ext cx="27000" cy="7416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894680" y="465264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836720" y="452880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881720" y="45806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675800" y="4496400"/>
                <a:ext cx="169560" cy="435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836720" y="452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521360" y="445428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674000" y="44964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344240" y="4391280"/>
                <a:ext cx="186120" cy="7596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521360" y="445428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189800" y="4301640"/>
                <a:ext cx="162360" cy="100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341720" y="4391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089000" y="4231080"/>
                <a:ext cx="111600" cy="817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189800" y="43016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997200" y="414936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089000" y="4231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926640" y="4125960"/>
                <a:ext cx="78840" cy="360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997200" y="41493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877320" y="412812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924840" y="41241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874800" y="417924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873000" y="41792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921960" y="4235040"/>
                <a:ext cx="96120" cy="3204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915840" y="423504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010160" y="425376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010160" y="42519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095480" y="4318920"/>
                <a:ext cx="111240" cy="835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095480" y="4318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198440" y="439128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196280" y="4391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322640" y="4443120"/>
                <a:ext cx="176040" cy="7776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322640" y="444312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491480" y="4506120"/>
                <a:ext cx="147600" cy="622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489680" y="450612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635120" y="4554000"/>
                <a:ext cx="130680" cy="50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35120" y="45540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759320" y="4591800"/>
                <a:ext cx="74880" cy="5328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759320" y="45896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808640" y="4635720"/>
                <a:ext cx="29880" cy="5472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821960" y="463176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808640" y="4690800"/>
                <a:ext cx="23400" cy="5544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808640" y="468900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821960" y="471744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815480" y="473688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875600" y="47174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543320" y="4713840"/>
                <a:ext cx="177840" cy="5508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421280" y="4707720"/>
                <a:ext cx="127800" cy="208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543320" y="471384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305360" y="464292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1418760" y="471384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1142640" y="4603320"/>
                <a:ext cx="168840" cy="5508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1305360" y="46429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1089000" y="4517280"/>
                <a:ext cx="64440" cy="9684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1142640" y="46033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930960" y="4416120"/>
                <a:ext cx="173160" cy="10836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089000" y="45151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78680" y="4214160"/>
                <a:ext cx="166680" cy="20952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930960" y="441612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793880" y="4559400"/>
                <a:ext cx="91800" cy="1332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905040" y="4149360"/>
                <a:ext cx="117720" cy="104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896760" y="4141440"/>
                <a:ext cx="40680" cy="7416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932760" y="4141440"/>
                <a:ext cx="87840" cy="5328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930960" y="41414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988560" y="4187160"/>
                <a:ext cx="42480" cy="7200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1005480" y="418716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905040" y="4208400"/>
                <a:ext cx="89640" cy="532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988560" y="4244760"/>
                <a:ext cx="8640" cy="169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905040" y="420840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0" name=""/>
            <p:cNvGrpSpPr/>
            <p:nvPr/>
          </p:nvGrpSpPr>
          <p:grpSpPr>
            <a:xfrm>
              <a:off x="1476360" y="4365720"/>
              <a:ext cx="1339560" cy="836640"/>
              <a:chOff x="1476360" y="4365720"/>
              <a:chExt cx="1339560" cy="836640"/>
            </a:xfrm>
          </p:grpSpPr>
          <p:sp>
            <p:nvSpPr>
              <p:cNvPr id="3921" name=""/>
              <p:cNvSpPr/>
              <p:nvPr/>
            </p:nvSpPr>
            <p:spPr>
              <a:xfrm>
                <a:off x="1540440" y="4727520"/>
                <a:ext cx="180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1687680" y="4476960"/>
                <a:ext cx="17136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1850040" y="44769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1546920" y="4550760"/>
                <a:ext cx="14724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1687680" y="45507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1546920" y="45702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1491840" y="43898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1558080" y="436788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1483560" y="457452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1476360" y="443376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1654560" y="4373640"/>
                <a:ext cx="835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1654560" y="44017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1729800" y="43736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1799640" y="4498560"/>
                <a:ext cx="10980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1903320" y="449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1725120" y="4592160"/>
                <a:ext cx="8568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799640" y="45921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645920" y="4592160"/>
                <a:ext cx="8100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1720440" y="45921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1551600" y="4637880"/>
                <a:ext cx="986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645920" y="464616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1487160" y="4371840"/>
                <a:ext cx="13215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336040" y="5139000"/>
                <a:ext cx="10980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439720" y="5174640"/>
                <a:ext cx="13860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437560" y="51746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575800" y="5148720"/>
                <a:ext cx="12744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575800" y="51865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694960" y="5089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694960" y="5148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763000" y="5017680"/>
                <a:ext cx="529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763000" y="508932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793960" y="4898160"/>
                <a:ext cx="219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800440" y="501768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714760" y="4802760"/>
                <a:ext cx="9396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793960" y="489456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615760" y="4776840"/>
                <a:ext cx="1072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714760" y="48009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486160" y="4745520"/>
                <a:ext cx="13608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615760" y="47768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363040" y="4709520"/>
                <a:ext cx="1296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486160" y="47455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235240" y="4665600"/>
                <a:ext cx="13392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363040" y="470952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136240" y="4609800"/>
                <a:ext cx="1072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233440" y="46656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055240" y="4562640"/>
                <a:ext cx="9216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136240" y="46098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1953720" y="4501080"/>
                <a:ext cx="11196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055240" y="45626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1872360" y="4427640"/>
                <a:ext cx="9216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1953720" y="450108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1804320" y="4377960"/>
                <a:ext cx="7884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1872360" y="44276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1702800" y="4365720"/>
                <a:ext cx="10800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1804320" y="437796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1608480" y="4365720"/>
                <a:ext cx="986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1698840" y="436572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505160" y="4401720"/>
                <a:ext cx="11196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1606680" y="440172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1478880" y="4484880"/>
                <a:ext cx="4176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1503000" y="4480920"/>
                <a:ext cx="1764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1478880" y="4580280"/>
                <a:ext cx="5472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1478880" y="458028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1518120" y="4673880"/>
                <a:ext cx="10116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1515960" y="46738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1606680" y="4764960"/>
                <a:ext cx="14076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1606680" y="476496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1736280" y="4856760"/>
                <a:ext cx="13392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1736280" y="48567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1861200" y="4942080"/>
                <a:ext cx="15192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1859400" y="49420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004120" y="5027760"/>
                <a:ext cx="17784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004120" y="50277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175840" y="5086800"/>
                <a:ext cx="1674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173680" y="50868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336040" y="51368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1628280" y="4413600"/>
                <a:ext cx="10994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626920" y="50036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712960" y="4912200"/>
                <a:ext cx="2124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712960" y="5003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659680" y="4834800"/>
                <a:ext cx="7452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719440" y="4908240"/>
                <a:ext cx="147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466360" y="4776840"/>
                <a:ext cx="20196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659680" y="48326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274480" y="4719600"/>
                <a:ext cx="1983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466360" y="47768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092680" y="4636080"/>
                <a:ext cx="19080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274480" y="47196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966680" y="4548240"/>
                <a:ext cx="13392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089800" y="46360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848240" y="4476960"/>
                <a:ext cx="1296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966680" y="45482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770840" y="4407480"/>
                <a:ext cx="8820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848240" y="44769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676520" y="4407480"/>
                <a:ext cx="10332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770840" y="44056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619640" y="4435200"/>
                <a:ext cx="6804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672200" y="443376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619640" y="4512960"/>
                <a:ext cx="306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619640" y="450864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634760" y="4612320"/>
                <a:ext cx="10152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632600" y="46123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725120" y="4709520"/>
                <a:ext cx="15192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1723320" y="47095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1867680" y="4789440"/>
                <a:ext cx="17136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867680" y="478944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030760" y="4886280"/>
                <a:ext cx="2062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030760" y="488628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230560" y="4989960"/>
                <a:ext cx="18720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228760" y="498996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413440" y="5039640"/>
                <a:ext cx="21996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413440" y="50396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626920" y="50691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1681200" y="4421160"/>
                <a:ext cx="10461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699640" y="4964040"/>
                <a:ext cx="3456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706120" y="4890600"/>
                <a:ext cx="2772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719440" y="4964040"/>
                <a:ext cx="147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659680" y="4834800"/>
                <a:ext cx="6120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706120" y="4888800"/>
                <a:ext cx="147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494440" y="4800960"/>
                <a:ext cx="17388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2659680" y="48326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336040" y="4757400"/>
                <a:ext cx="16272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2492640" y="480096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2153880" y="4691520"/>
                <a:ext cx="191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336040" y="475740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1995480" y="4598280"/>
                <a:ext cx="16704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151360" y="4691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1892160" y="4524840"/>
                <a:ext cx="114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1995480" y="45982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1797840" y="4439520"/>
                <a:ext cx="10512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1892160" y="4524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1725120" y="441504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1797840" y="44395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1674720" y="4417560"/>
                <a:ext cx="615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1723320" y="44136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1672200" y="4470840"/>
                <a:ext cx="5760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1670040" y="447084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1720440" y="4528800"/>
                <a:ext cx="986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1713960" y="452880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1810800" y="45482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1810800" y="45464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1898640" y="4616280"/>
                <a:ext cx="114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1898640" y="461628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2004120" y="4691520"/>
                <a:ext cx="1364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2001960" y="4691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2131920" y="4745520"/>
                <a:ext cx="18072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131920" y="47455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305440" y="4811040"/>
                <a:ext cx="15192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2303280" y="481104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2452680" y="4861080"/>
                <a:ext cx="13392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2452680" y="48610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2580480" y="4900680"/>
                <a:ext cx="7704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2580480" y="48981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2630880" y="4946040"/>
                <a:ext cx="306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2644560" y="494208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2630880" y="500364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630880" y="500184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644560" y="5031360"/>
                <a:ext cx="6516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638080" y="505152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2699640" y="503136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2358360" y="5027760"/>
                <a:ext cx="18252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2233440" y="502128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2358360" y="502776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2113920" y="4953960"/>
                <a:ext cx="11916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2230560" y="502776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1947240" y="4912200"/>
                <a:ext cx="17316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2113920" y="49539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1892160" y="4822920"/>
                <a:ext cx="6624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1947240" y="491220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1729800" y="4717440"/>
                <a:ext cx="17784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1892160" y="482076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1573200" y="4506840"/>
                <a:ext cx="17136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1729800" y="4717440"/>
                <a:ext cx="147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2615760" y="4866840"/>
                <a:ext cx="9396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1702800" y="4439520"/>
                <a:ext cx="12096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1694520" y="4431240"/>
                <a:ext cx="4176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1731600" y="4431240"/>
                <a:ext cx="9036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1729800" y="443124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1788840" y="4479120"/>
                <a:ext cx="4356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1806480" y="447912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1702800" y="450108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1788840" y="4538880"/>
                <a:ext cx="900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1702800" y="450108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4" name=""/>
            <p:cNvGrpSpPr/>
            <p:nvPr/>
          </p:nvGrpSpPr>
          <p:grpSpPr>
            <a:xfrm>
              <a:off x="1692360" y="3933720"/>
              <a:ext cx="1655640" cy="836640"/>
              <a:chOff x="1692360" y="3933720"/>
              <a:chExt cx="1655640" cy="836640"/>
            </a:xfrm>
          </p:grpSpPr>
          <p:sp>
            <p:nvSpPr>
              <p:cNvPr id="4105" name=""/>
              <p:cNvSpPr/>
              <p:nvPr/>
            </p:nvSpPr>
            <p:spPr>
              <a:xfrm>
                <a:off x="1771560" y="429552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1953720" y="4044960"/>
                <a:ext cx="21168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2154240" y="40449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1779840" y="4118760"/>
                <a:ext cx="18180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1953720" y="411876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1779840" y="41382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1711800" y="395784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1793520" y="393588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1701000" y="414252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1692360" y="40017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1912320" y="394164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1912320" y="3969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2005560" y="394164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2091960" y="4066560"/>
                <a:ext cx="13572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2219760" y="4066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1999800" y="4160160"/>
                <a:ext cx="10584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2091960" y="4160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1901880" y="4160160"/>
                <a:ext cx="10008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1994040" y="4160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785240" y="4205880"/>
                <a:ext cx="1220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1901880" y="4214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1706040" y="3939840"/>
                <a:ext cx="16329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2754720" y="4707000"/>
                <a:ext cx="13572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2882520" y="4742640"/>
                <a:ext cx="17136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2880360" y="474264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051000" y="4716720"/>
                <a:ext cx="15768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051000" y="475452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198240" y="465732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198240" y="47167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282120" y="4585680"/>
                <a:ext cx="655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282120" y="465732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3320640" y="4466160"/>
                <a:ext cx="273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3328560" y="458568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222360" y="4370760"/>
                <a:ext cx="11628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320640" y="44625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100320" y="4344840"/>
                <a:ext cx="1324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222360" y="436896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2940120" y="4313520"/>
                <a:ext cx="16812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100320" y="4344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2787840" y="4277520"/>
                <a:ext cx="1602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2940120" y="43135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2630160" y="4233600"/>
                <a:ext cx="16560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2787840" y="4277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2507760" y="4177800"/>
                <a:ext cx="1324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2627640" y="42336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2407680" y="4130640"/>
                <a:ext cx="11412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2507760" y="417780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2282040" y="4069080"/>
                <a:ext cx="13824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2407680" y="413064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2181960" y="3995640"/>
                <a:ext cx="11412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2282040" y="406908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2097720" y="3945960"/>
                <a:ext cx="9756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181960" y="39956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1972080" y="3933720"/>
                <a:ext cx="13356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097720" y="394596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1855800" y="393372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1967400" y="393372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1727640" y="3969720"/>
                <a:ext cx="13824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1853280" y="39697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1695600" y="4052880"/>
                <a:ext cx="5148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1725480" y="4048920"/>
                <a:ext cx="2160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1695600" y="4148280"/>
                <a:ext cx="6768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1695600" y="414828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744200" y="4241880"/>
                <a:ext cx="12528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1741680" y="424188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1853280" y="4332960"/>
                <a:ext cx="17388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1853280" y="4332960"/>
                <a:ext cx="1584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2013480" y="4424760"/>
                <a:ext cx="16560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2013480" y="442476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2167920" y="4510080"/>
                <a:ext cx="18756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2165760" y="45100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2344680" y="4595760"/>
                <a:ext cx="21996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2344680" y="45957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2556360" y="4654800"/>
                <a:ext cx="2070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2554200" y="465480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2754720" y="4704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1879920" y="3981600"/>
                <a:ext cx="13586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114000" y="457164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220200" y="4480200"/>
                <a:ext cx="2628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220200" y="45716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154680" y="4402800"/>
                <a:ext cx="9180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228120" y="447624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2916000" y="4344840"/>
                <a:ext cx="24984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154680" y="44006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2678760" y="4287600"/>
                <a:ext cx="2451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2916000" y="4344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2453760" y="4204080"/>
                <a:ext cx="23616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2678760" y="42876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2298240" y="4116240"/>
                <a:ext cx="16560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2450520" y="42040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2151720" y="4044960"/>
                <a:ext cx="1602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2298240" y="41162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2056320" y="3975480"/>
                <a:ext cx="10908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2151720" y="404496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1940040" y="3975480"/>
                <a:ext cx="12744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056320" y="397368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1869480" y="4003200"/>
                <a:ext cx="8388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1934280" y="40017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1869480" y="4080960"/>
                <a:ext cx="378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1869480" y="407664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1887840" y="4180320"/>
                <a:ext cx="12528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1885680" y="418032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1999800" y="4277520"/>
                <a:ext cx="18756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1997280" y="427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176200" y="4357440"/>
                <a:ext cx="21204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176200" y="4357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2377440" y="4454280"/>
                <a:ext cx="2548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377440" y="445428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2624400" y="4557960"/>
                <a:ext cx="23112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2621880" y="45579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2850480" y="4607640"/>
                <a:ext cx="27144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2850480" y="460764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114000" y="463716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1945440" y="3989160"/>
                <a:ext cx="12927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204000" y="4532040"/>
                <a:ext cx="4248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211920" y="445860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228120" y="4532040"/>
                <a:ext cx="183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154680" y="440280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211920" y="44568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2950560" y="4368960"/>
                <a:ext cx="21492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154680" y="44006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2754720" y="4325400"/>
                <a:ext cx="20124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2948040" y="4368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2529720" y="4259520"/>
                <a:ext cx="236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2754720" y="432540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333880" y="4166280"/>
                <a:ext cx="20628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526480" y="42595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206080" y="4092840"/>
                <a:ext cx="141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333880" y="41662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089440" y="4007520"/>
                <a:ext cx="12996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206080" y="40928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1999800" y="3983040"/>
                <a:ext cx="10008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2089440" y="400752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1937520" y="398556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1997280" y="39816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1934280" y="4038840"/>
                <a:ext cx="7092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1931760" y="403884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1994040" y="4096800"/>
                <a:ext cx="1220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1986120" y="409680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2105640" y="411624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2105640" y="411444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2214360" y="4184280"/>
                <a:ext cx="141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2214360" y="418428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344680" y="425952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2342160" y="42595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502360" y="4313520"/>
                <a:ext cx="22320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2502360" y="431352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2716560" y="4379040"/>
                <a:ext cx="18756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714400" y="43790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2898720" y="4429080"/>
                <a:ext cx="16560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898720" y="442908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056760" y="446868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056760" y="44661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119040" y="451404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135960" y="451008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119040" y="4571640"/>
                <a:ext cx="2988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119040" y="456984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135960" y="4599360"/>
                <a:ext cx="8064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127680" y="4619520"/>
                <a:ext cx="2088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3204000" y="459936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2782080" y="4595760"/>
                <a:ext cx="22536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2627640" y="4589280"/>
                <a:ext cx="16236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2782080" y="45957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2480400" y="4521960"/>
                <a:ext cx="14724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2624400" y="459576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2274120" y="4480200"/>
                <a:ext cx="21420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2480400" y="45219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2206080" y="4390920"/>
                <a:ext cx="8172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2274120" y="44802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2005560" y="4285440"/>
                <a:ext cx="21996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2206080" y="4388760"/>
                <a:ext cx="1944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1811880" y="4074840"/>
                <a:ext cx="21168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2005560" y="428544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100320" y="4434840"/>
                <a:ext cx="11628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1972080" y="4007520"/>
                <a:ext cx="14940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1961640" y="3999240"/>
                <a:ext cx="5148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2007720" y="3999240"/>
                <a:ext cx="11160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2005560" y="399924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2078280" y="404712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2100240" y="404712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1972080" y="406908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2078280" y="4106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1972080" y="406908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8" name=""/>
            <p:cNvGrpSpPr/>
            <p:nvPr/>
          </p:nvGrpSpPr>
          <p:grpSpPr>
            <a:xfrm>
              <a:off x="2771640" y="3718080"/>
              <a:ext cx="1297080" cy="660240"/>
              <a:chOff x="2771640" y="3718080"/>
              <a:chExt cx="1297080" cy="660240"/>
            </a:xfrm>
          </p:grpSpPr>
          <p:sp>
            <p:nvSpPr>
              <p:cNvPr id="4289" name=""/>
              <p:cNvSpPr/>
              <p:nvPr/>
            </p:nvSpPr>
            <p:spPr>
              <a:xfrm>
                <a:off x="2833560" y="400356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2976480" y="380556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133440" y="38055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2840040" y="386424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2976480" y="386424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2840040" y="3879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2786760" y="3736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2850840" y="3719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2778480" y="38826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2771640" y="3771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2944080" y="372420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944080" y="3746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016800" y="3724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084840" y="382284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184920" y="38228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012480" y="389700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084840" y="389700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2935800" y="389700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007800" y="38970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2844360" y="393264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2935800" y="39394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2782080" y="3723120"/>
                <a:ext cx="127944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603960" y="432828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3704040" y="435636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702240" y="4356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836160" y="433584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836160" y="43657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951360" y="428904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951360" y="433584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017240" y="423252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017240" y="42890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047120" y="413820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053600" y="423252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970440" y="406296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047120" y="413532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874680" y="404244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970440" y="40615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749040" y="401796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3874680" y="4042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3629880" y="398916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3749040" y="40179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3506400" y="3954600"/>
                <a:ext cx="12996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3629880" y="39891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410640" y="391068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3504600" y="39546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3331800" y="387324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3410640" y="391068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3233880" y="382464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3331800" y="38732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3155040" y="376704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3233880" y="382464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3089160" y="372780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3155040" y="37670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2990880" y="371808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3089160" y="372780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2899440" y="371808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2987280" y="37180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2799360" y="374652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2897640" y="37465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2774160" y="381204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2797560" y="380916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2774160" y="388728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2774160" y="388728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2812320" y="396108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2810160" y="39610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2897640" y="403308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2897640" y="403308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3023280" y="4105440"/>
                <a:ext cx="12996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023280" y="41054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144240" y="417276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3142440" y="417276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3282480" y="424044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3282480" y="424044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3448800" y="428724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3446640" y="42872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3603960" y="43264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2918520" y="3755880"/>
                <a:ext cx="106452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3885480" y="42213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3968640" y="414936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3968640" y="42213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3917160" y="408852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3974760" y="41461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3730320" y="404244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3917160" y="4086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3544560" y="399708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3730320" y="4042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3368160" y="3931200"/>
                <a:ext cx="18504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3544560" y="399708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3246480" y="3862080"/>
                <a:ext cx="12996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3365640" y="39312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3131640" y="380556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3246480" y="386208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3056760" y="375120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3131640" y="38055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965680" y="375120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3056760" y="374976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910240" y="377316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2961000" y="377172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910240" y="383436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910240" y="383076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2925000" y="391284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2922840" y="39128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3012480" y="398916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3010680" y="3989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3150720" y="405216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3150720" y="40521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3308400" y="412884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3308400" y="412884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3501720" y="421056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3499920" y="4210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3678840" y="424980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3678840" y="424980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3885480" y="427320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2970000" y="3761640"/>
                <a:ext cx="10130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956040" y="419004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962160" y="413208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3974760" y="419004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917160" y="408852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3962160" y="41310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3757320" y="406152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917160" y="4086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603960" y="402696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755520" y="406152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3427560" y="397512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3603960" y="40269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274200" y="390132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3425040" y="39751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3174120" y="384336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3274200" y="3901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3082680" y="377640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3174120" y="384336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3012480" y="375696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3082680" y="37764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2963520" y="375912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3010680" y="37558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2961000" y="38008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2959200" y="3800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3007800" y="384696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3001680" y="384696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095640" y="386208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095640" y="386064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180600" y="391572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180600" y="39157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282480" y="397512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280680" y="39751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405960" y="401796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405960" y="40179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3574080" y="406944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3572280" y="406944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3716640" y="4109040"/>
                <a:ext cx="12996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3716640" y="410904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3840480" y="414000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3840480" y="41382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3889440" y="417600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3902400" y="417276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3889440" y="422136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3889440" y="421992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3902400" y="424332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3896280" y="425916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3956040" y="42433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3625560" y="424044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3504600" y="423540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625560" y="424044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3389040" y="418212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501720" y="42404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227400" y="414936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389040" y="418212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3174120" y="407880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3227400" y="414936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3016800" y="399564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3174120" y="40770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865240" y="382968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3016800" y="399564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3874680" y="411372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2990880" y="377640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982600" y="376956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3018600" y="376956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3016800" y="376956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074040" y="380736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3090960" y="380736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990880" y="382464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074040" y="385488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2990880" y="38246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539640" y="3718080"/>
              <a:ext cx="1368360" cy="660240"/>
              <a:chOff x="539640" y="3718080"/>
              <a:chExt cx="1368360" cy="660240"/>
            </a:xfrm>
          </p:grpSpPr>
          <p:sp>
            <p:nvSpPr>
              <p:cNvPr id="4473" name=""/>
              <p:cNvSpPr/>
              <p:nvPr/>
            </p:nvSpPr>
            <p:spPr>
              <a:xfrm>
                <a:off x="605160" y="400356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55640" y="3805560"/>
                <a:ext cx="174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921240" y="38055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11640" y="3864240"/>
                <a:ext cx="15012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55640" y="3864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11640" y="38793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55480" y="37368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23160" y="37198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46840" y="38826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39640" y="3771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21440" y="372420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21440" y="37465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8480" y="372420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70120" y="3822840"/>
                <a:ext cx="11232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975600" y="38228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800" y="389700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870120" y="389700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12800" y="389700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89120" y="38970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16320" y="3932640"/>
                <a:ext cx="1008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12800" y="393948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50800" y="3723120"/>
                <a:ext cx="134964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417680" y="4328280"/>
                <a:ext cx="11232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523520" y="4356360"/>
                <a:ext cx="1414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521360" y="43563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662480" y="4335840"/>
                <a:ext cx="13032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662480" y="436572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784160" y="4289040"/>
                <a:ext cx="8280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784160" y="4335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853640" y="423252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853640" y="428904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885320" y="4138200"/>
                <a:ext cx="2268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891800" y="423252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04320" y="4062960"/>
                <a:ext cx="9612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885320" y="413532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703160" y="4042440"/>
                <a:ext cx="10944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804320" y="406152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570680" y="4017960"/>
                <a:ext cx="1389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703160" y="4042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445040" y="3989160"/>
                <a:ext cx="13212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570680" y="40179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314720" y="3954600"/>
                <a:ext cx="1368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445040" y="39891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13560" y="391068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312560" y="39546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130760" y="3873240"/>
                <a:ext cx="9432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13560" y="39106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027080" y="3824640"/>
                <a:ext cx="11412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130760" y="38732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944280" y="376704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027080" y="38246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874800" y="3727800"/>
                <a:ext cx="8064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944280" y="3767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70760" y="3718080"/>
                <a:ext cx="11016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874800" y="372780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74640" y="3718080"/>
                <a:ext cx="1008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66800" y="37180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568800" y="37465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72480" y="3746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542160" y="381204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67000" y="3809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542160" y="3887280"/>
                <a:ext cx="5580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542160" y="388728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582480" y="396108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80320" y="396108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72480" y="4033080"/>
                <a:ext cx="14364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72480" y="403308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804960" y="4105440"/>
                <a:ext cx="1368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804960" y="41054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932760" y="417276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930960" y="4172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078560" y="4240440"/>
                <a:ext cx="18180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078560" y="424044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253880" y="4287240"/>
                <a:ext cx="171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251720" y="42872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417680" y="43264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94800" y="3755880"/>
                <a:ext cx="112284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714680" y="422136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02160" y="4149360"/>
                <a:ext cx="2196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02160" y="42213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748160" y="4088520"/>
                <a:ext cx="7596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809000" y="414612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550880" y="4042440"/>
                <a:ext cx="2062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748160" y="40863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355040" y="3997080"/>
                <a:ext cx="20232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550880" y="4042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1168920" y="3931200"/>
                <a:ext cx="19512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1355040" y="399708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1040400" y="3862080"/>
                <a:ext cx="1368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1166040" y="3931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919440" y="3805560"/>
                <a:ext cx="13212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1040400" y="38620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840600" y="3751200"/>
                <a:ext cx="9000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919440" y="38055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44120" y="3751200"/>
                <a:ext cx="10548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840600" y="374976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85800" y="3773160"/>
                <a:ext cx="694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39440" y="3771720"/>
                <a:ext cx="1584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85800" y="383436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85800" y="383076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01280" y="3912840"/>
                <a:ext cx="1036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9480" y="391284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3800" y="3989160"/>
                <a:ext cx="15516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1640" y="39891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939600" y="4052160"/>
                <a:ext cx="17532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939600" y="4052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1105920" y="4128840"/>
                <a:ext cx="21060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1105920" y="4128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1310040" y="4210560"/>
                <a:ext cx="19116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1307880" y="42105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1496520" y="4249800"/>
                <a:ext cx="22428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1496520" y="4249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1714680" y="42732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48800" y="3761640"/>
                <a:ext cx="106848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1788840" y="4190040"/>
                <a:ext cx="352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1795680" y="4132080"/>
                <a:ext cx="2844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1809000" y="419004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748160" y="408852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1795680" y="41310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1579320" y="4061520"/>
                <a:ext cx="17784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748160" y="40863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417680" y="4026960"/>
                <a:ext cx="16632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577520" y="40615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1231560" y="3975120"/>
                <a:ext cx="19512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1417680" y="40269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069920" y="3901320"/>
                <a:ext cx="17028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29040" y="3975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964080" y="3843360"/>
                <a:ext cx="11700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1069920" y="39013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867960" y="3776400"/>
                <a:ext cx="10764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964080" y="38433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3800" y="3756960"/>
                <a:ext cx="8280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867960" y="3776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41960" y="375912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1640" y="375588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39440" y="3800880"/>
                <a:ext cx="5868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37640" y="380088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89120" y="3846960"/>
                <a:ext cx="1008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82280" y="3846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881280" y="386208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881280" y="38606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970920" y="3915720"/>
                <a:ext cx="11664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970920" y="3915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1078560" y="3975120"/>
                <a:ext cx="13968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1076400" y="3975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208880" y="4017960"/>
                <a:ext cx="18468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208880" y="40179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1386360" y="4069440"/>
                <a:ext cx="15516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1384200" y="4069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1536840" y="4109040"/>
                <a:ext cx="1368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536840" y="41090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1667160" y="414000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1667160" y="41382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1718640" y="417600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1732680" y="417276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1718640" y="4221360"/>
                <a:ext cx="2448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1718640" y="421992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1732680" y="424332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1725840" y="425916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1788840" y="42433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1440360" y="4240440"/>
                <a:ext cx="18648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1312560" y="4235400"/>
                <a:ext cx="1342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1440360" y="424044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1190880" y="4182120"/>
                <a:ext cx="12168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1310040" y="42404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1020600" y="4149360"/>
                <a:ext cx="17712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1190880" y="41821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964080" y="4078800"/>
                <a:ext cx="6732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1020600" y="41493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8480" y="3995640"/>
                <a:ext cx="18180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964080" y="4077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638640" y="3829680"/>
                <a:ext cx="174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8480" y="3995640"/>
                <a:ext cx="1512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1703160" y="4113720"/>
                <a:ext cx="9612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70760" y="3776400"/>
                <a:ext cx="12348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62120" y="3769560"/>
                <a:ext cx="4248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800280" y="376956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8480" y="376956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858600" y="3807360"/>
                <a:ext cx="4464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876600" y="380736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70760" y="3824640"/>
                <a:ext cx="9432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858600" y="385488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70760" y="38246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6" name=""/>
            <p:cNvGrpSpPr/>
            <p:nvPr/>
          </p:nvGrpSpPr>
          <p:grpSpPr>
            <a:xfrm>
              <a:off x="2700360" y="4149720"/>
              <a:ext cx="1152360" cy="792000"/>
              <a:chOff x="2700360" y="4149720"/>
              <a:chExt cx="1152360" cy="792000"/>
            </a:xfrm>
          </p:grpSpPr>
          <p:sp>
            <p:nvSpPr>
              <p:cNvPr id="4657" name=""/>
              <p:cNvSpPr/>
              <p:nvPr/>
            </p:nvSpPr>
            <p:spPr>
              <a:xfrm>
                <a:off x="2755440" y="4492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2882160" y="4254840"/>
                <a:ext cx="14724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21840" y="425484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2761200" y="4325040"/>
                <a:ext cx="12636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882160" y="432504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2761200" y="434340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2713680" y="417240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2770560" y="415188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2706480" y="434736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2700360" y="421380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853360" y="415728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853360" y="418356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918160" y="415728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978640" y="4275720"/>
                <a:ext cx="9432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067560" y="427572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914200" y="436428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978640" y="43642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2846160" y="43642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2910240" y="436428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2764800" y="4407120"/>
                <a:ext cx="8496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2846160" y="441504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709720" y="4155480"/>
                <a:ext cx="1136520" cy="7786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439800" y="4881960"/>
                <a:ext cx="9432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528720" y="4915440"/>
                <a:ext cx="1191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527280" y="49154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646080" y="4890960"/>
                <a:ext cx="1098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646080" y="492660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748680" y="4834800"/>
                <a:ext cx="698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748680" y="48909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807000" y="4766760"/>
                <a:ext cx="4572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807000" y="483480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3833640" y="4653720"/>
                <a:ext cx="190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839400" y="476676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765240" y="4563360"/>
                <a:ext cx="8100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3833640" y="465048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3680280" y="453888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765240" y="45619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568680" y="4509360"/>
                <a:ext cx="11700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680280" y="453888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462840" y="4475160"/>
                <a:ext cx="11124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3568680" y="450936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353040" y="4433400"/>
                <a:ext cx="11520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462840" y="4475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268080" y="4380840"/>
                <a:ext cx="92160" cy="6408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351240" y="44334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3198240" y="433620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268080" y="43808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110760" y="4277880"/>
                <a:ext cx="9612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98240" y="433620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040920" y="4208400"/>
                <a:ext cx="792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110760" y="4277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2982600" y="4161240"/>
                <a:ext cx="6804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040920" y="42084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895120" y="4149720"/>
                <a:ext cx="9288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2982600" y="416124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2814120" y="4149720"/>
                <a:ext cx="8496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2891880" y="414972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2724840" y="418356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2812320" y="41835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2702520" y="4262760"/>
                <a:ext cx="3600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2723400" y="4258800"/>
                <a:ext cx="151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2702520" y="4352760"/>
                <a:ext cx="4716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2702520" y="435276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2736360" y="4441320"/>
                <a:ext cx="8712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2734560" y="44413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2812320" y="4527720"/>
                <a:ext cx="12096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2812320" y="4527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2923920" y="4614480"/>
                <a:ext cx="11520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2923920" y="4614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3031560" y="4695120"/>
                <a:ext cx="13032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3029760" y="46951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3154320" y="4776480"/>
                <a:ext cx="15300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3154320" y="47764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3301920" y="4832640"/>
                <a:ext cx="144000" cy="619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3300120" y="48326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3439800" y="487980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830680" y="4195080"/>
                <a:ext cx="945720" cy="627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3690000" y="475344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763800" y="4667040"/>
                <a:ext cx="1836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763800" y="4753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3718080" y="4593960"/>
                <a:ext cx="6408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3769200" y="46630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3552120" y="4538880"/>
                <a:ext cx="17388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3718080" y="4591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386880" y="4484520"/>
                <a:ext cx="17064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3552120" y="453888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3230280" y="4405680"/>
                <a:ext cx="164160" cy="921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3386880" y="448452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3122280" y="4322520"/>
                <a:ext cx="11520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228120" y="44056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20040" y="4254840"/>
                <a:ext cx="111240" cy="7920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122280" y="43225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2953800" y="418932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020040" y="42548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2872800" y="4189320"/>
                <a:ext cx="8856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953800" y="41875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823480" y="4215600"/>
                <a:ext cx="58320" cy="770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868840" y="421380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823480" y="4289040"/>
                <a:ext cx="2628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823480" y="4285080"/>
                <a:ext cx="1512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836440" y="438336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2834640" y="43833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2914200" y="4475160"/>
                <a:ext cx="13032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2912760" y="447516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3036960" y="4550760"/>
                <a:ext cx="14760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3036960" y="45507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3177360" y="4642560"/>
                <a:ext cx="17712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3177360" y="464256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3349080" y="4740480"/>
                <a:ext cx="16092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3347280" y="474048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3506400" y="4787640"/>
                <a:ext cx="1890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3506400" y="478764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3690000" y="48157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2876760" y="4202280"/>
                <a:ext cx="900000" cy="6037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3752640" y="4716000"/>
                <a:ext cx="295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3758040" y="4646520"/>
                <a:ext cx="2412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3769200" y="4716000"/>
                <a:ext cx="126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3718080" y="459396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3758040" y="464472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3576240" y="4561920"/>
                <a:ext cx="149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3718080" y="4591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3439800" y="4520520"/>
                <a:ext cx="1400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3574440" y="45619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283200" y="4458240"/>
                <a:ext cx="16452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439800" y="45205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3146760" y="4369680"/>
                <a:ext cx="14364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3281040" y="445824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3057840" y="4300200"/>
                <a:ext cx="9828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3146760" y="4369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976840" y="42195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3057840" y="43002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914200" y="4196520"/>
                <a:ext cx="698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976840" y="42195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871000" y="4198680"/>
                <a:ext cx="5292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912760" y="41950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868840" y="424944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867040" y="42494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910240" y="4304160"/>
                <a:ext cx="8496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904840" y="430416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988000" y="432252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988000" y="432108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3063600" y="4386960"/>
                <a:ext cx="9828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3063600" y="4386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3154320" y="4458240"/>
                <a:ext cx="11736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3152520" y="445824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3264120" y="4509360"/>
                <a:ext cx="15552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3264120" y="45093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3413520" y="4571280"/>
                <a:ext cx="13032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3411720" y="45712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3540240" y="4618440"/>
                <a:ext cx="11520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3540240" y="461844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3650040" y="4655880"/>
                <a:ext cx="6624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3650040" y="46537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3693240" y="4699080"/>
                <a:ext cx="2628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3705120" y="4695120"/>
                <a:ext cx="1440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693240" y="4753440"/>
                <a:ext cx="205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3693240" y="47516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3705120" y="4779720"/>
                <a:ext cx="5616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699360" y="479880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752640" y="4779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458880" y="477648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3351240" y="4770360"/>
                <a:ext cx="11304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3458880" y="4776480"/>
                <a:ext cx="540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3249000" y="4706280"/>
                <a:ext cx="10224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349080" y="477648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105360" y="4667040"/>
                <a:ext cx="149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3249000" y="470628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3057840" y="4582440"/>
                <a:ext cx="5688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3105360" y="46670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918160" y="4482720"/>
                <a:ext cx="15300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3057840" y="45802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783520" y="4283640"/>
                <a:ext cx="14724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918160" y="44827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3680280" y="4624200"/>
                <a:ext cx="8100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895120" y="4219560"/>
                <a:ext cx="10404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887920" y="4211640"/>
                <a:ext cx="3600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919960" y="421164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918160" y="4211640"/>
                <a:ext cx="540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968920" y="4257000"/>
                <a:ext cx="3744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984040" y="42570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95120" y="4277880"/>
                <a:ext cx="792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968920" y="4313880"/>
                <a:ext cx="756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95120" y="42778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0" name=""/>
            <p:cNvGrpSpPr/>
            <p:nvPr/>
          </p:nvGrpSpPr>
          <p:grpSpPr>
            <a:xfrm>
              <a:off x="3615120" y="3988440"/>
              <a:ext cx="836640" cy="976320"/>
              <a:chOff x="3615120" y="3988440"/>
              <a:chExt cx="836640" cy="976320"/>
            </a:xfrm>
          </p:grpSpPr>
          <p:sp>
            <p:nvSpPr>
              <p:cNvPr id="4841" name=""/>
              <p:cNvSpPr/>
              <p:nvPr/>
            </p:nvSpPr>
            <p:spPr>
              <a:xfrm rot="16404600">
                <a:off x="3961080" y="48934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 rot="16404600">
                <a:off x="3708000" y="4683600"/>
                <a:ext cx="12060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 rot="16404600">
                <a:off x="3733920" y="46591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rot="16404600">
                <a:off x="3754440" y="4819320"/>
                <a:ext cx="10368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 rot="16404600">
                <a:off x="3796920" y="477828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 rot="16404600">
                <a:off x="3810960" y="487944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 rot="16404600">
                <a:off x="3638880" y="490716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 rot="16404600">
                <a:off x="3618720" y="4859280"/>
                <a:ext cx="576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 rot="16404600">
                <a:off x="3812040" y="492228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 rot="16404600">
                <a:off x="3677760" y="491940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 rot="16404600">
                <a:off x="3617640" y="4751640"/>
                <a:ext cx="5904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 rot="16404600">
                <a:off x="3655440" y="4791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 rot="16404600">
                <a:off x="3631320" y="4738680"/>
                <a:ext cx="576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 rot="16404600">
                <a:off x="3763440" y="461880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 rot="16404600">
                <a:off x="3757680" y="4624200"/>
                <a:ext cx="46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 rot="16404600">
                <a:off x="3816000" y="472356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 rot="16404600">
                <a:off x="3840480" y="47008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rot="16404600">
                <a:off x="3835800" y="4760280"/>
                <a:ext cx="572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 rot="16404600">
                <a:off x="3838320" y="47581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 rot="16404600">
                <a:off x="3849120" y="4841640"/>
                <a:ext cx="6948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 rot="16404600">
                <a:off x="3885480" y="481392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 rot="16404600">
                <a:off x="3566160" y="4087080"/>
                <a:ext cx="931680" cy="7786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 rot="16404600">
                <a:off x="4364280" y="430236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 rot="16404600">
                <a:off x="4381200" y="4231800"/>
                <a:ext cx="975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 rot="16404600">
                <a:off x="4419000" y="428436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 rot="16404600">
                <a:off x="4378320" y="4127040"/>
                <a:ext cx="900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 rot="16404600">
                <a:off x="4437000" y="418896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 rot="16404600">
                <a:off x="4352400" y="404712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 rot="16404600">
                <a:off x="4404600" y="410076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 rot="16404600">
                <a:off x="4300200" y="4001760"/>
                <a:ext cx="3744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 rot="16404600">
                <a:off x="4347720" y="40500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 rot="16404600">
                <a:off x="4218840" y="3965400"/>
                <a:ext cx="154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 rot="16404600">
                <a:off x="4279320" y="4021560"/>
                <a:ext cx="1080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 rot="16404600">
                <a:off x="4091040" y="4000680"/>
                <a:ext cx="6624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 rot="16404600">
                <a:off x="4164120" y="4018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 rot="16404600">
                <a:off x="4028040" y="4091760"/>
                <a:ext cx="7560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rot="16404600">
                <a:off x="4075200" y="406800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rot="16404600">
                <a:off x="3987360" y="4168080"/>
                <a:ext cx="9576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rot="16404600">
                <a:off x="4050360" y="41378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rot="16404600">
                <a:off x="3952080" y="4253400"/>
                <a:ext cx="9108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 rot="16404600">
                <a:off x="4015080" y="42278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rot="16404600">
                <a:off x="3907440" y="4335480"/>
                <a:ext cx="9432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 rot="16404600">
                <a:off x="3976200" y="43124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 rot="16404600">
                <a:off x="3864600" y="440676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 rot="16404600">
                <a:off x="3927960" y="439992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rot="16404600">
                <a:off x="3817440" y="4470480"/>
                <a:ext cx="648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 rot="16404600">
                <a:off x="3870360" y="446544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 rot="16404600">
                <a:off x="3755160" y="4524840"/>
                <a:ext cx="7884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rot="16404600">
                <a:off x="3822120" y="4520520"/>
                <a:ext cx="72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rot="16404600">
                <a:off x="3694680" y="4579560"/>
                <a:ext cx="648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 rot="16404600">
                <a:off x="3759480" y="45878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 rot="16404600">
                <a:off x="3637440" y="4640040"/>
                <a:ext cx="5580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 rot="16404600">
                <a:off x="3686760" y="46407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 rot="16404600">
                <a:off x="3595320" y="4716720"/>
                <a:ext cx="7596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 rot="16404600">
                <a:off x="3637800" y="468540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rot="16404600">
                <a:off x="3605760" y="4775760"/>
                <a:ext cx="6948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 rot="16404600">
                <a:off x="3622680" y="475956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 rot="16404600">
                <a:off x="3650400" y="4827600"/>
                <a:ext cx="7884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 rot="16404600">
                <a:off x="3651840" y="482616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 rot="16404600">
                <a:off x="3754440" y="4872600"/>
                <a:ext cx="2952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 rot="16404600">
                <a:off x="3719160" y="490176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 rot="16404600">
                <a:off x="3840840" y="4872240"/>
                <a:ext cx="3852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 rot="16404600">
                <a:off x="3808440" y="492804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 rot="16404600">
                <a:off x="3917160" y="4832280"/>
                <a:ext cx="7128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 rot="16404600">
                <a:off x="3900960" y="490428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 rot="16404600">
                <a:off x="3994560" y="4760640"/>
                <a:ext cx="9900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 rot="16404600">
                <a:off x="3993480" y="484632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rot="16404600">
                <a:off x="4086000" y="4680000"/>
                <a:ext cx="9432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 rot="16404600">
                <a:off x="4086360" y="47610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 rot="16404600">
                <a:off x="4166640" y="4589640"/>
                <a:ext cx="10692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 rot="16404600">
                <a:off x="4173120" y="46785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rot="16404600">
                <a:off x="4233600" y="4495320"/>
                <a:ext cx="12528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rot="16404600">
                <a:off x="4260600" y="45820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rot="16404600">
                <a:off x="4295880" y="4385880"/>
                <a:ext cx="118080" cy="619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rot="16404600">
                <a:off x="4325400" y="446544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rot="16404600">
                <a:off x="4378680" y="43534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rot="16404600">
                <a:off x="3609720" y="4139280"/>
                <a:ext cx="775080" cy="627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rot="16404600">
                <a:off x="4265640" y="4081320"/>
                <a:ext cx="6948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rot="16404600">
                <a:off x="4216320" y="4035600"/>
                <a:ext cx="1512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rot="16404600">
                <a:off x="4264560" y="40806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rot="16404600">
                <a:off x="4117320" y="4055760"/>
                <a:ext cx="5256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rot="16404600">
                <a:off x="4173840" y="407160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rot="16404600">
                <a:off x="4005360" y="4149720"/>
                <a:ext cx="14256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rot="16404600">
                <a:off x="4102560" y="41079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rot="16404600">
                <a:off x="3945240" y="4281840"/>
                <a:ext cx="13968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rot="16404600">
                <a:off x="4043880" y="42433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rot="16404600">
                <a:off x="3873240" y="4396320"/>
                <a:ext cx="134640" cy="921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6404600">
                <a:off x="3980880" y="437436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rot="16404600">
                <a:off x="3805200" y="4499280"/>
                <a:ext cx="9432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rot="16404600">
                <a:off x="3893760" y="44992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rot="16404600">
                <a:off x="3726720" y="4587480"/>
                <a:ext cx="91080" cy="7920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rot="16404600">
                <a:off x="3804840" y="458136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rot="16404600">
                <a:off x="3670560" y="4653360"/>
                <a:ext cx="6228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rot="16404600">
                <a:off x="3732480" y="466092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rot="16404600">
                <a:off x="3641760" y="4732920"/>
                <a:ext cx="7272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rot="16404600">
                <a:off x="3663360" y="4709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rot="16404600">
                <a:off x="3697200" y="4768200"/>
                <a:ext cx="47880" cy="770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rot="16404600">
                <a:off x="3682800" y="47804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rot="16404600">
                <a:off x="3794400" y="4775040"/>
                <a:ext cx="2160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rot="16404600">
                <a:off x="3748680" y="48229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rot="16404600">
                <a:off x="3867120" y="4743720"/>
                <a:ext cx="7128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rot="16404600">
                <a:off x="3848040" y="48186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rot="16404600">
                <a:off x="3938400" y="4674960"/>
                <a:ext cx="10692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rot="16404600">
                <a:off x="3947040" y="476064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rot="16404600">
                <a:off x="4021920" y="4563720"/>
                <a:ext cx="12096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rot="16404600">
                <a:off x="4029840" y="46645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rot="16404600">
                <a:off x="4112640" y="4438800"/>
                <a:ext cx="14544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rot="16404600">
                <a:off x="4128480" y="455544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rot="16404600">
                <a:off x="4199760" y="433476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rot="16404600">
                <a:off x="4235760" y="442116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rot="16404600">
                <a:off x="4234320" y="4206240"/>
                <a:ext cx="1548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rot="16404600">
                <a:off x="4291920" y="429552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rot="16404600">
                <a:off x="4326840" y="41443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rot="16404600">
                <a:off x="3625200" y="4132440"/>
                <a:ext cx="737640" cy="6037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 rot="16404600">
                <a:off x="4252320" y="4050720"/>
                <a:ext cx="241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rot="16404600">
                <a:off x="4184640" y="4045320"/>
                <a:ext cx="1944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rot="16404600">
                <a:off x="4224600" y="4076640"/>
                <a:ext cx="1044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 rot="16404600">
                <a:off x="4112280" y="4069440"/>
                <a:ext cx="4320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rot="16404600">
                <a:off x="4154760" y="407988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rot="16404600">
                <a:off x="4027320" y="4151880"/>
                <a:ext cx="122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rot="16404600">
                <a:off x="4102560" y="41079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 rot="16404600">
                <a:off x="3988800" y="4259160"/>
                <a:ext cx="1148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rot="16404600">
                <a:off x="4068000" y="422676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rot="16404600">
                <a:off x="3919680" y="436464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rot="16404600">
                <a:off x="4019040" y="43329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rot="16404600">
                <a:off x="3845160" y="4467240"/>
                <a:ext cx="11772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 rot="16404600">
                <a:off x="3948840" y="44589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 rot="16404600">
                <a:off x="3779640" y="456372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rot="16404600">
                <a:off x="3852720" y="45637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rot="16404600">
                <a:off x="3703680" y="462348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rot="16404600">
                <a:off x="3779280" y="46328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rot="16404600">
                <a:off x="3657600" y="4708080"/>
                <a:ext cx="572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rot="16404600">
                <a:off x="3695400" y="46940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rot="16404600">
                <a:off x="3676320" y="4739400"/>
                <a:ext cx="4320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rot="16404600">
                <a:off x="3668400" y="474300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rot="16404600">
                <a:off x="3731040" y="4742640"/>
                <a:ext cx="40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rot="16404600">
                <a:off x="3715920" y="47844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rot="16404600">
                <a:off x="3757320" y="471348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rot="16404600">
                <a:off x="3776040" y="47552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 rot="16404600">
                <a:off x="3801240" y="4629960"/>
                <a:ext cx="6948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 rot="16404600">
                <a:off x="3798720" y="468936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 rot="16404600">
                <a:off x="3867120" y="4563360"/>
                <a:ext cx="8064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 rot="16404600">
                <a:off x="3866040" y="46332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rot="16404600">
                <a:off x="3926160" y="4494240"/>
                <a:ext cx="9612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rot="16404600">
                <a:off x="3942720" y="456372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rot="16404600">
                <a:off x="3974040" y="4386240"/>
                <a:ext cx="12744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rot="16404600">
                <a:off x="3999240" y="44766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rot="16404600">
                <a:off x="4045320" y="4284720"/>
                <a:ext cx="10692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rot="16404600">
                <a:off x="4069080" y="4358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rot="16404600">
                <a:off x="4098960" y="4195440"/>
                <a:ext cx="9432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rot="16404600">
                <a:off x="4123800" y="42577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rot="16404600">
                <a:off x="4161600" y="4126680"/>
                <a:ext cx="5436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rot="16404600">
                <a:off x="4163400" y="41680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rot="16404600">
                <a:off x="4223160" y="4109400"/>
                <a:ext cx="2160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rot="16404600">
                <a:off x="4203720" y="412344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rot="16404600">
                <a:off x="4279680" y="4114800"/>
                <a:ext cx="169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 rot="16404600">
                <a:off x="4254840" y="414108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rot="16404600">
                <a:off x="4282560" y="4101480"/>
                <a:ext cx="4608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 rot="16404600">
                <a:off x="4309560" y="413208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 rot="16404600">
                <a:off x="4292280" y="4089600"/>
                <a:ext cx="1044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 rot="16404600">
                <a:off x="4239000" y="4252320"/>
                <a:ext cx="12852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 rot="16404600">
                <a:off x="4227480" y="4373640"/>
                <a:ext cx="9252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rot="16404600">
                <a:off x="4277520" y="433332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 rot="16404600">
                <a:off x="4194360" y="4428000"/>
                <a:ext cx="8388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rot="16404600">
                <a:off x="4273200" y="44240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rot="16404600">
                <a:off x="4115160" y="4538160"/>
                <a:ext cx="122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 rot="16404600">
                <a:off x="4197240" y="45003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rot="16404600">
                <a:off x="4084920" y="4590360"/>
                <a:ext cx="4644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 rot="16404600">
                <a:off x="4147560" y="46155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 rot="16404600">
                <a:off x="3947040" y="4654080"/>
                <a:ext cx="12528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 rot="16404600">
                <a:off x="4056120" y="464868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 rot="16404600">
                <a:off x="3793320" y="4708080"/>
                <a:ext cx="12060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rot="16404600">
                <a:off x="3951360" y="4758480"/>
                <a:ext cx="1044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 rot="16404600">
                <a:off x="4165200" y="4056840"/>
                <a:ext cx="6624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rot="16404600">
                <a:off x="3700080" y="4679640"/>
                <a:ext cx="8532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 rot="16404600">
                <a:off x="3703320" y="4726440"/>
                <a:ext cx="2952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 rot="16404600">
                <a:off x="3678120" y="4692600"/>
                <a:ext cx="6372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rot="16404600">
                <a:off x="3688200" y="47408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 rot="16404600">
                <a:off x="3750840" y="4663080"/>
                <a:ext cx="3060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 rot="16404600">
                <a:off x="3728160" y="4690080"/>
                <a:ext cx="1224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 rot="16404600">
                <a:off x="3742920" y="4716720"/>
                <a:ext cx="648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rot="16404600">
                <a:off x="3791880" y="470412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 rot="16404600">
                <a:off x="3744720" y="4764240"/>
                <a:ext cx="1224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4" name=""/>
            <p:cNvGrpSpPr/>
            <p:nvPr/>
          </p:nvGrpSpPr>
          <p:grpSpPr>
            <a:xfrm>
              <a:off x="2268360" y="4437000"/>
              <a:ext cx="1159200" cy="733320"/>
              <a:chOff x="2268360" y="4437000"/>
              <a:chExt cx="1159200" cy="733320"/>
            </a:xfrm>
          </p:grpSpPr>
          <p:sp>
            <p:nvSpPr>
              <p:cNvPr id="5025" name=""/>
              <p:cNvSpPr/>
              <p:nvPr/>
            </p:nvSpPr>
            <p:spPr>
              <a:xfrm>
                <a:off x="2323800" y="4754160"/>
                <a:ext cx="1440" cy="133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451240" y="453420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591640" y="45342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329560" y="4599360"/>
                <a:ext cx="127440" cy="295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451240" y="459936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2329560" y="461628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81680" y="445788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339280" y="44388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74480" y="461988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68360" y="44964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422440" y="4443840"/>
                <a:ext cx="72360" cy="381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422440" y="4468320"/>
                <a:ext cx="756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487600" y="444384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548080" y="4553640"/>
                <a:ext cx="95040" cy="94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2637720" y="455364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483640" y="463536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548080" y="46353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4880" y="4635360"/>
                <a:ext cx="70200" cy="590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79680" y="46353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333160" y="4675320"/>
                <a:ext cx="85320" cy="226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14880" y="468288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277720" y="4442400"/>
                <a:ext cx="1143360" cy="721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3012120" y="5114880"/>
                <a:ext cx="95040" cy="450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3101760" y="5146200"/>
                <a:ext cx="119880" cy="241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3099960" y="51462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3219480" y="5123160"/>
                <a:ext cx="110160" cy="471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3219480" y="515628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3322800" y="5071320"/>
                <a:ext cx="70200" cy="64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3322800" y="51231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3381480" y="5008320"/>
                <a:ext cx="45720" cy="709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3381480" y="507132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3408480" y="4903560"/>
                <a:ext cx="19080" cy="1080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3413880" y="500832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3339720" y="4820040"/>
                <a:ext cx="81360" cy="885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3408480" y="4900680"/>
                <a:ext cx="12960" cy="82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3254040" y="4797360"/>
                <a:ext cx="92880" cy="3312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3339720" y="481860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3142080" y="477000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3254040" y="47973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3035520" y="4738320"/>
                <a:ext cx="111960" cy="432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3142080" y="47700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925000" y="46998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3035520" y="473832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39320" y="4651200"/>
                <a:ext cx="92880" cy="594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23200" y="469980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769120" y="4609440"/>
                <a:ext cx="79920" cy="52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839320" y="46512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681280" y="455544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2769120" y="46094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2611080" y="4491360"/>
                <a:ext cx="79920" cy="745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2681280" y="4555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2552040" y="444780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2611080" y="44913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2464200" y="4437000"/>
                <a:ext cx="93240" cy="226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2552040" y="44478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2382840" y="4437000"/>
                <a:ext cx="85320" cy="432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2460960" y="443700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2293200" y="446832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2381040" y="44683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2270520" y="4541400"/>
                <a:ext cx="36000" cy="8496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2291400" y="453816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2270520" y="462492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2270520" y="462492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2304720" y="4707000"/>
                <a:ext cx="87480" cy="90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2302920" y="47070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2381040" y="4786920"/>
                <a:ext cx="121680" cy="90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2381040" y="478692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2493000" y="4867560"/>
                <a:ext cx="115920" cy="8496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2493000" y="48675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2601360" y="4942080"/>
                <a:ext cx="131400" cy="8712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2599560" y="49420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2724840" y="5017320"/>
                <a:ext cx="153720" cy="65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2724840" y="501732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2873520" y="5069160"/>
                <a:ext cx="144720" cy="576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2871720" y="506916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012120" y="511272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2399760" y="4478760"/>
                <a:ext cx="951120" cy="5814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263760" y="499608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337920" y="491616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337920" y="499608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292200" y="484812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343680" y="49125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125160" y="4797360"/>
                <a:ext cx="174960" cy="6120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3292200" y="4845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2958840" y="4746960"/>
                <a:ext cx="171360" cy="6264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125160" y="47973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2801520" y="467388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2958840" y="474696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2692440" y="4597200"/>
                <a:ext cx="115920" cy="87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2799000" y="46738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2590200" y="4534200"/>
                <a:ext cx="111960" cy="734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2692440" y="45972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2523240" y="447372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2590200" y="453420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2441520" y="4473720"/>
                <a:ext cx="89280" cy="345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2523240" y="44722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2392200" y="449784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2437560" y="449640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2392200" y="4565880"/>
                <a:ext cx="26280" cy="9216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2392200" y="4562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2405160" y="4653360"/>
                <a:ext cx="87840" cy="95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2403720" y="465336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2483640" y="4738320"/>
                <a:ext cx="131400" cy="817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2481840" y="47383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2607120" y="4808160"/>
                <a:ext cx="148320" cy="9720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2607120" y="480816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2748240" y="4893480"/>
                <a:ext cx="178200" cy="10476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2748240" y="48934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2921040" y="4984200"/>
                <a:ext cx="162000" cy="5724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2919240" y="49842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3079080" y="5027760"/>
                <a:ext cx="190080" cy="399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3079080" y="5027760"/>
                <a:ext cx="360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3263760" y="505368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2445480" y="4485600"/>
                <a:ext cx="905040" cy="559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3326760" y="4961160"/>
                <a:ext cx="29880" cy="694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3332520" y="4897080"/>
                <a:ext cx="24120" cy="6768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3343680" y="49611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3292200" y="4848120"/>
                <a:ext cx="52920" cy="550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3332520" y="489528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3149280" y="4818600"/>
                <a:ext cx="150480" cy="399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292200" y="4845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012120" y="4780080"/>
                <a:ext cx="140760" cy="500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147480" y="4818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2854800" y="4722480"/>
                <a:ext cx="165240" cy="694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012120" y="478008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2717640" y="4640760"/>
                <a:ext cx="144360" cy="9216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2852280" y="47224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2628000" y="4576320"/>
                <a:ext cx="99000" cy="745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2717640" y="46407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2546280" y="4501800"/>
                <a:ext cx="91080" cy="8496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2628000" y="457632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2483640" y="4480200"/>
                <a:ext cx="70200" cy="33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2546280" y="45018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2439720" y="4482360"/>
                <a:ext cx="53280" cy="5544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481840" y="44787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2437560" y="4529160"/>
                <a:ext cx="49680" cy="6084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2436120" y="452916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2479680" y="457992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2473920" y="457992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2557800" y="459720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2557800" y="45954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2633760" y="4656600"/>
                <a:ext cx="99000" cy="763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2633760" y="46566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2724840" y="4722480"/>
                <a:ext cx="118080" cy="5904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2723040" y="47224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2835360" y="477000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2835360" y="47700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2985480" y="4827600"/>
                <a:ext cx="131400" cy="568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2984040" y="48276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112920" y="4871160"/>
                <a:ext cx="115920" cy="464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112920" y="4871160"/>
                <a:ext cx="3960" cy="133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223440" y="490572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223440" y="49035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3267360" y="494568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279240" y="494208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267360" y="4996080"/>
                <a:ext cx="20880" cy="507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267360" y="49946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3279240" y="5020560"/>
                <a:ext cx="56520" cy="3132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273480" y="50382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326760" y="50205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3031560" y="5017320"/>
                <a:ext cx="158040" cy="500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2923200" y="5011560"/>
                <a:ext cx="113760" cy="190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3031560" y="501732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2820240" y="4952520"/>
                <a:ext cx="102960" cy="781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2921040" y="5017320"/>
                <a:ext cx="2160" cy="133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2675520" y="4916160"/>
                <a:ext cx="149760" cy="500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2820240" y="495252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2628000" y="4837680"/>
                <a:ext cx="57240" cy="88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2675520" y="49161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2487600" y="474552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2628000" y="483588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352240" y="4560840"/>
                <a:ext cx="148320" cy="191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2487600" y="474552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254040" y="4876200"/>
                <a:ext cx="81360" cy="12168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2464200" y="450180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2457000" y="4494240"/>
                <a:ext cx="36000" cy="6768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2489040" y="4494240"/>
                <a:ext cx="78120" cy="4860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2487600" y="449424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2538360" y="4536360"/>
                <a:ext cx="37800" cy="65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2553840" y="453636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2464200" y="4555440"/>
                <a:ext cx="79920" cy="4860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2538360" y="4588920"/>
                <a:ext cx="7560" cy="154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2464200" y="455544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8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" fill="hold"/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" dur="200" fill="hold"/>
                                        <p:tgtEl>
                                          <p:spTgt spid="3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" dur="200" fill="hold"/>
                                        <p:tgtEl>
                                          <p:spTgt spid="3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grpSp>
        <p:nvGrpSpPr>
          <p:cNvPr id="5210" name=""/>
          <p:cNvGrpSpPr/>
          <p:nvPr/>
        </p:nvGrpSpPr>
        <p:grpSpPr>
          <a:xfrm>
            <a:off x="826920" y="3789360"/>
            <a:ext cx="3529080" cy="1452600"/>
            <a:chOff x="826920" y="3789360"/>
            <a:chExt cx="3529080" cy="1452600"/>
          </a:xfrm>
        </p:grpSpPr>
        <p:grpSp>
          <p:nvGrpSpPr>
            <p:cNvPr id="5211" name=""/>
            <p:cNvGrpSpPr/>
            <p:nvPr/>
          </p:nvGrpSpPr>
          <p:grpSpPr>
            <a:xfrm>
              <a:off x="971640" y="4149720"/>
              <a:ext cx="1305000" cy="803160"/>
              <a:chOff x="971640" y="4149720"/>
              <a:chExt cx="1305000" cy="803160"/>
            </a:xfrm>
          </p:grpSpPr>
          <p:sp>
            <p:nvSpPr>
              <p:cNvPr id="5212" name=""/>
              <p:cNvSpPr/>
              <p:nvPr/>
            </p:nvSpPr>
            <p:spPr>
              <a:xfrm>
                <a:off x="1033920" y="449712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77560" y="4256280"/>
                <a:ext cx="167040" cy="838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335600" y="425628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1040400" y="4327200"/>
                <a:ext cx="143280" cy="3204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1177560" y="43272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1040400" y="43459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986760" y="4172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1051200" y="41518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978480" y="43498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971640" y="421488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1145160" y="4157280"/>
                <a:ext cx="81360" cy="4212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1145160" y="418428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1218240" y="41572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1286640" y="427752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1387440" y="42775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1213920" y="4367160"/>
                <a:ext cx="83520" cy="208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286640" y="43671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36520" y="4367160"/>
                <a:ext cx="78840" cy="644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209240" y="436716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044720" y="4410720"/>
                <a:ext cx="96120" cy="2484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136520" y="44190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982440" y="4155840"/>
                <a:ext cx="1287000" cy="7898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809000" y="4892040"/>
                <a:ext cx="106920" cy="49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909800" y="4926240"/>
                <a:ext cx="135000" cy="2664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908000" y="49262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2042640" y="490140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2042640" y="4937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2158560" y="4844520"/>
                <a:ext cx="78840" cy="702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2158560" y="4901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224800" y="4775760"/>
                <a:ext cx="51480" cy="7776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224800" y="484452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55040" y="4660920"/>
                <a:ext cx="21600" cy="11808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61520" y="47757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177640" y="4569480"/>
                <a:ext cx="91800" cy="9720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255040" y="4657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081520" y="4544280"/>
                <a:ext cx="104400" cy="3636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177640" y="456768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1955160" y="4514400"/>
                <a:ext cx="132480" cy="435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2081520" y="45442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1835280" y="4479480"/>
                <a:ext cx="126000" cy="475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1955160" y="45144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1710720" y="4437360"/>
                <a:ext cx="130680" cy="5544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1835280" y="44794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1614600" y="4384080"/>
                <a:ext cx="104400" cy="6516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1708920" y="4437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1535400" y="4338720"/>
                <a:ext cx="89640" cy="5724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1614600" y="43840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1436400" y="4279680"/>
                <a:ext cx="108720" cy="702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1535400" y="43387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1357560" y="4209120"/>
                <a:ext cx="89640" cy="817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1436400" y="42796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1291320" y="4161240"/>
                <a:ext cx="77040" cy="590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1357560" y="4209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1192320" y="4149720"/>
                <a:ext cx="105120" cy="2484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1291320" y="41612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1100520" y="4149720"/>
                <a:ext cx="96120" cy="475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1188360" y="4149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999360" y="4184280"/>
                <a:ext cx="108720" cy="874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1098360" y="41842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974160" y="4264200"/>
                <a:ext cx="40680" cy="932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997560" y="426024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974160" y="4355640"/>
                <a:ext cx="53280" cy="9540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974160" y="435564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1012320" y="444564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1010520" y="44456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1098360" y="4533120"/>
                <a:ext cx="136800" cy="9936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1098360" y="45331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1224720" y="4620960"/>
                <a:ext cx="130680" cy="9288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1224720" y="46209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1346400" y="4703040"/>
                <a:ext cx="147960" cy="9540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1344600" y="470304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1485720" y="478512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1485720" y="478512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1652760" y="4842000"/>
                <a:ext cx="163080" cy="630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1650960" y="48420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1809000" y="488988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1119600" y="4195440"/>
                <a:ext cx="1071000" cy="636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2092320" y="476208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2175840" y="4674600"/>
                <a:ext cx="20880" cy="9288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2175840" y="4762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2124360" y="460008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2182320" y="4670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1936080" y="4544280"/>
                <a:ext cx="196920" cy="6696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2124360" y="459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1749240" y="4489200"/>
                <a:ext cx="192960" cy="6840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1936080" y="45442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1571760" y="4409280"/>
                <a:ext cx="186120" cy="9360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1749240" y="44892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1449360" y="4325040"/>
                <a:ext cx="130680" cy="9540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1569240" y="4409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1333800" y="4256280"/>
                <a:ext cx="126000" cy="806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1449360" y="43250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1258560" y="4190040"/>
                <a:ext cx="86040" cy="781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1333800" y="42562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1166760" y="4190040"/>
                <a:ext cx="100440" cy="3780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1258560" y="41882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1111320" y="4216680"/>
                <a:ext cx="66240" cy="781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1162080" y="4214880"/>
                <a:ext cx="15120" cy="12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1111320" y="4290840"/>
                <a:ext cx="29880" cy="100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1111320" y="4286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1125720" y="4386600"/>
                <a:ext cx="98640" cy="104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1123920" y="43866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1213920" y="4479480"/>
                <a:ext cx="147960" cy="896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1212120" y="44794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1352880" y="4556160"/>
                <a:ext cx="167040" cy="10656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1352880" y="455616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1511640" y="4649400"/>
                <a:ext cx="200880" cy="11448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1511640" y="46494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1706400" y="4749120"/>
                <a:ext cx="182160" cy="6300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1704600" y="474912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1884240" y="4796640"/>
                <a:ext cx="214200" cy="435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1884240" y="479664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092320" y="48250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1171080" y="4203000"/>
                <a:ext cx="1019160" cy="61236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163240" y="4723920"/>
                <a:ext cx="33480" cy="7596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169360" y="4653360"/>
                <a:ext cx="27000" cy="7416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182320" y="472392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124360" y="460008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169360" y="46519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1963440" y="4567680"/>
                <a:ext cx="169560" cy="435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124360" y="459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1809000" y="452556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1961640" y="45676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1631520" y="4462560"/>
                <a:ext cx="186120" cy="7596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1809000" y="452556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1477440" y="4372920"/>
                <a:ext cx="162720" cy="100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1629360" y="44625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1376640" y="4302360"/>
                <a:ext cx="111600" cy="817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1477440" y="4372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1284480" y="422064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1376640" y="43023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1213920" y="4197240"/>
                <a:ext cx="78840" cy="360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1284480" y="42206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164600" y="419940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212120" y="4195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162080" y="425052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160280" y="425052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209240" y="4306320"/>
                <a:ext cx="96120" cy="3204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203120" y="430632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297440" y="432504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297440" y="43232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383120" y="4390200"/>
                <a:ext cx="111240" cy="835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1383120" y="4390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1485720" y="4462560"/>
                <a:ext cx="133200" cy="6480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1483560" y="44625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1609920" y="4514400"/>
                <a:ext cx="176040" cy="7776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1609920" y="451440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1779120" y="4577400"/>
                <a:ext cx="147960" cy="622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1777320" y="457740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1922400" y="4625280"/>
                <a:ext cx="130680" cy="50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1922400" y="462528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046960" y="4663080"/>
                <a:ext cx="74880" cy="5328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046960" y="466092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096280" y="4707000"/>
                <a:ext cx="29880" cy="5472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109600" y="470304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096280" y="4762080"/>
                <a:ext cx="23400" cy="5544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096280" y="47602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109600" y="47887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103120" y="480816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163240" y="478872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1830600" y="4785120"/>
                <a:ext cx="177840" cy="5508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1708920" y="4779000"/>
                <a:ext cx="128160" cy="208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1830600" y="478512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1592640" y="471420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1706400" y="47851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1430280" y="4674600"/>
                <a:ext cx="168840" cy="5508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1592640" y="47142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1376640" y="4588560"/>
                <a:ext cx="64440" cy="9684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1430280" y="467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18240" y="4487400"/>
                <a:ext cx="173160" cy="10836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376640" y="458640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1065960" y="4285440"/>
                <a:ext cx="167040" cy="20952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1218240" y="44874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081520" y="4630680"/>
                <a:ext cx="91800" cy="1332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1192320" y="4220640"/>
                <a:ext cx="117720" cy="104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1184040" y="4212720"/>
                <a:ext cx="40680" cy="7416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1220400" y="4212720"/>
                <a:ext cx="87840" cy="5328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1218240" y="42127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1275840" y="4258440"/>
                <a:ext cx="42480" cy="7200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1293120" y="425844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1192320" y="4279680"/>
                <a:ext cx="89640" cy="532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1275840" y="4316040"/>
                <a:ext cx="8640" cy="169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1192320" y="427968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5" name=""/>
            <p:cNvGrpSpPr/>
            <p:nvPr/>
          </p:nvGrpSpPr>
          <p:grpSpPr>
            <a:xfrm>
              <a:off x="1979640" y="4005360"/>
              <a:ext cx="1655640" cy="836640"/>
              <a:chOff x="1979640" y="4005360"/>
              <a:chExt cx="1655640" cy="836640"/>
            </a:xfrm>
          </p:grpSpPr>
          <p:sp>
            <p:nvSpPr>
              <p:cNvPr id="5396" name=""/>
              <p:cNvSpPr/>
              <p:nvPr/>
            </p:nvSpPr>
            <p:spPr>
              <a:xfrm>
                <a:off x="2058840" y="436716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241000" y="4116600"/>
                <a:ext cx="21168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441520" y="41166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067120" y="4190400"/>
                <a:ext cx="18180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241000" y="419040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067120" y="42098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1999080" y="40294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080800" y="40075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988280" y="42141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979640" y="40734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199600" y="401328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199600" y="40413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292840" y="401328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379240" y="4138200"/>
                <a:ext cx="13572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507040" y="41382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287080" y="4231800"/>
                <a:ext cx="10584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379240" y="423180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189160" y="4231800"/>
                <a:ext cx="10008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281320" y="4231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072520" y="4277520"/>
                <a:ext cx="1220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189160" y="4285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1993320" y="4011480"/>
                <a:ext cx="16329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3042000" y="4778640"/>
                <a:ext cx="13572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3169800" y="4814280"/>
                <a:ext cx="17136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3167640" y="481428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3338280" y="4788360"/>
                <a:ext cx="15768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3338280" y="482616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3485520" y="4728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3485520" y="478836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3569400" y="4657320"/>
                <a:ext cx="655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3569400" y="47289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3607920" y="4537800"/>
                <a:ext cx="273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3615840" y="465732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3509640" y="4442400"/>
                <a:ext cx="11628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3607920" y="45342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3387600" y="4416480"/>
                <a:ext cx="1324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3509640" y="444060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3227400" y="4385160"/>
                <a:ext cx="16812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3387600" y="4416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3075120" y="4349160"/>
                <a:ext cx="1602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3227400" y="4385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917440" y="4305240"/>
                <a:ext cx="16560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3075120" y="4349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795040" y="4249440"/>
                <a:ext cx="1324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914920" y="43052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694960" y="4202280"/>
                <a:ext cx="11412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795040" y="42494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569320" y="4140720"/>
                <a:ext cx="13824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694960" y="420228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469240" y="4067280"/>
                <a:ext cx="11412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569320" y="41407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385000" y="4017600"/>
                <a:ext cx="9756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469240" y="40672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259360" y="4005360"/>
                <a:ext cx="13356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385000" y="401760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143080" y="400536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254680" y="400536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014920" y="4041360"/>
                <a:ext cx="13824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140560" y="404136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1982880" y="4124520"/>
                <a:ext cx="5148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012760" y="4120560"/>
                <a:ext cx="2160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1982880" y="4219920"/>
                <a:ext cx="6768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1982880" y="421992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031480" y="4313520"/>
                <a:ext cx="12528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028960" y="431352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140560" y="4404600"/>
                <a:ext cx="17388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140560" y="4404600"/>
                <a:ext cx="1584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300760" y="4496400"/>
                <a:ext cx="16560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300760" y="44964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455200" y="4581720"/>
                <a:ext cx="18756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453040" y="4581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631960" y="4667400"/>
                <a:ext cx="21996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631960" y="4667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843640" y="4726440"/>
                <a:ext cx="2070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41480" y="472644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042000" y="4776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167200" y="4053240"/>
                <a:ext cx="13586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3401280" y="464328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507480" y="4551840"/>
                <a:ext cx="2628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507480" y="464328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441960" y="4474440"/>
                <a:ext cx="9180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515400" y="454788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203280" y="4416480"/>
                <a:ext cx="24984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441960" y="4472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966040" y="4359240"/>
                <a:ext cx="2451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203280" y="4416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741040" y="4275720"/>
                <a:ext cx="23616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966040" y="43592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585520" y="4187880"/>
                <a:ext cx="16560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737800" y="4275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439000" y="4116600"/>
                <a:ext cx="1602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585520" y="418788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343600" y="4047120"/>
                <a:ext cx="10908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439000" y="411660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227320" y="4047120"/>
                <a:ext cx="12744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343600" y="404532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156760" y="4074840"/>
                <a:ext cx="8388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221560" y="40734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156760" y="4152600"/>
                <a:ext cx="378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156760" y="414828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175120" y="4251960"/>
                <a:ext cx="12528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172960" y="425196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287080" y="4349160"/>
                <a:ext cx="18756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284560" y="43491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463480" y="4429080"/>
                <a:ext cx="21204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463480" y="4429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664720" y="4525920"/>
                <a:ext cx="2548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664720" y="452592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911680" y="4629600"/>
                <a:ext cx="23112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909160" y="462960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137760" y="4679280"/>
                <a:ext cx="27144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137760" y="46792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401280" y="470880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232720" y="4060800"/>
                <a:ext cx="12927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91280" y="4603680"/>
                <a:ext cx="4248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99200" y="453024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515400" y="4603680"/>
                <a:ext cx="183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1960" y="447444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99200" y="45284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237840" y="4440600"/>
                <a:ext cx="21492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41960" y="4472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042000" y="4397040"/>
                <a:ext cx="20124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235320" y="44406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817000" y="4331160"/>
                <a:ext cx="236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042000" y="43970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621160" y="4237920"/>
                <a:ext cx="20628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813760" y="4331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93360" y="4164480"/>
                <a:ext cx="141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621160" y="4237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376720" y="4079160"/>
                <a:ext cx="12996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493360" y="41644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287080" y="4054680"/>
                <a:ext cx="10008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376720" y="40791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224800" y="405720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284560" y="405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221560" y="4110480"/>
                <a:ext cx="7092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219040" y="411048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281320" y="4168440"/>
                <a:ext cx="1220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273400" y="41684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392920" y="418788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392920" y="418608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501640" y="4255920"/>
                <a:ext cx="141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501640" y="42559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631960" y="433116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629440" y="4331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789640" y="4385160"/>
                <a:ext cx="22320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789640" y="438516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3003840" y="4450680"/>
                <a:ext cx="18756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3001680" y="4450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3186000" y="4500720"/>
                <a:ext cx="16560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3186000" y="45007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3344040" y="45403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3344040" y="453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3406320" y="458568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3423240" y="458172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3406320" y="4643280"/>
                <a:ext cx="2988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3406320" y="464148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423240" y="4671000"/>
                <a:ext cx="8064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414960" y="4691160"/>
                <a:ext cx="2088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491280" y="467100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3069360" y="4667400"/>
                <a:ext cx="22536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914920" y="4660920"/>
                <a:ext cx="16236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069360" y="46674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2767680" y="4593600"/>
                <a:ext cx="14724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2911680" y="466740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2561400" y="4551840"/>
                <a:ext cx="21420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2767680" y="45936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2493360" y="4462560"/>
                <a:ext cx="8172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2561400" y="45518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2292840" y="4357080"/>
                <a:ext cx="21996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2493360" y="4460400"/>
                <a:ext cx="1944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2099160" y="4146480"/>
                <a:ext cx="21168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2292840" y="435708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387600" y="4506480"/>
                <a:ext cx="11628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259360" y="4079160"/>
                <a:ext cx="14940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248920" y="4070880"/>
                <a:ext cx="5148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295000" y="4070880"/>
                <a:ext cx="11160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292840" y="40708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365560" y="411876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387520" y="411876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259360" y="414072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365560" y="41785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59360" y="414072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9" name=""/>
            <p:cNvGrpSpPr/>
            <p:nvPr/>
          </p:nvGrpSpPr>
          <p:grpSpPr>
            <a:xfrm>
              <a:off x="3059280" y="3789360"/>
              <a:ext cx="1296720" cy="660240"/>
              <a:chOff x="3059280" y="3789360"/>
              <a:chExt cx="1296720" cy="660240"/>
            </a:xfrm>
          </p:grpSpPr>
          <p:sp>
            <p:nvSpPr>
              <p:cNvPr id="5580" name=""/>
              <p:cNvSpPr/>
              <p:nvPr/>
            </p:nvSpPr>
            <p:spPr>
              <a:xfrm>
                <a:off x="312120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263760" y="387684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421080" y="3876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127680" y="393552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3263760" y="393552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3127680" y="39506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3074400" y="3808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138480" y="3791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066120" y="3953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059280" y="384300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231720" y="379548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3231720" y="38178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3304440" y="379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372480" y="389412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472200" y="38941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300120" y="396828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372480" y="39682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223080" y="396828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3295440" y="39682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132000" y="400392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223080" y="4010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069720" y="3794400"/>
                <a:ext cx="127908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891240" y="439956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3991680" y="442764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989520" y="4427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4123440" y="440712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4123440" y="4437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4238640" y="436032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4238640" y="44071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4304520" y="430380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4304520" y="4360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4334400" y="420948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340880" y="4303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4257720" y="413424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4334400" y="42066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4161960" y="411372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4257720" y="413280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4036680" y="408924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416196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917520" y="406044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4036680" y="40892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793680" y="4025880"/>
                <a:ext cx="1296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917520" y="4060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697920" y="398196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791880" y="4025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619440" y="394452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97920" y="39819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521160" y="389592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619440" y="394452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442680" y="383832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521160" y="38959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376800" y="379908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442680" y="3838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3278520" y="378936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376800" y="37990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187080" y="378936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3274560" y="37893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3087000" y="381780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185280" y="381780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3061800" y="388332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3085200" y="388044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3061800" y="395856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3061800" y="395856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099600" y="403236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3097800" y="40323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3185280" y="410436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185280" y="41043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310920" y="4176720"/>
                <a:ext cx="1296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310920" y="41767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431880" y="424404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430080" y="424404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3570120" y="431172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570120" y="43117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736080" y="435852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734280" y="4358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891240" y="43977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206160" y="3827160"/>
                <a:ext cx="106416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4172760" y="429264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4255920" y="422064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4255920" y="4292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4204440" y="41598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4262040" y="4217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4017600" y="411372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831840" y="406836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401760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3655440" y="4002480"/>
                <a:ext cx="18468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831840" y="40683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533760" y="3933360"/>
                <a:ext cx="1296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652920" y="40024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419280" y="387684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3533760" y="39333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3344400" y="382248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419280" y="387684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3253320" y="382248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3344400" y="3821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3197880" y="384444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248640" y="384300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3197880" y="390564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197880" y="390204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212640" y="398412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210480" y="39841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300120" y="406044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297960" y="4060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438000" y="412344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3438000" y="41234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596040" y="420012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596040" y="42001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789360" y="428184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787560" y="42818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966120" y="432108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966120" y="432108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4172760" y="434448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257640" y="3832920"/>
                <a:ext cx="101268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4243320" y="42613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4249440" y="420336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4262040" y="426132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4204440" y="41598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4249440" y="420228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4044600" y="413280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891240" y="409824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4042800" y="4132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715200" y="404640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91240" y="4098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561840" y="397260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71268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461400" y="391464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561840" y="397260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370320" y="384768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461400" y="391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300120" y="382824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370320" y="3847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251160" y="38304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297960" y="38271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248640" y="3872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246840" y="38721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295440" y="391824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289320" y="391824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382920" y="39333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382920" y="39319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467880" y="398700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467880" y="398700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570120" y="404640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56796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693600" y="408924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693600" y="4089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861720" y="414072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859560" y="4140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4004280" y="4180320"/>
                <a:ext cx="1296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4004280" y="418032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4127760" y="421128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4127760" y="42094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4176720" y="4247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4190040" y="424404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4176720" y="429264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4176720" y="429120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4190040" y="431460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4183560" y="433044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4243320" y="43146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912840" y="431172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791880" y="430668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912840" y="431172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676320" y="425340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78936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515040" y="422064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676320" y="425340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461400" y="415008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515040" y="4220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3304440" y="406692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3461400" y="41482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152880" y="390096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304440" y="4066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4161960" y="418500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278520" y="384768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270240" y="3840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306240" y="384084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304440" y="384084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361680" y="387864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378600" y="38786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278520" y="389592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361680" y="392616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278520" y="389592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3" name=""/>
            <p:cNvGrpSpPr/>
            <p:nvPr/>
          </p:nvGrpSpPr>
          <p:grpSpPr>
            <a:xfrm>
              <a:off x="826920" y="3789360"/>
              <a:ext cx="1368720" cy="660240"/>
              <a:chOff x="826920" y="3789360"/>
              <a:chExt cx="1368720" cy="660240"/>
            </a:xfrm>
          </p:grpSpPr>
          <p:sp>
            <p:nvSpPr>
              <p:cNvPr id="5764" name=""/>
              <p:cNvSpPr/>
              <p:nvPr/>
            </p:nvSpPr>
            <p:spPr>
              <a:xfrm>
                <a:off x="89244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1042920" y="3876840"/>
                <a:ext cx="174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1208880" y="3876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899280" y="3935520"/>
                <a:ext cx="15048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1042920" y="39355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899280" y="3950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842760" y="38080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910440" y="3791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834120" y="39538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826920" y="3843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1008720" y="379548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1008720" y="38178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1085760" y="37954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1157400" y="3894120"/>
                <a:ext cx="11232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1262880" y="38941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1081080" y="396828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1157400" y="3968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1000080" y="396828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1076400" y="3968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903600" y="4003920"/>
                <a:ext cx="1008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1000080" y="40107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838080" y="3794400"/>
                <a:ext cx="135000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1705320" y="4399560"/>
                <a:ext cx="11232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1810800" y="4427640"/>
                <a:ext cx="14184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1809000" y="44276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950120" y="4407120"/>
                <a:ext cx="13032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950120" y="44370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2071800" y="4360320"/>
                <a:ext cx="8280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2071800" y="440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141280" y="430380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2141280" y="436032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2172960" y="4209480"/>
                <a:ext cx="2268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179440" y="430380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2091960" y="4134240"/>
                <a:ext cx="9612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2172960" y="42066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1990800" y="4113720"/>
                <a:ext cx="10944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2091960" y="413280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1858320" y="4089240"/>
                <a:ext cx="1389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199080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1732680" y="4060440"/>
                <a:ext cx="13212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1858320" y="408924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1602000" y="4025880"/>
                <a:ext cx="1368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1732680" y="4060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1501200" y="398196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1600200" y="40258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1418040" y="3944520"/>
                <a:ext cx="9432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1501200" y="3981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1314360" y="3895920"/>
                <a:ext cx="11412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1418040" y="39445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1231560" y="383832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1314360" y="38959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1162080" y="3799080"/>
                <a:ext cx="8064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1231560" y="38383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1058400" y="3789360"/>
                <a:ext cx="11016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1162080" y="37990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961920" y="3789360"/>
                <a:ext cx="1008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1054440" y="37893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856080" y="381780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960120" y="38178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829440" y="388332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854280" y="3880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829440" y="3958560"/>
                <a:ext cx="5580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829440" y="395856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869760" y="403236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867600" y="40323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960120" y="4104360"/>
                <a:ext cx="14364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960120" y="410436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1092240" y="4176720"/>
                <a:ext cx="1368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1092240" y="41767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1220040" y="424404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218240" y="4244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1366200" y="4311720"/>
                <a:ext cx="18180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1366200" y="43117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1541160" y="4358520"/>
                <a:ext cx="171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539360" y="4358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705320" y="4397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982080" y="3827160"/>
                <a:ext cx="112320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2002320" y="429264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2089800" y="4220640"/>
                <a:ext cx="2196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2089800" y="4292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2035800" y="4159800"/>
                <a:ext cx="7596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2096640" y="42174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1838520" y="4113720"/>
                <a:ext cx="2062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642320" y="4068360"/>
                <a:ext cx="2026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83852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456200" y="4002480"/>
                <a:ext cx="19512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1642320" y="4068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327680" y="3933360"/>
                <a:ext cx="1368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453680" y="4002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206720" y="3876840"/>
                <a:ext cx="13212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327680" y="39333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127880" y="3822480"/>
                <a:ext cx="9000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1206720" y="38768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031400" y="3822480"/>
                <a:ext cx="10548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127880" y="38210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973440" y="3844440"/>
                <a:ext cx="694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1026720" y="3843000"/>
                <a:ext cx="1584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973440" y="390564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973440" y="390204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988560" y="3984120"/>
                <a:ext cx="1036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986760" y="398412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1081080" y="4060440"/>
                <a:ext cx="15516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1078920" y="40604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226880" y="4123440"/>
                <a:ext cx="17532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226880" y="4123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393560" y="4200120"/>
                <a:ext cx="21060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1393560" y="42001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597320" y="4281840"/>
                <a:ext cx="19116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595520" y="4281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784160" y="4321080"/>
                <a:ext cx="22464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784160" y="4321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2002320" y="4344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1036080" y="3832920"/>
                <a:ext cx="10688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076480" y="4261320"/>
                <a:ext cx="352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2083320" y="4203360"/>
                <a:ext cx="2844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2096640" y="426132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2035800" y="41598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2083320" y="4202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866960" y="4132800"/>
                <a:ext cx="17784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705320" y="4098240"/>
                <a:ext cx="16632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865160" y="41328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519200" y="4046400"/>
                <a:ext cx="19512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705320" y="409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357200" y="397260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5166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251720" y="3914640"/>
                <a:ext cx="11700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357200" y="3972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155240" y="3847680"/>
                <a:ext cx="10764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251720" y="3914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081080" y="3828240"/>
                <a:ext cx="8280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155240" y="3847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029600" y="38304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1078920" y="382716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1026720" y="3872160"/>
                <a:ext cx="5868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1024920" y="38721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1076400" y="3918240"/>
                <a:ext cx="1008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069560" y="39182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1168560" y="393336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1168560" y="39319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258200" y="3987000"/>
                <a:ext cx="11664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258200" y="3987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366200" y="4046400"/>
                <a:ext cx="13968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36404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496520" y="4089240"/>
                <a:ext cx="18468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1496520" y="4089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1673640" y="4140720"/>
                <a:ext cx="15516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671840" y="4140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824120" y="4180320"/>
                <a:ext cx="1368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824120" y="418032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1954800" y="421128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954800" y="42094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2006280" y="424728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2020320" y="42440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2006280" y="4292640"/>
                <a:ext cx="2448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2006280" y="429120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020320" y="43146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2013480" y="433044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2076480" y="431460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728000" y="4311720"/>
                <a:ext cx="18648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1600200" y="4306680"/>
                <a:ext cx="1342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1728000" y="431172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1478520" y="4253400"/>
                <a:ext cx="12168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159732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1307880" y="4220640"/>
                <a:ext cx="17712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1478520" y="42534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1251720" y="4150080"/>
                <a:ext cx="6732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307880" y="4220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1085760" y="4066920"/>
                <a:ext cx="18180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1251720" y="4148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925920" y="3900960"/>
                <a:ext cx="174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1085760" y="4066920"/>
                <a:ext cx="1512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1990800" y="4185000"/>
                <a:ext cx="9612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1058400" y="3847680"/>
                <a:ext cx="12348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1049760" y="3840840"/>
                <a:ext cx="4248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1087560" y="384084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1085760" y="384084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145880" y="3878640"/>
                <a:ext cx="4464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1163880" y="38786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058400" y="3895920"/>
                <a:ext cx="9432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1145880" y="39261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1058400" y="389592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7" name=""/>
            <p:cNvGrpSpPr/>
            <p:nvPr/>
          </p:nvGrpSpPr>
          <p:grpSpPr>
            <a:xfrm>
              <a:off x="2987640" y="4221000"/>
              <a:ext cx="1152720" cy="792360"/>
              <a:chOff x="2987640" y="4221000"/>
              <a:chExt cx="1152720" cy="792360"/>
            </a:xfrm>
          </p:grpSpPr>
          <p:sp>
            <p:nvSpPr>
              <p:cNvPr id="5948" name=""/>
              <p:cNvSpPr/>
              <p:nvPr/>
            </p:nvSpPr>
            <p:spPr>
              <a:xfrm>
                <a:off x="3042720" y="4563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169440" y="4326120"/>
                <a:ext cx="14724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309120" y="43261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048480" y="4396320"/>
                <a:ext cx="12672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169440" y="439632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048480" y="441468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000960" y="424368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057840" y="42231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2993760" y="44186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2987640" y="428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140640" y="422856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140640" y="425484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05440" y="42285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65920" y="4347000"/>
                <a:ext cx="9468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354840" y="434700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01480" y="443556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65920" y="44355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133440" y="443556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197520" y="44355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052080" y="4478760"/>
                <a:ext cx="8496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133440" y="448668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2997000" y="4226760"/>
                <a:ext cx="1136880" cy="7790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727440" y="4953240"/>
                <a:ext cx="9468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816360" y="4987080"/>
                <a:ext cx="1191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814560" y="498708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933360" y="4962600"/>
                <a:ext cx="1098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933360" y="499824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036320" y="4906440"/>
                <a:ext cx="698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036320" y="49626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4094640" y="4838400"/>
                <a:ext cx="4572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094640" y="49064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121280" y="4725360"/>
                <a:ext cx="190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127040" y="483840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052880" y="4635000"/>
                <a:ext cx="8100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121280" y="47217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3967920" y="461016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052880" y="4633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3856320" y="4580640"/>
                <a:ext cx="11700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396792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3750480" y="4546440"/>
                <a:ext cx="11124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3856320" y="458064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3640680" y="4505040"/>
                <a:ext cx="11520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3750480" y="45464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3555360" y="4452480"/>
                <a:ext cx="92160" cy="644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3638880" y="450504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485520" y="440748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3555360" y="4452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3398400" y="4349160"/>
                <a:ext cx="9612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3485520" y="440748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3328200" y="4279680"/>
                <a:ext cx="792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398400" y="43491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3269880" y="4232520"/>
                <a:ext cx="6804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3328200" y="4279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3182400" y="4221000"/>
                <a:ext cx="9288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269880" y="4232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101400" y="4221000"/>
                <a:ext cx="8496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179160" y="42210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012120" y="425484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099600" y="4254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2989800" y="4334040"/>
                <a:ext cx="3600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010680" y="4330080"/>
                <a:ext cx="151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2989800" y="4424040"/>
                <a:ext cx="4716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2989800" y="44240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3023640" y="4512960"/>
                <a:ext cx="8712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3021840" y="45129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3099600" y="4599000"/>
                <a:ext cx="12096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3099600" y="4599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3211200" y="4686120"/>
                <a:ext cx="11520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3211200" y="4686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3318840" y="4766760"/>
                <a:ext cx="13068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3317040" y="47667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3441600" y="4848120"/>
                <a:ext cx="15300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3441600" y="48481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3589200" y="4903920"/>
                <a:ext cx="144000" cy="6228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3587760" y="49039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3727440" y="49510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3118320" y="4266360"/>
                <a:ext cx="945720" cy="6282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3977640" y="482508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051440" y="4738680"/>
                <a:ext cx="1836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051440" y="48250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005720" y="4665240"/>
                <a:ext cx="6408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056840" y="4734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3839400" y="4610160"/>
                <a:ext cx="17388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3674520" y="4556160"/>
                <a:ext cx="17064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383940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3517920" y="4476960"/>
                <a:ext cx="164160" cy="925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3674520" y="45561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409560" y="4393800"/>
                <a:ext cx="11520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515400" y="44769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307680" y="4326120"/>
                <a:ext cx="111240" cy="7956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409560" y="43938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241080" y="426060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3307680" y="4326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3160080" y="4260600"/>
                <a:ext cx="8892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3241080" y="42588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110760" y="4286880"/>
                <a:ext cx="58320" cy="7740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156120" y="428544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3110760" y="4360320"/>
                <a:ext cx="2628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3110760" y="4356360"/>
                <a:ext cx="1512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3123720" y="44546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122280" y="4454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3201480" y="4546440"/>
                <a:ext cx="13068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3200040" y="4546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3324240" y="4622040"/>
                <a:ext cx="14760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324240" y="4622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464640" y="4714200"/>
                <a:ext cx="17748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464640" y="47142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3636720" y="4812120"/>
                <a:ext cx="16092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3634920" y="48121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3794040" y="4859280"/>
                <a:ext cx="1890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3794040" y="485928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977640" y="4887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164040" y="4273560"/>
                <a:ext cx="900000" cy="604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040280" y="4787640"/>
                <a:ext cx="295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045680" y="4718160"/>
                <a:ext cx="2412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056840" y="4787640"/>
                <a:ext cx="126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005720" y="466524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045680" y="471636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3863520" y="4633200"/>
                <a:ext cx="149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727440" y="4591800"/>
                <a:ext cx="1400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862080" y="4633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3570480" y="4529520"/>
                <a:ext cx="16452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3727440" y="4591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434400" y="4440960"/>
                <a:ext cx="14364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56832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3345120" y="437148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3434400" y="4440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3264120" y="42908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3345120" y="4371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3201480" y="4267800"/>
                <a:ext cx="698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3264120" y="4290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3158280" y="4270320"/>
                <a:ext cx="5292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3200040" y="42663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3156120" y="432072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3154320" y="43207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3197520" y="4375440"/>
                <a:ext cx="8496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192120" y="437544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275640" y="439380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275640" y="4392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350880" y="4458240"/>
                <a:ext cx="9828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350880" y="4458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441600" y="4529520"/>
                <a:ext cx="11736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43980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551400" y="4580640"/>
                <a:ext cx="15552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3551400" y="4580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3700800" y="464292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3699360" y="46429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827520" y="4690080"/>
                <a:ext cx="11520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827520" y="4690080"/>
                <a:ext cx="396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937320" y="4727520"/>
                <a:ext cx="6624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937320" y="47253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80880" y="4770720"/>
                <a:ext cx="2628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992760" y="4766760"/>
                <a:ext cx="1440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980880" y="4825080"/>
                <a:ext cx="205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80880" y="4823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92760" y="4851360"/>
                <a:ext cx="5616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987000" y="48704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040280" y="48513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46520" y="484812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38880" y="4842000"/>
                <a:ext cx="11304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746520" y="4848120"/>
                <a:ext cx="540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36280" y="4777920"/>
                <a:ext cx="10260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636720" y="484812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392640" y="4738680"/>
                <a:ext cx="149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536280" y="47779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345120" y="4654080"/>
                <a:ext cx="5688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392640" y="4738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205440" y="4554360"/>
                <a:ext cx="15300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345120" y="46519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70800" y="4354920"/>
                <a:ext cx="14724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205440" y="455436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967920" y="4695480"/>
                <a:ext cx="8100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182400" y="4290840"/>
                <a:ext cx="10404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175200" y="4282920"/>
                <a:ext cx="3600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207240" y="428292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205440" y="4282920"/>
                <a:ext cx="540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256200" y="4328280"/>
                <a:ext cx="3744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3271680" y="4328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182400" y="4349160"/>
                <a:ext cx="792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256200" y="4385160"/>
                <a:ext cx="756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182400" y="43491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1" name=""/>
            <p:cNvGrpSpPr/>
            <p:nvPr/>
          </p:nvGrpSpPr>
          <p:grpSpPr>
            <a:xfrm>
              <a:off x="2556000" y="4508640"/>
              <a:ext cx="1158840" cy="733320"/>
              <a:chOff x="2556000" y="4508640"/>
              <a:chExt cx="1158840" cy="733320"/>
            </a:xfrm>
          </p:grpSpPr>
          <p:sp>
            <p:nvSpPr>
              <p:cNvPr id="6132" name=""/>
              <p:cNvSpPr/>
              <p:nvPr/>
            </p:nvSpPr>
            <p:spPr>
              <a:xfrm>
                <a:off x="2611440" y="4825800"/>
                <a:ext cx="1440" cy="133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738880" y="460584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879280" y="46058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17200" y="4671000"/>
                <a:ext cx="127080" cy="295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738880" y="4671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17200" y="468792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569320" y="452952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26560" y="451044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562120" y="469152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556000" y="45680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710080" y="4515480"/>
                <a:ext cx="72360" cy="381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710080" y="4539960"/>
                <a:ext cx="756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775240" y="451548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835720" y="4625280"/>
                <a:ext cx="95040" cy="94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925000" y="462528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771280" y="47070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835720" y="4707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702520" y="4707000"/>
                <a:ext cx="70200" cy="590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766960" y="4707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20800" y="4746960"/>
                <a:ext cx="85320" cy="226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702520" y="475452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565360" y="4514040"/>
                <a:ext cx="1143000" cy="721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299760" y="5186520"/>
                <a:ext cx="95040" cy="450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389040" y="5217840"/>
                <a:ext cx="119880" cy="241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387600" y="5217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506760" y="5194800"/>
                <a:ext cx="110160" cy="471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506760" y="522792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610080" y="5142960"/>
                <a:ext cx="70200" cy="64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610080" y="51948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668760" y="5079960"/>
                <a:ext cx="45720" cy="709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668760" y="514296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695760" y="4975200"/>
                <a:ext cx="19080" cy="1080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701160" y="507996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627000" y="4891680"/>
                <a:ext cx="81360" cy="885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695760" y="4972320"/>
                <a:ext cx="12960" cy="82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541320" y="4869000"/>
                <a:ext cx="92520" cy="3312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627000" y="48902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429360" y="484164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54132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322800" y="4809960"/>
                <a:ext cx="111960" cy="432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429360" y="48416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212280" y="477144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322800" y="48099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126960" y="4722840"/>
                <a:ext cx="92520" cy="594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210840" y="47714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056400" y="4681080"/>
                <a:ext cx="79560" cy="52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126960" y="4722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2968920" y="462708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056400" y="46810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2898720" y="456300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2968920" y="462708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2839680" y="451944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2898720" y="45630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2751840" y="4508640"/>
                <a:ext cx="93240" cy="226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2839680" y="4519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2670120" y="4508640"/>
                <a:ext cx="85320" cy="432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2748600" y="45086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2580840" y="453996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2668680" y="453996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2558160" y="4613040"/>
                <a:ext cx="36000" cy="8496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2579040" y="46098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558160" y="469656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558160" y="469656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592000" y="4778640"/>
                <a:ext cx="87480" cy="90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590200" y="47786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668680" y="4858560"/>
                <a:ext cx="121680" cy="90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668680" y="48585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780640" y="4939200"/>
                <a:ext cx="115920" cy="8496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780640" y="49392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889000" y="5013720"/>
                <a:ext cx="131400" cy="8712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887200" y="50137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3012480" y="5088960"/>
                <a:ext cx="153720" cy="65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3012480" y="508896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3160800" y="5140800"/>
                <a:ext cx="144720" cy="576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159360" y="51408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299760" y="51843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2687400" y="4550400"/>
                <a:ext cx="950760" cy="5814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551040" y="506772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625200" y="498780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625200" y="506772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579480" y="491976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630960" y="498420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412440" y="4869000"/>
                <a:ext cx="174600" cy="6120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246480" y="4818600"/>
                <a:ext cx="171360" cy="6264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341244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3088800" y="474552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246480" y="481860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2980080" y="4668840"/>
                <a:ext cx="115920" cy="87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086640" y="47455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2877480" y="4605840"/>
                <a:ext cx="111960" cy="734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2980080" y="4668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2810880" y="45453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2877480" y="4605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729160" y="4545360"/>
                <a:ext cx="89280" cy="345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2810880" y="45439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2679840" y="456948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2725200" y="456804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2679840" y="4637520"/>
                <a:ext cx="26280" cy="9216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2679840" y="463392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2692800" y="4725000"/>
                <a:ext cx="87840" cy="95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2691360" y="47250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2771280" y="4809960"/>
                <a:ext cx="131400" cy="817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2769480" y="4809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2894400" y="4879800"/>
                <a:ext cx="148320" cy="9720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2894400" y="48798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035520" y="4965120"/>
                <a:ext cx="178200" cy="10476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3035520" y="4965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3208320" y="5055840"/>
                <a:ext cx="161640" cy="5724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206880" y="5055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366360" y="5099400"/>
                <a:ext cx="190080" cy="399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3366360" y="5099400"/>
                <a:ext cx="360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3551040" y="51253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2733120" y="4557240"/>
                <a:ext cx="905040" cy="559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614040" y="5032800"/>
                <a:ext cx="29880" cy="694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619800" y="4968720"/>
                <a:ext cx="24120" cy="6768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3630960" y="503280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3579480" y="4919760"/>
                <a:ext cx="52920" cy="550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3619800" y="4966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3436560" y="4890240"/>
                <a:ext cx="150480" cy="399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3299760" y="4851720"/>
                <a:ext cx="140760" cy="500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3435120" y="48902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3142080" y="4794120"/>
                <a:ext cx="165240" cy="694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3299760" y="485172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3004920" y="4712400"/>
                <a:ext cx="144360" cy="9216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313992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2915640" y="4647960"/>
                <a:ext cx="99000" cy="745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004920" y="47124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2833920" y="4573440"/>
                <a:ext cx="91080" cy="8496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2915640" y="4647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2771280" y="4551840"/>
                <a:ext cx="70200" cy="33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2833920" y="4573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2727360" y="4554000"/>
                <a:ext cx="53280" cy="5544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2769480" y="4550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2725200" y="4600800"/>
                <a:ext cx="49680" cy="6084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2723760" y="46008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2766960" y="46515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2761560" y="465156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2845440" y="466884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2845440" y="46670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2921400" y="4728240"/>
                <a:ext cx="99000" cy="763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2921400" y="472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3012480" y="4794120"/>
                <a:ext cx="118080" cy="5904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301068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3123000" y="484164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3123000" y="484164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3273120" y="4899240"/>
                <a:ext cx="131400" cy="568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3271320" y="4899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3400560" y="4942800"/>
                <a:ext cx="115920" cy="464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3400560" y="4942800"/>
                <a:ext cx="3960" cy="133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3511080" y="497736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3511080" y="49752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3554640" y="501732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3566520" y="501372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3554640" y="5067720"/>
                <a:ext cx="20880" cy="507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3554640" y="5066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3566520" y="5092200"/>
                <a:ext cx="56520" cy="3132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3560760" y="510984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3614040" y="509220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3318840" y="5088960"/>
                <a:ext cx="157680" cy="500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3210840" y="5083200"/>
                <a:ext cx="113760" cy="190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3318840" y="50889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3107520" y="5024160"/>
                <a:ext cx="102960" cy="781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3208320" y="5088960"/>
                <a:ext cx="2160" cy="133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2963160" y="4987800"/>
                <a:ext cx="149760" cy="500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3107520" y="502416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2915640" y="4909320"/>
                <a:ext cx="57240" cy="88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2963160" y="49878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2775240" y="481716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2915640" y="490752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2639880" y="4632480"/>
                <a:ext cx="148320" cy="191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2775240" y="48171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3541320" y="4947840"/>
                <a:ext cx="81360" cy="12168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2751840" y="457344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2744640" y="4565880"/>
                <a:ext cx="36000" cy="6768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2776680" y="4565880"/>
                <a:ext cx="78120" cy="4860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2775240" y="456588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2826000" y="4608000"/>
                <a:ext cx="37800" cy="65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2841480" y="460800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2751840" y="4627080"/>
                <a:ext cx="79560" cy="4860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2826000" y="4660560"/>
                <a:ext cx="7560" cy="154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2751840" y="462708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5" name=""/>
          <p:cNvSpPr/>
          <p:nvPr/>
        </p:nvSpPr>
        <p:spPr>
          <a:xfrm>
            <a:off x="37620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"/>
          <p:cNvSpPr/>
          <p:nvPr/>
        </p:nvSpPr>
        <p:spPr>
          <a:xfrm>
            <a:off x="-38160" y="0"/>
            <a:ext cx="60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went pop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other went b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8" name=""/>
          <p:cNvGrpSpPr/>
          <p:nvPr/>
        </p:nvGrpSpPr>
        <p:grpSpPr>
          <a:xfrm>
            <a:off x="1692360" y="3068640"/>
            <a:ext cx="1511280" cy="1152360"/>
            <a:chOff x="1692360" y="3068640"/>
            <a:chExt cx="1511280" cy="1152360"/>
          </a:xfrm>
        </p:grpSpPr>
        <p:sp>
          <p:nvSpPr>
            <p:cNvPr id="6319" name=""/>
            <p:cNvSpPr/>
            <p:nvPr/>
          </p:nvSpPr>
          <p:spPr>
            <a:xfrm>
              <a:off x="1764720" y="3567240"/>
              <a:ext cx="2160" cy="2124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1931040" y="3221640"/>
              <a:ext cx="193320" cy="12024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113920" y="3221640"/>
              <a:ext cx="10080" cy="19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1771920" y="3323520"/>
              <a:ext cx="165960" cy="4608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1931040" y="3323520"/>
              <a:ext cx="9360" cy="183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1771920" y="3350520"/>
              <a:ext cx="4680" cy="1944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1710000" y="3101760"/>
              <a:ext cx="5040" cy="219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1784520" y="3071520"/>
              <a:ext cx="9360" cy="187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1700280" y="3355920"/>
              <a:ext cx="9360" cy="2196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1692360" y="3162240"/>
              <a:ext cx="10080" cy="20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1893240" y="3079800"/>
              <a:ext cx="94320" cy="6012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1893240" y="3118320"/>
              <a:ext cx="10080" cy="219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1978200" y="3079800"/>
              <a:ext cx="9360" cy="187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057040" y="3251880"/>
              <a:ext cx="123840" cy="14796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173680" y="3251880"/>
              <a:ext cx="7200" cy="194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1972800" y="3380760"/>
              <a:ext cx="96480" cy="2988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057040" y="3380760"/>
              <a:ext cx="1224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1883520" y="3380760"/>
              <a:ext cx="91440" cy="9252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1967760" y="3380760"/>
              <a:ext cx="7200" cy="190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1776960" y="3443400"/>
              <a:ext cx="111240" cy="3564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1883520" y="3454920"/>
              <a:ext cx="7200" cy="18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1704600" y="3077280"/>
              <a:ext cx="1490400" cy="113292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662200" y="4133880"/>
              <a:ext cx="123840" cy="709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2778840" y="4182840"/>
              <a:ext cx="156600" cy="3816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776680" y="4182840"/>
              <a:ext cx="9360" cy="2196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932560" y="4146840"/>
              <a:ext cx="144000" cy="738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932560" y="4199040"/>
              <a:ext cx="5040" cy="219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3066840" y="4065480"/>
              <a:ext cx="91440" cy="1008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3066840" y="4146840"/>
              <a:ext cx="122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3143520" y="3966480"/>
              <a:ext cx="59760" cy="11160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143520" y="4065480"/>
              <a:ext cx="16920" cy="162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3178440" y="3801960"/>
              <a:ext cx="24840" cy="16956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3186000" y="3966480"/>
              <a:ext cx="17640" cy="104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3089160" y="3670560"/>
              <a:ext cx="106200" cy="13932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3178440" y="3797280"/>
              <a:ext cx="1656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977560" y="3634920"/>
              <a:ext cx="120960" cy="5220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089160" y="3668400"/>
              <a:ext cx="14400" cy="18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831400" y="3591720"/>
              <a:ext cx="153360" cy="6264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977560" y="3634920"/>
              <a:ext cx="7200" cy="194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692440" y="3542040"/>
              <a:ext cx="146160" cy="6804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831400" y="3591720"/>
              <a:ext cx="7200" cy="18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548440" y="3481560"/>
              <a:ext cx="151200" cy="7992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692440" y="3542040"/>
              <a:ext cx="7200" cy="194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436840" y="3405240"/>
              <a:ext cx="120960" cy="9360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546280" y="3481560"/>
              <a:ext cx="11520" cy="19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345040" y="3339720"/>
              <a:ext cx="104040" cy="8208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436840" y="3405240"/>
              <a:ext cx="12240" cy="16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230560" y="3255120"/>
              <a:ext cx="126000" cy="1008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345040" y="3339720"/>
              <a:ext cx="11880" cy="162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139120" y="3153960"/>
              <a:ext cx="104040" cy="1173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230560" y="325512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062440" y="3085560"/>
              <a:ext cx="89280" cy="846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139120" y="315396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947960" y="3068640"/>
              <a:ext cx="121680" cy="3564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062440" y="3085560"/>
              <a:ext cx="12240" cy="18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1841400" y="3068640"/>
              <a:ext cx="111240" cy="6804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1943280" y="3068640"/>
              <a:ext cx="9360" cy="190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1724760" y="3118320"/>
              <a:ext cx="126000" cy="12528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1839240" y="3118320"/>
              <a:ext cx="11520" cy="18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1695240" y="3232800"/>
              <a:ext cx="47160" cy="13356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1722600" y="3227400"/>
              <a:ext cx="19800" cy="162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1695240" y="3364200"/>
              <a:ext cx="61920" cy="13680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1695240" y="3364200"/>
              <a:ext cx="19800" cy="54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1739520" y="3493080"/>
              <a:ext cx="114120" cy="14148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1737360" y="3493080"/>
              <a:ext cx="19800" cy="136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839240" y="3618720"/>
              <a:ext cx="158760" cy="14256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1839240" y="3618720"/>
              <a:ext cx="14400" cy="162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1985400" y="3745080"/>
              <a:ext cx="151200" cy="13356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1985400" y="374508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126520" y="3862440"/>
              <a:ext cx="171360" cy="13680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2124360" y="3862440"/>
              <a:ext cx="12240" cy="19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287800" y="3980520"/>
              <a:ext cx="200520" cy="10332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287800" y="3980520"/>
              <a:ext cx="10080" cy="18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481120" y="4061880"/>
              <a:ext cx="189000" cy="9036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478960" y="4061880"/>
              <a:ext cx="9360" cy="2196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62200" y="4130640"/>
              <a:ext cx="10080" cy="219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1863720" y="3134520"/>
              <a:ext cx="1240200" cy="91368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990160" y="3947040"/>
              <a:ext cx="111240" cy="11016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087000" y="3821400"/>
              <a:ext cx="24120" cy="13356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087000" y="3947040"/>
              <a:ext cx="16560" cy="162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3027240" y="3714840"/>
              <a:ext cx="83880" cy="11448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094200" y="3815640"/>
              <a:ext cx="16560" cy="1368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809080" y="3634920"/>
              <a:ext cx="227880" cy="9612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3027240" y="3711600"/>
              <a:ext cx="14400" cy="19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2592720" y="3556080"/>
              <a:ext cx="223560" cy="9828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809080" y="3634920"/>
              <a:ext cx="7200" cy="194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387520" y="3440880"/>
              <a:ext cx="215280" cy="13428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592720" y="3556080"/>
              <a:ext cx="10080" cy="19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245320" y="3320280"/>
              <a:ext cx="151200" cy="13680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384280" y="3440880"/>
              <a:ext cx="12240" cy="19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111760" y="3221640"/>
              <a:ext cx="146160" cy="11556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245320" y="3320280"/>
              <a:ext cx="12240" cy="16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24640" y="3126240"/>
              <a:ext cx="99360" cy="11232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111760" y="3221640"/>
              <a:ext cx="12240" cy="16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918440" y="3126240"/>
              <a:ext cx="116280" cy="543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024640" y="3124080"/>
              <a:ext cx="12240" cy="20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1854000" y="3164760"/>
              <a:ext cx="76680" cy="11232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1913040" y="3162240"/>
              <a:ext cx="17640" cy="18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1854000" y="3271320"/>
              <a:ext cx="34560" cy="14508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1854000" y="3265560"/>
              <a:ext cx="19800" cy="111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1870920" y="3408480"/>
              <a:ext cx="114480" cy="14976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1868760" y="3408480"/>
              <a:ext cx="19800" cy="133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1972800" y="3542040"/>
              <a:ext cx="171360" cy="12852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1970640" y="3542040"/>
              <a:ext cx="14400" cy="19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134080" y="3652200"/>
              <a:ext cx="193320" cy="15300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134080" y="3652200"/>
              <a:ext cx="10080" cy="18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317680" y="3785760"/>
              <a:ext cx="232560" cy="1645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317680" y="3785760"/>
              <a:ext cx="9360" cy="194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543040" y="3928320"/>
              <a:ext cx="210960" cy="9036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540880" y="3928320"/>
              <a:ext cx="9360" cy="2196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749320" y="3996720"/>
              <a:ext cx="248040" cy="6264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749320" y="3996720"/>
              <a:ext cx="4680" cy="219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990160" y="4037760"/>
              <a:ext cx="122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1923480" y="3144960"/>
              <a:ext cx="1180080" cy="87876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072240" y="3892680"/>
              <a:ext cx="38880" cy="1090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079440" y="3791520"/>
              <a:ext cx="31320" cy="10656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094200" y="3892680"/>
              <a:ext cx="16560" cy="79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027240" y="3714840"/>
              <a:ext cx="69120" cy="867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079440" y="3789000"/>
              <a:ext cx="16560" cy="126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840760" y="3668400"/>
              <a:ext cx="196200" cy="6264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027240" y="3711600"/>
              <a:ext cx="14400" cy="19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662200" y="3607920"/>
              <a:ext cx="183600" cy="7884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838600" y="3668400"/>
              <a:ext cx="7200" cy="18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456640" y="3517560"/>
              <a:ext cx="215640" cy="1090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662200" y="3607920"/>
              <a:ext cx="10080" cy="18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278080" y="3388680"/>
              <a:ext cx="188280" cy="14508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453760" y="3517560"/>
              <a:ext cx="12240" cy="19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161080" y="3287520"/>
              <a:ext cx="129240" cy="11736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2278080" y="338868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054880" y="3170160"/>
              <a:ext cx="118800" cy="1335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2161080" y="328752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1972800" y="3136680"/>
              <a:ext cx="91440" cy="5184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2054880" y="3170160"/>
              <a:ext cx="12240" cy="18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915920" y="3140280"/>
              <a:ext cx="69480" cy="8712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970640" y="3134520"/>
              <a:ext cx="14400" cy="219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913040" y="3213720"/>
              <a:ext cx="64800" cy="9612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1910880" y="3213720"/>
              <a:ext cx="19800" cy="136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1967760" y="3293280"/>
              <a:ext cx="111240" cy="4608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960200" y="3293280"/>
              <a:ext cx="17640" cy="219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069640" y="3320280"/>
              <a:ext cx="111240" cy="11016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2069640" y="3317760"/>
              <a:ext cx="122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168640" y="3413880"/>
              <a:ext cx="128880" cy="11988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2168640" y="341388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287800" y="3517560"/>
              <a:ext cx="154080" cy="9288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2285280" y="3517560"/>
              <a:ext cx="12240" cy="19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431440" y="3591720"/>
              <a:ext cx="203760" cy="11160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2431440" y="3591720"/>
              <a:ext cx="10080" cy="18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627280" y="3682080"/>
              <a:ext cx="171360" cy="8964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625120" y="3682080"/>
              <a:ext cx="10080" cy="212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793600" y="3750840"/>
              <a:ext cx="151200" cy="7308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793600" y="3750840"/>
              <a:ext cx="5040" cy="2088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937600" y="3805200"/>
              <a:ext cx="86760" cy="7668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2937600" y="3801960"/>
              <a:ext cx="10080" cy="219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994480" y="3868200"/>
              <a:ext cx="34560" cy="7884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009960" y="3862440"/>
              <a:ext cx="19080" cy="194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994480" y="3947040"/>
              <a:ext cx="27000" cy="7956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994480" y="3944520"/>
              <a:ext cx="19800" cy="54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009960" y="3985560"/>
              <a:ext cx="73800" cy="49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002760" y="4013280"/>
              <a:ext cx="19080" cy="26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072240" y="3985560"/>
              <a:ext cx="16560" cy="2196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3980520"/>
              <a:ext cx="205920" cy="7884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546280" y="3971520"/>
              <a:ext cx="148320" cy="2988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2687040" y="3980520"/>
              <a:ext cx="7200" cy="212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411640" y="3878640"/>
              <a:ext cx="134280" cy="1227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543040" y="3980520"/>
              <a:ext cx="2880" cy="212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223360" y="3821400"/>
              <a:ext cx="195480" cy="7884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411640" y="3878640"/>
              <a:ext cx="7200" cy="2196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161080" y="3698280"/>
              <a:ext cx="74520" cy="13932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223360" y="3821400"/>
              <a:ext cx="12240" cy="162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1978200" y="3553200"/>
              <a:ext cx="200520" cy="15552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161080" y="3695400"/>
              <a:ext cx="17640" cy="136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1801440" y="3263400"/>
              <a:ext cx="193320" cy="30060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1978200" y="3553200"/>
              <a:ext cx="1656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977560" y="3758760"/>
              <a:ext cx="106200" cy="19116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1947960" y="3170160"/>
              <a:ext cx="136440" cy="14976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1938240" y="3159000"/>
              <a:ext cx="47160" cy="10656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1980360" y="3159000"/>
              <a:ext cx="101880" cy="7668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1978200" y="3159000"/>
              <a:ext cx="7200" cy="241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044800" y="3224880"/>
              <a:ext cx="49320" cy="10332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064600" y="3224880"/>
              <a:ext cx="19800" cy="104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1947960" y="3255120"/>
              <a:ext cx="104040" cy="7668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44800" y="3307320"/>
              <a:ext cx="10080" cy="241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1947960" y="3255120"/>
              <a:ext cx="19800" cy="104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2" name=""/>
          <p:cNvGrpSpPr/>
          <p:nvPr/>
        </p:nvGrpSpPr>
        <p:grpSpPr>
          <a:xfrm>
            <a:off x="1116000" y="4437000"/>
            <a:ext cx="1655640" cy="1008000"/>
            <a:chOff x="1116000" y="4437000"/>
            <a:chExt cx="1655640" cy="1008000"/>
          </a:xfrm>
        </p:grpSpPr>
        <p:sp>
          <p:nvSpPr>
            <p:cNvPr id="6503" name=""/>
            <p:cNvSpPr/>
            <p:nvPr/>
          </p:nvSpPr>
          <p:spPr>
            <a:xfrm>
              <a:off x="1195200" y="4872960"/>
              <a:ext cx="2520" cy="1836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1377360" y="4570920"/>
              <a:ext cx="211680" cy="10512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1577880" y="4570920"/>
              <a:ext cx="11160" cy="169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1203480" y="4659840"/>
              <a:ext cx="181800" cy="4032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1377360" y="4659840"/>
              <a:ext cx="10440" cy="162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1203480" y="4683240"/>
              <a:ext cx="5400" cy="1692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1135440" y="4465800"/>
              <a:ext cx="5400" cy="190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1217160" y="4439520"/>
              <a:ext cx="10440" cy="162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1124640" y="4688280"/>
              <a:ext cx="10440" cy="190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1116000" y="4518720"/>
              <a:ext cx="11160" cy="1836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1335960" y="4446720"/>
              <a:ext cx="103320" cy="525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1335960" y="4480200"/>
              <a:ext cx="11160" cy="190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1429200" y="4446720"/>
              <a:ext cx="10440" cy="162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1515600" y="4597200"/>
              <a:ext cx="135720" cy="12960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1643400" y="4597200"/>
              <a:ext cx="7920" cy="169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1423440" y="4709880"/>
              <a:ext cx="105840" cy="2628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1515600" y="4709880"/>
              <a:ext cx="13680" cy="169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1325520" y="4709880"/>
              <a:ext cx="100080" cy="8100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1417680" y="4709880"/>
              <a:ext cx="7920" cy="169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1208880" y="4764600"/>
              <a:ext cx="122040" cy="313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1325520" y="477468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1129680" y="4444560"/>
              <a:ext cx="1632960" cy="991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178360" y="5368680"/>
              <a:ext cx="135720" cy="619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306160" y="5411520"/>
              <a:ext cx="171360" cy="3312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304000" y="5411520"/>
              <a:ext cx="10440" cy="190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474640" y="5380200"/>
              <a:ext cx="157680" cy="648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474640" y="5425920"/>
              <a:ext cx="5400" cy="190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2621880" y="5308920"/>
              <a:ext cx="100080" cy="882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621880" y="5380200"/>
              <a:ext cx="13680" cy="19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705760" y="5222520"/>
              <a:ext cx="65520" cy="9756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705760" y="5308920"/>
              <a:ext cx="18360" cy="140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744280" y="5078520"/>
              <a:ext cx="27360" cy="14832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752200" y="5222520"/>
              <a:ext cx="19440" cy="900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646000" y="4963680"/>
              <a:ext cx="116280" cy="12204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744280" y="5074200"/>
              <a:ext cx="18360" cy="111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523960" y="4932360"/>
              <a:ext cx="132480" cy="4572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646000" y="4961520"/>
              <a:ext cx="15840" cy="162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363760" y="4894560"/>
              <a:ext cx="168120" cy="5472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523960" y="4932360"/>
              <a:ext cx="7920" cy="169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211480" y="4851000"/>
              <a:ext cx="160200" cy="5976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363760" y="489456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2053800" y="4798080"/>
              <a:ext cx="165600" cy="6984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211480" y="4851000"/>
              <a:ext cx="7920" cy="169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931400" y="4731120"/>
              <a:ext cx="132480" cy="8172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051280" y="4798080"/>
              <a:ext cx="12600" cy="169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1831320" y="4674240"/>
              <a:ext cx="114120" cy="7164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931400" y="4731120"/>
              <a:ext cx="13680" cy="14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1705680" y="4600080"/>
              <a:ext cx="138240" cy="882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1831320" y="4674240"/>
              <a:ext cx="12960" cy="14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1605600" y="4511520"/>
              <a:ext cx="114120" cy="1026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1705680" y="460008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1521360" y="4451760"/>
              <a:ext cx="97560" cy="741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1605600" y="451152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1395720" y="4437000"/>
              <a:ext cx="133560" cy="3132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1521360" y="4451760"/>
              <a:ext cx="13680" cy="162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1279440" y="4437000"/>
              <a:ext cx="122040" cy="597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1391040" y="4437000"/>
              <a:ext cx="10440" cy="1692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151280" y="4480200"/>
              <a:ext cx="138240" cy="1094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1276920" y="4480200"/>
              <a:ext cx="12600" cy="16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1119240" y="4580640"/>
              <a:ext cx="51480" cy="11700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1149120" y="4575960"/>
              <a:ext cx="21600" cy="140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119240" y="4695480"/>
              <a:ext cx="67680" cy="11952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1119240" y="4695480"/>
              <a:ext cx="21600" cy="468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167840" y="4808160"/>
              <a:ext cx="125280" cy="12384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165320" y="4808160"/>
              <a:ext cx="21600" cy="118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1276920" y="4917960"/>
              <a:ext cx="173880" cy="12456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1276920" y="4917960"/>
              <a:ext cx="15840" cy="14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1437120" y="5028480"/>
              <a:ext cx="165600" cy="11664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1437120" y="502848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1591560" y="5131440"/>
              <a:ext cx="187560" cy="11952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1589400" y="5131440"/>
              <a:ext cx="13680" cy="169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1768320" y="5234760"/>
              <a:ext cx="219960" cy="9036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1768320" y="523476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1980000" y="5306040"/>
              <a:ext cx="207000" cy="7920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1977840" y="5306040"/>
              <a:ext cx="10440" cy="190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2178360" y="5365800"/>
              <a:ext cx="11160" cy="190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1303560" y="4494600"/>
              <a:ext cx="1358640" cy="79920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537640" y="5205240"/>
              <a:ext cx="122040" cy="9612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643840" y="5095440"/>
              <a:ext cx="26280" cy="11664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643840" y="5205240"/>
              <a:ext cx="18360" cy="140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578320" y="5002200"/>
              <a:ext cx="91800" cy="10008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651760" y="5090400"/>
              <a:ext cx="18360" cy="1188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339640" y="4932360"/>
              <a:ext cx="249840" cy="8424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578320" y="4999320"/>
              <a:ext cx="15840" cy="16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102400" y="4863240"/>
              <a:ext cx="245160" cy="8604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339640" y="4932360"/>
              <a:ext cx="7920" cy="169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1877400" y="4762800"/>
              <a:ext cx="236160" cy="11736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02400" y="4863240"/>
              <a:ext cx="11160" cy="169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1721880" y="4656960"/>
              <a:ext cx="165600" cy="11952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1874160" y="4762800"/>
              <a:ext cx="13680" cy="169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1575360" y="4570920"/>
              <a:ext cx="160200" cy="10116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1721880" y="4656960"/>
              <a:ext cx="13680" cy="14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1479960" y="4487400"/>
              <a:ext cx="109080" cy="982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1575360" y="4570920"/>
              <a:ext cx="13680" cy="14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1363680" y="4487400"/>
              <a:ext cx="127440" cy="4752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1479960" y="4485240"/>
              <a:ext cx="13680" cy="18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1293120" y="4520880"/>
              <a:ext cx="83880" cy="982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1357920" y="4518720"/>
              <a:ext cx="19440" cy="162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1293120" y="4614480"/>
              <a:ext cx="37800" cy="12672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1293120" y="4609440"/>
              <a:ext cx="21600" cy="97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1311480" y="4734360"/>
              <a:ext cx="125280" cy="13104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1309320" y="4734360"/>
              <a:ext cx="21600" cy="118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1423440" y="4851000"/>
              <a:ext cx="187560" cy="11232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1420920" y="4851000"/>
              <a:ext cx="15840" cy="16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1599840" y="4947480"/>
              <a:ext cx="212040" cy="13392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1599840" y="494748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1801080" y="5064120"/>
              <a:ext cx="254880" cy="14400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1801080" y="5064120"/>
              <a:ext cx="10440" cy="1692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048040" y="5189040"/>
              <a:ext cx="231120" cy="7884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045520" y="5189040"/>
              <a:ext cx="10440" cy="190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274120" y="5248800"/>
              <a:ext cx="271440" cy="5472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2274120" y="5248800"/>
              <a:ext cx="5400" cy="190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537640" y="5284440"/>
              <a:ext cx="13680" cy="19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1369080" y="4503600"/>
              <a:ext cx="1292760" cy="76860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627640" y="5157720"/>
              <a:ext cx="42480" cy="9540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2635560" y="5069160"/>
              <a:ext cx="34560" cy="9324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651760" y="5157720"/>
              <a:ext cx="18360" cy="6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578320" y="5002200"/>
              <a:ext cx="75960" cy="759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635560" y="5067000"/>
              <a:ext cx="18360" cy="111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2374200" y="4961520"/>
              <a:ext cx="214920" cy="5472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578320" y="4999320"/>
              <a:ext cx="15840" cy="16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2178360" y="4908960"/>
              <a:ext cx="201240" cy="6912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371680" y="49615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1953360" y="4829760"/>
              <a:ext cx="236160" cy="9540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178360" y="490896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1757520" y="4717080"/>
              <a:ext cx="206280" cy="12672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1950120" y="4829760"/>
              <a:ext cx="13680" cy="169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1629720" y="4628520"/>
              <a:ext cx="141480" cy="10260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1757520" y="471708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1513080" y="4525920"/>
              <a:ext cx="129960" cy="11664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1629720" y="462852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1423440" y="4496760"/>
              <a:ext cx="100080" cy="4536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1513080" y="4525920"/>
              <a:ext cx="13680" cy="162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1361160" y="4499640"/>
              <a:ext cx="75960" cy="7632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1420920" y="4494600"/>
              <a:ext cx="15840" cy="190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1357920" y="4563720"/>
              <a:ext cx="70920" cy="8388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1355400" y="4563720"/>
              <a:ext cx="21600" cy="118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1417680" y="4633560"/>
              <a:ext cx="122040" cy="4032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1409760" y="4633560"/>
              <a:ext cx="19440" cy="190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1529280" y="4656960"/>
              <a:ext cx="122040" cy="9612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1529280" y="4654800"/>
              <a:ext cx="13680" cy="19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1638000" y="4739040"/>
              <a:ext cx="141480" cy="10476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1638000" y="473904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1768320" y="4829760"/>
              <a:ext cx="168840" cy="8100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1765800" y="4829760"/>
              <a:ext cx="13680" cy="169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1926000" y="4894560"/>
              <a:ext cx="223200" cy="9756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1926000" y="489456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2140200" y="4973760"/>
              <a:ext cx="187560" cy="7812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138040" y="4973760"/>
              <a:ext cx="11160" cy="1836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2322360" y="5033520"/>
              <a:ext cx="165600" cy="6372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2322360" y="5033520"/>
              <a:ext cx="5400" cy="1836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2480400" y="5081400"/>
              <a:ext cx="95400" cy="6696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2480400" y="5078520"/>
              <a:ext cx="11160" cy="190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2542680" y="5136480"/>
              <a:ext cx="37800" cy="6876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559600" y="5131440"/>
              <a:ext cx="20880" cy="169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2542680" y="5205240"/>
              <a:ext cx="29880" cy="6984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542680" y="5203440"/>
              <a:ext cx="21600" cy="468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2559600" y="5239080"/>
              <a:ext cx="80640" cy="4320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551320" y="5263200"/>
              <a:ext cx="20880" cy="2340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2627640" y="5239080"/>
              <a:ext cx="18360" cy="190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205720" y="5234760"/>
              <a:ext cx="225360" cy="6912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2051280" y="5226840"/>
              <a:ext cx="162360" cy="2628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205720" y="5234760"/>
              <a:ext cx="7920" cy="1836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1904040" y="5145480"/>
              <a:ext cx="147240" cy="10764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048040" y="5234760"/>
              <a:ext cx="3240" cy="1836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1697760" y="5095440"/>
              <a:ext cx="214200" cy="6912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1904040" y="5145480"/>
              <a:ext cx="7920" cy="190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1629720" y="4987800"/>
              <a:ext cx="81720" cy="12168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1697760" y="5095440"/>
              <a:ext cx="13680" cy="14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1429200" y="4861080"/>
              <a:ext cx="219960" cy="13608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1629720" y="4985280"/>
              <a:ext cx="19440" cy="118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1235520" y="4607280"/>
              <a:ext cx="211680" cy="26280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1429200" y="4861080"/>
              <a:ext cx="1836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2523960" y="5040720"/>
              <a:ext cx="116280" cy="16740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1395720" y="4525920"/>
              <a:ext cx="149400" cy="13104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1385280" y="4515840"/>
              <a:ext cx="51480" cy="9324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1431360" y="4515840"/>
              <a:ext cx="111600" cy="6696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1429200" y="4515840"/>
              <a:ext cx="7920" cy="2124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1501920" y="4573440"/>
              <a:ext cx="54000" cy="9036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1523880" y="4573440"/>
              <a:ext cx="21600" cy="93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1395720" y="4600080"/>
              <a:ext cx="114120" cy="6696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1501920" y="4645800"/>
              <a:ext cx="11160" cy="2124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1395720" y="4600080"/>
              <a:ext cx="21600" cy="93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93" dur="200" fill="hold"/>
                                        <p:tgtEl>
                                          <p:spTgt spid="6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" dur="200" fill="hold"/>
                                        <p:tgtEl>
                                          <p:spTgt spid="6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" dur="200" fill="hold"/>
                                        <p:tgtEl>
                                          <p:spTgt spid="6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2" dur="340" fill="hold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" dur="340" fill="hold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" dur="340" fill="hold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" dur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680" fill="hold">
                                          <p:stCondLst>
                                            <p:cond delay="68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" dur="680" fill="hold">
                                          <p:stCondLst>
                                            <p:cond delay="136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680" fill="hold">
                                          <p:stCondLst>
                                            <p:cond delay="204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" dur="680" fill="hold">
                                          <p:stCondLst>
                                            <p:cond delay="272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1">
                                  <p:stCondLst>
                                    <p:cond delay="2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3" dur="1230" fill="hold"/>
                                        <p:tgtEl>
                                          <p:spTgt spid="631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4" dur="1230"/>
                                        <p:tgtEl>
                                          <p:spTgt spid="6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6" dur="1230"/>
                                        <p:tgtEl>
                                          <p:spTgt spid="6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1">
                                  <p:stCondLst>
                                    <p:cond delay="4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2" dur="1230" fill="hold"/>
                                        <p:tgtEl>
                                          <p:spTgt spid="650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3" dur="1230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5" dur="1230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5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5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sp>
        <p:nvSpPr>
          <p:cNvPr id="6687" name=""/>
          <p:cNvSpPr/>
          <p:nvPr/>
        </p:nvSpPr>
        <p:spPr>
          <a:xfrm>
            <a:off x="-114840" y="18720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f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usages sizzling in a 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8" name=""/>
          <p:cNvGrpSpPr/>
          <p:nvPr/>
        </p:nvGrpSpPr>
        <p:grpSpPr>
          <a:xfrm>
            <a:off x="826920" y="3789360"/>
            <a:ext cx="3529080" cy="1452600"/>
            <a:chOff x="826920" y="3789360"/>
            <a:chExt cx="3529080" cy="1452600"/>
          </a:xfrm>
        </p:grpSpPr>
        <p:grpSp>
          <p:nvGrpSpPr>
            <p:cNvPr id="6689" name=""/>
            <p:cNvGrpSpPr/>
            <p:nvPr/>
          </p:nvGrpSpPr>
          <p:grpSpPr>
            <a:xfrm>
              <a:off x="971640" y="4149720"/>
              <a:ext cx="1305000" cy="803160"/>
              <a:chOff x="971640" y="4149720"/>
              <a:chExt cx="1305000" cy="803160"/>
            </a:xfrm>
          </p:grpSpPr>
          <p:sp>
            <p:nvSpPr>
              <p:cNvPr id="6690" name=""/>
              <p:cNvSpPr/>
              <p:nvPr/>
            </p:nvSpPr>
            <p:spPr>
              <a:xfrm>
                <a:off x="1033920" y="449712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1177560" y="4256280"/>
                <a:ext cx="167040" cy="838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1335600" y="425628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1040400" y="4327200"/>
                <a:ext cx="143280" cy="3204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1177560" y="43272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1040400" y="43459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986760" y="4172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1051200" y="41518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978480" y="43498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971640" y="421488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1145160" y="4157280"/>
                <a:ext cx="81360" cy="4212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1145160" y="418428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1218240" y="41572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1286640" y="427752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1387440" y="42775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1213920" y="4367160"/>
                <a:ext cx="83520" cy="208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1286640" y="43671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1136520" y="4367160"/>
                <a:ext cx="78840" cy="644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1209240" y="436716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1044720" y="4410720"/>
                <a:ext cx="96120" cy="2484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1136520" y="44190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982440" y="4155840"/>
                <a:ext cx="1287000" cy="7898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1809000" y="4892040"/>
                <a:ext cx="106920" cy="49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1909800" y="4926240"/>
                <a:ext cx="135000" cy="2664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1908000" y="49262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2042640" y="490140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2042640" y="4937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2158560" y="4844520"/>
                <a:ext cx="78840" cy="702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2158560" y="4901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2224800" y="4775760"/>
                <a:ext cx="51480" cy="7776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2224800" y="484452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2255040" y="4660920"/>
                <a:ext cx="21600" cy="11808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2261520" y="47757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2177640" y="4569480"/>
                <a:ext cx="91800" cy="9720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2255040" y="4657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2081520" y="4544280"/>
                <a:ext cx="104400" cy="3636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2177640" y="456768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1955160" y="4514400"/>
                <a:ext cx="132480" cy="435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2081520" y="45442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1835280" y="4479480"/>
                <a:ext cx="126000" cy="475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1955160" y="45144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1710720" y="4437360"/>
                <a:ext cx="130680" cy="5544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1835280" y="44794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1614600" y="4384080"/>
                <a:ext cx="104400" cy="6516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1708920" y="4437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1535400" y="4338720"/>
                <a:ext cx="89640" cy="5724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1614600" y="43840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1436400" y="4279680"/>
                <a:ext cx="108720" cy="702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1535400" y="43387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1357560" y="4209120"/>
                <a:ext cx="89640" cy="817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1436400" y="42796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1291320" y="4161240"/>
                <a:ext cx="77040" cy="590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1357560" y="4209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1192320" y="4149720"/>
                <a:ext cx="105120" cy="2484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1291320" y="41612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1100520" y="4149720"/>
                <a:ext cx="96120" cy="475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1188360" y="4149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999360" y="4184280"/>
                <a:ext cx="108720" cy="874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1098360" y="41842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974160" y="4264200"/>
                <a:ext cx="40680" cy="932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997560" y="426024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974160" y="4355640"/>
                <a:ext cx="53280" cy="9540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974160" y="435564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1012320" y="444564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1010520" y="44456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1098360" y="4533120"/>
                <a:ext cx="136800" cy="9936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1098360" y="45331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1224720" y="4620960"/>
                <a:ext cx="130680" cy="9288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1224720" y="46209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1346400" y="4703040"/>
                <a:ext cx="147960" cy="9540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1344600" y="470304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1485720" y="478512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1485720" y="478512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1652760" y="4842000"/>
                <a:ext cx="163080" cy="630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1650960" y="48420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1809000" y="488988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1119600" y="4195440"/>
                <a:ext cx="1071000" cy="636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2092320" y="476208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2175840" y="4674600"/>
                <a:ext cx="20880" cy="9288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2175840" y="4762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2124360" y="460008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2182320" y="4670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1936080" y="4544280"/>
                <a:ext cx="196920" cy="6696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124360" y="459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1749240" y="4489200"/>
                <a:ext cx="192960" cy="6840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1936080" y="45442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1571760" y="4409280"/>
                <a:ext cx="186120" cy="9360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1749240" y="44892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1449360" y="4325040"/>
                <a:ext cx="130680" cy="9540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1569240" y="4409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1333800" y="4256280"/>
                <a:ext cx="126000" cy="806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1449360" y="43250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1258560" y="4190040"/>
                <a:ext cx="86040" cy="781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1333800" y="42562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1166760" y="4190040"/>
                <a:ext cx="100440" cy="3780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1258560" y="41882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1111320" y="4216680"/>
                <a:ext cx="66240" cy="781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1162080" y="4214880"/>
                <a:ext cx="15120" cy="12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1111320" y="4290840"/>
                <a:ext cx="29880" cy="100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1111320" y="4286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1125720" y="4386600"/>
                <a:ext cx="98640" cy="104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1123920" y="43866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1213920" y="4479480"/>
                <a:ext cx="147960" cy="896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1212120" y="44794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1352880" y="4556160"/>
                <a:ext cx="167040" cy="10656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1352880" y="455616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1511640" y="4649400"/>
                <a:ext cx="200880" cy="11448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1511640" y="46494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1706400" y="4749120"/>
                <a:ext cx="182160" cy="6300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1704600" y="474912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1884240" y="4796640"/>
                <a:ext cx="214200" cy="435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1884240" y="479664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092320" y="48250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1171080" y="4203000"/>
                <a:ext cx="1019160" cy="61236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163240" y="4723920"/>
                <a:ext cx="33480" cy="7596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2169360" y="4653360"/>
                <a:ext cx="27000" cy="7416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2182320" y="472392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2124360" y="460008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2169360" y="46519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1963440" y="4567680"/>
                <a:ext cx="169560" cy="435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2124360" y="459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1809000" y="452556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1961640" y="45676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1631520" y="4462560"/>
                <a:ext cx="186120" cy="7596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1809000" y="452556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1477440" y="4372920"/>
                <a:ext cx="162720" cy="100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1629360" y="44625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1376640" y="4302360"/>
                <a:ext cx="111600" cy="817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1477440" y="4372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1284480" y="422064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1376640" y="43023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1213920" y="4197240"/>
                <a:ext cx="78840" cy="360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1284480" y="42206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1164600" y="419940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1212120" y="4195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1162080" y="425052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1160280" y="425052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1209240" y="4306320"/>
                <a:ext cx="96120" cy="3204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1203120" y="430632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1297440" y="432504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1297440" y="43232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1383120" y="4390200"/>
                <a:ext cx="111240" cy="835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1383120" y="4390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1485720" y="4462560"/>
                <a:ext cx="133200" cy="6480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1483560" y="44625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1609920" y="4514400"/>
                <a:ext cx="176040" cy="7776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1609920" y="451440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1779120" y="4577400"/>
                <a:ext cx="147960" cy="622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1777320" y="457740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1922400" y="4625280"/>
                <a:ext cx="130680" cy="50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1922400" y="462528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2046960" y="4663080"/>
                <a:ext cx="74880" cy="5328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2046960" y="466092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2096280" y="4707000"/>
                <a:ext cx="29880" cy="5472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2109600" y="470304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2096280" y="4762080"/>
                <a:ext cx="23400" cy="5544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2096280" y="47602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2109600" y="47887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2103120" y="480816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2163240" y="478872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1830600" y="4785120"/>
                <a:ext cx="177840" cy="5508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1708920" y="4779000"/>
                <a:ext cx="128160" cy="208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1830600" y="478512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1592640" y="471420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1706400" y="47851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1430280" y="4674600"/>
                <a:ext cx="168840" cy="5508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1592640" y="47142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1376640" y="4588560"/>
                <a:ext cx="64440" cy="9684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1430280" y="467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1218240" y="4487400"/>
                <a:ext cx="173160" cy="10836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1376640" y="458640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1065960" y="4285440"/>
                <a:ext cx="167040" cy="20952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1218240" y="44874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081520" y="4630680"/>
                <a:ext cx="91800" cy="1332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1192320" y="4220640"/>
                <a:ext cx="117720" cy="104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1184040" y="4212720"/>
                <a:ext cx="40680" cy="7416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1220400" y="4212720"/>
                <a:ext cx="87840" cy="5328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1218240" y="42127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1275840" y="4258440"/>
                <a:ext cx="42480" cy="7200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1293120" y="425844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1192320" y="4279680"/>
                <a:ext cx="89640" cy="532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1275840" y="4316040"/>
                <a:ext cx="8640" cy="169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1192320" y="427968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3" name=""/>
            <p:cNvGrpSpPr/>
            <p:nvPr/>
          </p:nvGrpSpPr>
          <p:grpSpPr>
            <a:xfrm>
              <a:off x="1979640" y="4005360"/>
              <a:ext cx="1655640" cy="836640"/>
              <a:chOff x="1979640" y="4005360"/>
              <a:chExt cx="1655640" cy="836640"/>
            </a:xfrm>
          </p:grpSpPr>
          <p:sp>
            <p:nvSpPr>
              <p:cNvPr id="6874" name=""/>
              <p:cNvSpPr/>
              <p:nvPr/>
            </p:nvSpPr>
            <p:spPr>
              <a:xfrm>
                <a:off x="2058840" y="436716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2241000" y="4116600"/>
                <a:ext cx="21168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2441520" y="41166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2067120" y="4190400"/>
                <a:ext cx="18180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2241000" y="419040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2067120" y="42098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1999080" y="40294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080800" y="40075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1988280" y="42141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1979640" y="40734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2199600" y="401328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199600" y="40413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2292840" y="401328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2379240" y="4138200"/>
                <a:ext cx="13572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2507040" y="41382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2287080" y="4231800"/>
                <a:ext cx="10584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379240" y="423180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189160" y="4231800"/>
                <a:ext cx="10008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281320" y="4231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2072520" y="4277520"/>
                <a:ext cx="1220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2189160" y="4285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1993320" y="4011480"/>
                <a:ext cx="16329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042000" y="4778640"/>
                <a:ext cx="13572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3169800" y="4814280"/>
                <a:ext cx="17136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3167640" y="481428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338280" y="4788360"/>
                <a:ext cx="15768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338280" y="482616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485520" y="4728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485520" y="478836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569400" y="4657320"/>
                <a:ext cx="655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569400" y="47289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607920" y="4537800"/>
                <a:ext cx="273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615840" y="465732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509640" y="4442400"/>
                <a:ext cx="11628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607920" y="45342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3387600" y="4416480"/>
                <a:ext cx="1324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509640" y="444060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227400" y="4385160"/>
                <a:ext cx="16812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387600" y="4416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3075120" y="4349160"/>
                <a:ext cx="1602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227400" y="4385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2917440" y="4305240"/>
                <a:ext cx="16560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075120" y="4349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2795040" y="4249440"/>
                <a:ext cx="1324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2914920" y="43052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2694960" y="4202280"/>
                <a:ext cx="11412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795040" y="42494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569320" y="4140720"/>
                <a:ext cx="13824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2694960" y="420228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2469240" y="4067280"/>
                <a:ext cx="11412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2569320" y="41407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2385000" y="4017600"/>
                <a:ext cx="9756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2469240" y="40672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2259360" y="4005360"/>
                <a:ext cx="13356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2385000" y="401760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143080" y="400536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254680" y="400536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014920" y="4041360"/>
                <a:ext cx="13824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140560" y="404136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1982880" y="4124520"/>
                <a:ext cx="5148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2012760" y="4120560"/>
                <a:ext cx="2160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1982880" y="4219920"/>
                <a:ext cx="6768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982880" y="421992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2031480" y="4313520"/>
                <a:ext cx="12528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2028960" y="431352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140560" y="4404600"/>
                <a:ext cx="17388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140560" y="4404600"/>
                <a:ext cx="1584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2300760" y="4496400"/>
                <a:ext cx="16560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300760" y="44964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455200" y="4581720"/>
                <a:ext cx="18756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453040" y="4581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631960" y="4667400"/>
                <a:ext cx="21996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631960" y="4667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843640" y="4726440"/>
                <a:ext cx="2070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2841480" y="472644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042000" y="4776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2167200" y="4053240"/>
                <a:ext cx="13586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401280" y="464328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507480" y="4551840"/>
                <a:ext cx="2628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507480" y="464328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441960" y="4474440"/>
                <a:ext cx="9180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515400" y="454788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203280" y="4416480"/>
                <a:ext cx="24984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441960" y="4472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2966040" y="4359240"/>
                <a:ext cx="2451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203280" y="4416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2741040" y="4275720"/>
                <a:ext cx="23616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2966040" y="43592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2585520" y="4187880"/>
                <a:ext cx="16560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2737800" y="4275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2439000" y="4116600"/>
                <a:ext cx="1602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2585520" y="418788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2343600" y="4047120"/>
                <a:ext cx="10908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2439000" y="411660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2227320" y="4047120"/>
                <a:ext cx="12744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2343600" y="404532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2156760" y="4074840"/>
                <a:ext cx="8388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2221560" y="40734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156760" y="4152600"/>
                <a:ext cx="378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2156760" y="414828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2175120" y="4251960"/>
                <a:ext cx="12528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2172960" y="425196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2287080" y="4349160"/>
                <a:ext cx="18756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284560" y="43491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2463480" y="4429080"/>
                <a:ext cx="21204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2463480" y="4429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664720" y="4525920"/>
                <a:ext cx="2548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2664720" y="452592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911680" y="4629600"/>
                <a:ext cx="23112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2909160" y="462960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137760" y="4679280"/>
                <a:ext cx="27144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137760" y="46792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401280" y="470880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232720" y="4060800"/>
                <a:ext cx="12927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491280" y="4603680"/>
                <a:ext cx="4248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499200" y="453024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515400" y="4603680"/>
                <a:ext cx="183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441960" y="447444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499200" y="45284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237840" y="4440600"/>
                <a:ext cx="21492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441960" y="4472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042000" y="4397040"/>
                <a:ext cx="20124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235320" y="44406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2817000" y="4331160"/>
                <a:ext cx="236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042000" y="43970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621160" y="4237920"/>
                <a:ext cx="20628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813760" y="4331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2493360" y="4164480"/>
                <a:ext cx="141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2621160" y="4237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2376720" y="4079160"/>
                <a:ext cx="12996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2493360" y="41644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2287080" y="4054680"/>
                <a:ext cx="10008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376720" y="40791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2224800" y="405720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2284560" y="405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2221560" y="4110480"/>
                <a:ext cx="7092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2219040" y="411048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2281320" y="4168440"/>
                <a:ext cx="1220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2273400" y="41684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2392920" y="418788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2392920" y="418608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2501640" y="4255920"/>
                <a:ext cx="141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2501640" y="42559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2631960" y="433116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2629440" y="4331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2789640" y="4385160"/>
                <a:ext cx="22320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2789640" y="438516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003840" y="4450680"/>
                <a:ext cx="18756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001680" y="4450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186000" y="4500720"/>
                <a:ext cx="16560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186000" y="45007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344040" y="45403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344040" y="453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406320" y="458568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423240" y="458172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406320" y="4643280"/>
                <a:ext cx="2988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406320" y="464148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423240" y="4671000"/>
                <a:ext cx="8064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414960" y="4691160"/>
                <a:ext cx="2088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491280" y="467100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069360" y="4667400"/>
                <a:ext cx="22536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2914920" y="4660920"/>
                <a:ext cx="16236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069360" y="46674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2767680" y="4593600"/>
                <a:ext cx="14724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2911680" y="466740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2561400" y="4551840"/>
                <a:ext cx="21420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2767680" y="45936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2493360" y="4462560"/>
                <a:ext cx="8172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2561400" y="45518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2292840" y="4357080"/>
                <a:ext cx="21996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2493360" y="4460400"/>
                <a:ext cx="1944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2099160" y="4146480"/>
                <a:ext cx="21168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2292840" y="435708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387600" y="4506480"/>
                <a:ext cx="11628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2259360" y="4079160"/>
                <a:ext cx="14940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2248920" y="4070880"/>
                <a:ext cx="5148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2295000" y="4070880"/>
                <a:ext cx="11160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2292840" y="40708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365560" y="411876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2387520" y="411876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259360" y="414072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2365560" y="41785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259360" y="414072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7" name=""/>
            <p:cNvGrpSpPr/>
            <p:nvPr/>
          </p:nvGrpSpPr>
          <p:grpSpPr>
            <a:xfrm>
              <a:off x="3059280" y="3789360"/>
              <a:ext cx="1296720" cy="660240"/>
              <a:chOff x="3059280" y="3789360"/>
              <a:chExt cx="1296720" cy="660240"/>
            </a:xfrm>
          </p:grpSpPr>
          <p:sp>
            <p:nvSpPr>
              <p:cNvPr id="7058" name=""/>
              <p:cNvSpPr/>
              <p:nvPr/>
            </p:nvSpPr>
            <p:spPr>
              <a:xfrm>
                <a:off x="312120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263760" y="387684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421080" y="3876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127680" y="393552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63760" y="393552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127680" y="39506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074400" y="3808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138480" y="3791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066120" y="3953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059280" y="384300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231720" y="379548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231720" y="38178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04440" y="379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72480" y="389412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472200" y="38941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300120" y="396828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372480" y="39682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23080" y="396828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95440" y="39682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132000" y="400392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23080" y="4010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069720" y="3794400"/>
                <a:ext cx="127908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891240" y="439956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991680" y="442764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989520" y="4427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4123440" y="440712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23440" y="4437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8640" y="436032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238640" y="44071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4304520" y="430380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4304520" y="4360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4334400" y="420948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4340880" y="4303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4257720" y="413424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4334400" y="42066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4161960" y="411372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4257720" y="413280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4036680" y="408924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416196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3917520" y="406044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4036680" y="40892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3793680" y="4025880"/>
                <a:ext cx="1296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3917520" y="4060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697920" y="398196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3791880" y="4025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3619440" y="394452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3697920" y="39819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3521160" y="389592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3619440" y="394452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3442680" y="383832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3521160" y="38959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3376800" y="379908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3442680" y="3838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3278520" y="378936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3376800" y="37990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3187080" y="378936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274560" y="37893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3087000" y="381780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3185280" y="381780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3061800" y="388332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3085200" y="388044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3061800" y="395856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3061800" y="395856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3099600" y="403236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3097800" y="40323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3185280" y="410436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3185280" y="41043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3310920" y="4176720"/>
                <a:ext cx="1296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310920" y="41767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3431880" y="424404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3430080" y="424404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3570120" y="431172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3570120" y="43117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3736080" y="435852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3734280" y="4358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3891240" y="43977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3206160" y="3827160"/>
                <a:ext cx="106416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4172760" y="429264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4255920" y="422064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4255920" y="4292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4204440" y="41598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4262040" y="4217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4017600" y="411372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3831840" y="406836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401760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3655440" y="4002480"/>
                <a:ext cx="18468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3831840" y="40683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3533760" y="3933360"/>
                <a:ext cx="1296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3652920" y="40024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3419280" y="387684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3533760" y="39333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3344400" y="382248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3419280" y="387684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3253320" y="382248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3344400" y="3821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3197880" y="384444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3248640" y="384300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3197880" y="390564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3197880" y="390204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3212640" y="398412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3210480" y="39841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3300120" y="406044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3297960" y="4060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3438000" y="412344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3438000" y="41234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3596040" y="420012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3596040" y="42001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3789360" y="428184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3787560" y="42818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3966120" y="432108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3966120" y="432108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172760" y="434448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3257640" y="3832920"/>
                <a:ext cx="101268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4243320" y="42613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249440" y="420336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262040" y="426132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204440" y="41598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249440" y="420228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044600" y="413280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3891240" y="409824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042800" y="4132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3715200" y="404640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3891240" y="4098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3561840" y="397260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371268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3461400" y="391464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561840" y="397260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370320" y="384768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461400" y="391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300120" y="382824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370320" y="3847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251160" y="38304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297960" y="38271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248640" y="3872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246840" y="38721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3295440" y="391824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3289320" y="391824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3382920" y="39333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3382920" y="39319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3467880" y="398700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467880" y="398700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3570120" y="404640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356796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3693600" y="408924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3693600" y="4089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3861720" y="414072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3859560" y="4140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4004280" y="4180320"/>
                <a:ext cx="1296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4004280" y="418032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4127760" y="421128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4127760" y="42094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176720" y="4247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190040" y="424404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176720" y="429264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4176720" y="429120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4190040" y="431460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4183560" y="433044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4243320" y="43146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3912840" y="431172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3791880" y="430668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3912840" y="431172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3676320" y="425340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378936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3515040" y="422064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3676320" y="425340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3461400" y="415008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3515040" y="4220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3304440" y="406692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461400" y="41482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3152880" y="390096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304440" y="4066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4161960" y="418500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278520" y="384768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3270240" y="3840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3306240" y="384084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3304440" y="384084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361680" y="387864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3378600" y="38786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3278520" y="389592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3361680" y="392616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3278520" y="389592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1" name=""/>
            <p:cNvGrpSpPr/>
            <p:nvPr/>
          </p:nvGrpSpPr>
          <p:grpSpPr>
            <a:xfrm>
              <a:off x="826920" y="3789360"/>
              <a:ext cx="1368720" cy="660240"/>
              <a:chOff x="826920" y="3789360"/>
              <a:chExt cx="1368720" cy="660240"/>
            </a:xfrm>
          </p:grpSpPr>
          <p:sp>
            <p:nvSpPr>
              <p:cNvPr id="7242" name=""/>
              <p:cNvSpPr/>
              <p:nvPr/>
            </p:nvSpPr>
            <p:spPr>
              <a:xfrm>
                <a:off x="89244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042920" y="3876840"/>
                <a:ext cx="174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208880" y="3876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899280" y="3935520"/>
                <a:ext cx="15048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042920" y="39355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899280" y="3950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842760" y="38080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910440" y="3791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834120" y="39538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826920" y="3843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008720" y="379548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008720" y="38178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085760" y="37954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157400" y="3894120"/>
                <a:ext cx="11232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262880" y="38941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081080" y="396828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157400" y="3968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000080" y="396828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076400" y="3968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903600" y="4003920"/>
                <a:ext cx="1008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000080" y="40107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838080" y="3794400"/>
                <a:ext cx="135000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705320" y="4399560"/>
                <a:ext cx="11232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810800" y="4427640"/>
                <a:ext cx="14184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809000" y="44276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950120" y="4407120"/>
                <a:ext cx="13032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950120" y="44370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2071800" y="4360320"/>
                <a:ext cx="8280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2071800" y="440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141280" y="430380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141280" y="436032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172960" y="4209480"/>
                <a:ext cx="2268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179440" y="430380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091960" y="4134240"/>
                <a:ext cx="9612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172960" y="42066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1990800" y="4113720"/>
                <a:ext cx="10944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2091960" y="413280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58320" y="4089240"/>
                <a:ext cx="1389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99080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732680" y="4060440"/>
                <a:ext cx="13212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858320" y="408924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602000" y="4025880"/>
                <a:ext cx="1368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732680" y="4060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1501200" y="398196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1600200" y="40258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1418040" y="3944520"/>
                <a:ext cx="9432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1501200" y="3981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1314360" y="3895920"/>
                <a:ext cx="11412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418040" y="39445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231560" y="383832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314360" y="38959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1162080" y="3799080"/>
                <a:ext cx="8064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1231560" y="38383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1058400" y="3789360"/>
                <a:ext cx="11016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1162080" y="37990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961920" y="3789360"/>
                <a:ext cx="1008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1054440" y="37893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856080" y="381780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960120" y="38178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829440" y="388332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854280" y="3880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829440" y="3958560"/>
                <a:ext cx="5580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829440" y="395856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869760" y="403236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867600" y="40323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960120" y="4104360"/>
                <a:ext cx="14364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960120" y="410436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092240" y="4176720"/>
                <a:ext cx="1368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1092240" y="41767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1220040" y="424404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1218240" y="4244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1366200" y="4311720"/>
                <a:ext cx="18180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1366200" y="43117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1541160" y="4358520"/>
                <a:ext cx="171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1539360" y="4358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1705320" y="4397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982080" y="3827160"/>
                <a:ext cx="112320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2002320" y="429264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2089800" y="4220640"/>
                <a:ext cx="2196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2089800" y="4292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2035800" y="4159800"/>
                <a:ext cx="7596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2096640" y="42174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1838520" y="4113720"/>
                <a:ext cx="2062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1642320" y="4068360"/>
                <a:ext cx="2026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183852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1456200" y="4002480"/>
                <a:ext cx="19512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1642320" y="4068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1327680" y="3933360"/>
                <a:ext cx="1368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453680" y="4002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206720" y="3876840"/>
                <a:ext cx="13212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1327680" y="39333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1127880" y="3822480"/>
                <a:ext cx="9000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1206720" y="38768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1031400" y="3822480"/>
                <a:ext cx="10548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1127880" y="38210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973440" y="3844440"/>
                <a:ext cx="694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1026720" y="3843000"/>
                <a:ext cx="1584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973440" y="390564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973440" y="390204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988560" y="3984120"/>
                <a:ext cx="1036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986760" y="398412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081080" y="4060440"/>
                <a:ext cx="15516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1078920" y="40604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1226880" y="4123440"/>
                <a:ext cx="17532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1226880" y="4123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1393560" y="4200120"/>
                <a:ext cx="21060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1393560" y="42001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1597320" y="4281840"/>
                <a:ext cx="19116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1595520" y="4281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1784160" y="4321080"/>
                <a:ext cx="22464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1784160" y="4321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2002320" y="4344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1036080" y="3832920"/>
                <a:ext cx="10688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2076480" y="4261320"/>
                <a:ext cx="352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2083320" y="4203360"/>
                <a:ext cx="2844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2096640" y="426132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035800" y="41598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083320" y="4202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1866960" y="4132800"/>
                <a:ext cx="17784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1705320" y="4098240"/>
                <a:ext cx="16632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1865160" y="41328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1519200" y="4046400"/>
                <a:ext cx="19512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1705320" y="409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1357200" y="397260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15166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1251720" y="3914640"/>
                <a:ext cx="11700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1357200" y="3972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1155240" y="3847680"/>
                <a:ext cx="10764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1251720" y="3914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1081080" y="3828240"/>
                <a:ext cx="8280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1155240" y="3847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1029600" y="38304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1078920" y="382716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1026720" y="3872160"/>
                <a:ext cx="5868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1024920" y="38721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1076400" y="3918240"/>
                <a:ext cx="1008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1069560" y="39182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1168560" y="393336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1168560" y="39319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1258200" y="3987000"/>
                <a:ext cx="11664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1258200" y="3987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1366200" y="4046400"/>
                <a:ext cx="13968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136404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1496520" y="4089240"/>
                <a:ext cx="18468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1496520" y="4089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1673640" y="4140720"/>
                <a:ext cx="15516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1671840" y="4140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1824120" y="4180320"/>
                <a:ext cx="1368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1824120" y="418032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1954800" y="421128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1954800" y="42094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006280" y="424728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020320" y="42440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006280" y="4292640"/>
                <a:ext cx="2448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006280" y="429120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020320" y="43146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013480" y="433044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076480" y="431460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1728000" y="4311720"/>
                <a:ext cx="18648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1600200" y="4306680"/>
                <a:ext cx="1342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1728000" y="431172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1478520" y="4253400"/>
                <a:ext cx="12168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159732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1307880" y="4220640"/>
                <a:ext cx="17712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1478520" y="42534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1251720" y="4150080"/>
                <a:ext cx="6732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1307880" y="4220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1085760" y="4066920"/>
                <a:ext cx="18180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1251720" y="4148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925920" y="3900960"/>
                <a:ext cx="174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1085760" y="4066920"/>
                <a:ext cx="1512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1990800" y="4185000"/>
                <a:ext cx="9612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1058400" y="3847680"/>
                <a:ext cx="12348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1049760" y="3840840"/>
                <a:ext cx="4248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1087560" y="384084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1085760" y="384084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1145880" y="3878640"/>
                <a:ext cx="4464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1163880" y="38786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1058400" y="3895920"/>
                <a:ext cx="9432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1145880" y="39261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1058400" y="389592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5" name=""/>
            <p:cNvGrpSpPr/>
            <p:nvPr/>
          </p:nvGrpSpPr>
          <p:grpSpPr>
            <a:xfrm>
              <a:off x="2987640" y="4221000"/>
              <a:ext cx="1152720" cy="792360"/>
              <a:chOff x="2987640" y="4221000"/>
              <a:chExt cx="1152720" cy="792360"/>
            </a:xfrm>
          </p:grpSpPr>
          <p:sp>
            <p:nvSpPr>
              <p:cNvPr id="7426" name=""/>
              <p:cNvSpPr/>
              <p:nvPr/>
            </p:nvSpPr>
            <p:spPr>
              <a:xfrm>
                <a:off x="3042720" y="4563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169440" y="4326120"/>
                <a:ext cx="14724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309120" y="43261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3048480" y="4396320"/>
                <a:ext cx="12672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3169440" y="439632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3048480" y="441468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3000960" y="424368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3057840" y="42231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993760" y="44186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2987640" y="428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3140640" y="422856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3140640" y="425484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3205440" y="42285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3265920" y="4347000"/>
                <a:ext cx="9468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3354840" y="434700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3201480" y="443556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3265920" y="44355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133440" y="443556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3197520" y="44355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3052080" y="4478760"/>
                <a:ext cx="8496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3133440" y="448668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2997000" y="4226760"/>
                <a:ext cx="1136880" cy="7790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3727440" y="4953240"/>
                <a:ext cx="9468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3816360" y="4987080"/>
                <a:ext cx="1191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3814560" y="498708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3933360" y="4962600"/>
                <a:ext cx="1098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3933360" y="499824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4036320" y="4906440"/>
                <a:ext cx="698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4036320" y="49626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4094640" y="4838400"/>
                <a:ext cx="4572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4094640" y="49064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4121280" y="4725360"/>
                <a:ext cx="190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4127040" y="483840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4052880" y="4635000"/>
                <a:ext cx="8100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4121280" y="47217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3967920" y="461016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4052880" y="4633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3856320" y="4580640"/>
                <a:ext cx="11700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396792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3750480" y="4546440"/>
                <a:ext cx="11124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3856320" y="458064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3640680" y="4505040"/>
                <a:ext cx="11520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3750480" y="45464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3555360" y="4452480"/>
                <a:ext cx="92160" cy="644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3638880" y="450504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3485520" y="440748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3555360" y="4452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3398400" y="4349160"/>
                <a:ext cx="9612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3485520" y="440748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3328200" y="4279680"/>
                <a:ext cx="792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3398400" y="43491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3269880" y="4232520"/>
                <a:ext cx="6804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3328200" y="4279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3182400" y="4221000"/>
                <a:ext cx="9288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3269880" y="4232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3101400" y="4221000"/>
                <a:ext cx="8496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3179160" y="42210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3012120" y="425484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3099600" y="4254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2989800" y="4334040"/>
                <a:ext cx="3600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3010680" y="4330080"/>
                <a:ext cx="151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2989800" y="4424040"/>
                <a:ext cx="4716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2989800" y="44240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3023640" y="4512960"/>
                <a:ext cx="8712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3021840" y="45129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3099600" y="4599000"/>
                <a:ext cx="12096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3099600" y="4599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3211200" y="4686120"/>
                <a:ext cx="11520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3211200" y="4686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3318840" y="4766760"/>
                <a:ext cx="13068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3317040" y="47667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3441600" y="4848120"/>
                <a:ext cx="15300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3441600" y="48481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3589200" y="4903920"/>
                <a:ext cx="144000" cy="6228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3587760" y="49039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3727440" y="49510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3118320" y="4266360"/>
                <a:ext cx="945720" cy="6282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3977640" y="482508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4051440" y="4738680"/>
                <a:ext cx="1836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4051440" y="48250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4005720" y="4665240"/>
                <a:ext cx="6408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4056840" y="4734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3839400" y="4610160"/>
                <a:ext cx="17388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3674520" y="4556160"/>
                <a:ext cx="17064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383940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3517920" y="4476960"/>
                <a:ext cx="164160" cy="925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3674520" y="45561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3409560" y="4393800"/>
                <a:ext cx="11520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3515400" y="44769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3307680" y="4326120"/>
                <a:ext cx="111240" cy="7956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3409560" y="43938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3241080" y="426060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3307680" y="4326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3160080" y="4260600"/>
                <a:ext cx="8892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3241080" y="42588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3110760" y="4286880"/>
                <a:ext cx="58320" cy="7740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3156120" y="428544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3110760" y="4360320"/>
                <a:ext cx="2628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3110760" y="4356360"/>
                <a:ext cx="1512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3123720" y="44546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3122280" y="4454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3201480" y="4546440"/>
                <a:ext cx="13068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3200040" y="4546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3324240" y="4622040"/>
                <a:ext cx="14760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3324240" y="4622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3464640" y="4714200"/>
                <a:ext cx="17748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3464640" y="47142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3636720" y="4812120"/>
                <a:ext cx="16092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3634920" y="48121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3794040" y="4859280"/>
                <a:ext cx="1890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3794040" y="485928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977640" y="4887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3164040" y="4273560"/>
                <a:ext cx="900000" cy="604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4040280" y="4787640"/>
                <a:ext cx="295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4045680" y="4718160"/>
                <a:ext cx="2412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4056840" y="4787640"/>
                <a:ext cx="126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4005720" y="466524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4045680" y="471636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3863520" y="4633200"/>
                <a:ext cx="149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3727440" y="4591800"/>
                <a:ext cx="1400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3862080" y="4633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3570480" y="4529520"/>
                <a:ext cx="16452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3727440" y="4591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3434400" y="4440960"/>
                <a:ext cx="14364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356832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3345120" y="437148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3434400" y="4440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3264120" y="42908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3345120" y="4371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3201480" y="4267800"/>
                <a:ext cx="698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3264120" y="4290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3158280" y="4270320"/>
                <a:ext cx="5292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3200040" y="42663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3156120" y="432072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3154320" y="43207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3197520" y="4375440"/>
                <a:ext cx="8496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3192120" y="437544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3275640" y="439380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3275640" y="4392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3350880" y="4458240"/>
                <a:ext cx="9828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3350880" y="4458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3441600" y="4529520"/>
                <a:ext cx="11736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343980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3551400" y="4580640"/>
                <a:ext cx="15552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3551400" y="4580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3700800" y="464292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3699360" y="46429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3827520" y="4690080"/>
                <a:ext cx="11520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3827520" y="4690080"/>
                <a:ext cx="396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3937320" y="4727520"/>
                <a:ext cx="6624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3937320" y="47253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3980880" y="4770720"/>
                <a:ext cx="2628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3992760" y="4766760"/>
                <a:ext cx="1440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3980880" y="4825080"/>
                <a:ext cx="205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3980880" y="4823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3992760" y="4851360"/>
                <a:ext cx="5616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3987000" y="48704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4040280" y="48513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3746520" y="484812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3638880" y="4842000"/>
                <a:ext cx="11304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3746520" y="4848120"/>
                <a:ext cx="540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3536280" y="4777920"/>
                <a:ext cx="10260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3636720" y="484812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3392640" y="4738680"/>
                <a:ext cx="149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3536280" y="47779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3345120" y="4654080"/>
                <a:ext cx="5688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3392640" y="4738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3205440" y="4554360"/>
                <a:ext cx="15300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3345120" y="46519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3070800" y="4354920"/>
                <a:ext cx="14724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3205440" y="455436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3967920" y="4695480"/>
                <a:ext cx="8100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3182400" y="4290840"/>
                <a:ext cx="10404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3175200" y="4282920"/>
                <a:ext cx="3600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3207240" y="428292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3205440" y="4282920"/>
                <a:ext cx="540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3256200" y="4328280"/>
                <a:ext cx="3744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3271680" y="4328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3182400" y="4349160"/>
                <a:ext cx="792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3256200" y="4385160"/>
                <a:ext cx="756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3182400" y="43491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9" name=""/>
            <p:cNvGrpSpPr/>
            <p:nvPr/>
          </p:nvGrpSpPr>
          <p:grpSpPr>
            <a:xfrm>
              <a:off x="2556000" y="4508640"/>
              <a:ext cx="1158840" cy="733320"/>
              <a:chOff x="2556000" y="4508640"/>
              <a:chExt cx="1158840" cy="733320"/>
            </a:xfrm>
          </p:grpSpPr>
          <p:sp>
            <p:nvSpPr>
              <p:cNvPr id="7610" name=""/>
              <p:cNvSpPr/>
              <p:nvPr/>
            </p:nvSpPr>
            <p:spPr>
              <a:xfrm>
                <a:off x="2611440" y="4825800"/>
                <a:ext cx="1440" cy="133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2738880" y="460584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2879280" y="46058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2617200" y="4671000"/>
                <a:ext cx="127080" cy="295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2738880" y="4671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2617200" y="468792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2569320" y="452952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2626560" y="451044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2562120" y="469152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2556000" y="45680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2710080" y="4515480"/>
                <a:ext cx="72360" cy="381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2710080" y="4539960"/>
                <a:ext cx="756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2775240" y="451548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2835720" y="4625280"/>
                <a:ext cx="95040" cy="94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2925000" y="462528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2771280" y="47070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2835720" y="4707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2702520" y="4707000"/>
                <a:ext cx="70200" cy="590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2766960" y="4707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2620800" y="4746960"/>
                <a:ext cx="85320" cy="226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2702520" y="475452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2565360" y="4514040"/>
                <a:ext cx="1143000" cy="721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3299760" y="5186520"/>
                <a:ext cx="95040" cy="450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3389040" y="5217840"/>
                <a:ext cx="119880" cy="241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3387600" y="5217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3506760" y="5194800"/>
                <a:ext cx="110160" cy="471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3506760" y="522792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3610080" y="5142960"/>
                <a:ext cx="70200" cy="64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3610080" y="51948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3668760" y="5079960"/>
                <a:ext cx="45720" cy="709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3668760" y="514296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3695760" y="4975200"/>
                <a:ext cx="19080" cy="1080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3701160" y="507996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3627000" y="4891680"/>
                <a:ext cx="81360" cy="885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3695760" y="4972320"/>
                <a:ext cx="12960" cy="82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3541320" y="4869000"/>
                <a:ext cx="92520" cy="3312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3627000" y="48902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3429360" y="484164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354132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3322800" y="4809960"/>
                <a:ext cx="111960" cy="432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3429360" y="48416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3212280" y="477144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3322800" y="48099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3126960" y="4722840"/>
                <a:ext cx="92520" cy="594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3210840" y="47714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3056400" y="4681080"/>
                <a:ext cx="79560" cy="52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3126960" y="4722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2968920" y="462708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3056400" y="46810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2898720" y="456300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2968920" y="462708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2839680" y="451944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2898720" y="45630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2751840" y="4508640"/>
                <a:ext cx="93240" cy="226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2839680" y="4519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2670120" y="4508640"/>
                <a:ext cx="85320" cy="432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2748600" y="45086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2580840" y="453996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2668680" y="453996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2558160" y="4613040"/>
                <a:ext cx="36000" cy="8496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2579040" y="46098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2558160" y="469656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2558160" y="469656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2592000" y="4778640"/>
                <a:ext cx="87480" cy="90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2590200" y="47786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2668680" y="4858560"/>
                <a:ext cx="121680" cy="90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2668680" y="48585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2780640" y="4939200"/>
                <a:ext cx="115920" cy="8496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2780640" y="49392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2889000" y="5013720"/>
                <a:ext cx="131400" cy="8712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2887200" y="50137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3012480" y="5088960"/>
                <a:ext cx="153720" cy="65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3012480" y="508896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3160800" y="5140800"/>
                <a:ext cx="144720" cy="576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3159360" y="51408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3299760" y="51843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2687400" y="4550400"/>
                <a:ext cx="950760" cy="5814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3551040" y="506772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3625200" y="498780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3625200" y="506772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3579480" y="491976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3630960" y="498420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3412440" y="4869000"/>
                <a:ext cx="174600" cy="6120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3246480" y="4818600"/>
                <a:ext cx="171360" cy="6264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341244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3088800" y="474552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3246480" y="481860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2980080" y="4668840"/>
                <a:ext cx="115920" cy="87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3086640" y="47455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2877480" y="4605840"/>
                <a:ext cx="111960" cy="734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2980080" y="4668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2810880" y="45453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2877480" y="4605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2729160" y="4545360"/>
                <a:ext cx="89280" cy="345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2810880" y="45439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2679840" y="456948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2725200" y="456804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2679840" y="4637520"/>
                <a:ext cx="26280" cy="9216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2679840" y="463392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2692800" y="4725000"/>
                <a:ext cx="87840" cy="95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2691360" y="47250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2771280" y="4809960"/>
                <a:ext cx="131400" cy="817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2769480" y="4809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2894400" y="4879800"/>
                <a:ext cx="148320" cy="9720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2894400" y="48798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3035520" y="4965120"/>
                <a:ext cx="178200" cy="10476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3035520" y="4965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3208320" y="5055840"/>
                <a:ext cx="161640" cy="5724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3206880" y="5055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3366360" y="5099400"/>
                <a:ext cx="190080" cy="399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3366360" y="5099400"/>
                <a:ext cx="360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3551040" y="51253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2733120" y="4557240"/>
                <a:ext cx="905040" cy="559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3614040" y="5032800"/>
                <a:ext cx="29880" cy="694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3619800" y="4968720"/>
                <a:ext cx="24120" cy="6768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3630960" y="503280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3579480" y="4919760"/>
                <a:ext cx="52920" cy="550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3619800" y="4966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3436560" y="4890240"/>
                <a:ext cx="150480" cy="399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3299760" y="4851720"/>
                <a:ext cx="140760" cy="500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3435120" y="48902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3142080" y="4794120"/>
                <a:ext cx="165240" cy="694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3299760" y="485172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3004920" y="4712400"/>
                <a:ext cx="144360" cy="9216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313992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2915640" y="4647960"/>
                <a:ext cx="99000" cy="745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3004920" y="47124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2833920" y="4573440"/>
                <a:ext cx="91080" cy="8496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2915640" y="4647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2771280" y="4551840"/>
                <a:ext cx="70200" cy="33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2833920" y="4573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2727360" y="4554000"/>
                <a:ext cx="53280" cy="5544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2769480" y="4550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2725200" y="4600800"/>
                <a:ext cx="49680" cy="6084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2723760" y="46008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2766960" y="46515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2761560" y="465156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2845440" y="466884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2845440" y="46670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2921400" y="4728240"/>
                <a:ext cx="99000" cy="763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2921400" y="472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3012480" y="4794120"/>
                <a:ext cx="118080" cy="5904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301068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3123000" y="484164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3123000" y="484164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3273120" y="4899240"/>
                <a:ext cx="131400" cy="568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3271320" y="4899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3400560" y="4942800"/>
                <a:ext cx="115920" cy="464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3400560" y="4942800"/>
                <a:ext cx="3960" cy="133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3511080" y="497736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511080" y="49752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3554640" y="501732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3566520" y="501372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3554640" y="5067720"/>
                <a:ext cx="20880" cy="507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3554640" y="5066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3566520" y="5092200"/>
                <a:ext cx="56520" cy="3132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3560760" y="510984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3614040" y="509220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3318840" y="5088960"/>
                <a:ext cx="157680" cy="500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3210840" y="5083200"/>
                <a:ext cx="113760" cy="190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3318840" y="50889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3107520" y="5024160"/>
                <a:ext cx="102960" cy="781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3208320" y="5088960"/>
                <a:ext cx="2160" cy="133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2963160" y="4987800"/>
                <a:ext cx="149760" cy="500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3107520" y="502416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2915640" y="4909320"/>
                <a:ext cx="57240" cy="88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2963160" y="49878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2775240" y="481716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2915640" y="490752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2639880" y="4632480"/>
                <a:ext cx="148320" cy="191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2775240" y="48171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3541320" y="4947840"/>
                <a:ext cx="81360" cy="12168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2751840" y="457344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2744640" y="4565880"/>
                <a:ext cx="36000" cy="6768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2776680" y="4565880"/>
                <a:ext cx="78120" cy="4860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2775240" y="456588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2826000" y="4608000"/>
                <a:ext cx="37800" cy="65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2841480" y="460800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2751840" y="4627080"/>
                <a:ext cx="79560" cy="4860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2826000" y="4660560"/>
                <a:ext cx="7560" cy="154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2751840" y="462708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3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6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6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6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7264440"/>
          </a:xfrm>
          <a:prstGeom prst="rect">
            <a:avLst/>
          </a:prstGeom>
          <a:ln w="0">
            <a:noFill/>
          </a:ln>
        </p:spPr>
      </p:pic>
      <p:grpSp>
        <p:nvGrpSpPr>
          <p:cNvPr id="7795" name=""/>
          <p:cNvGrpSpPr/>
          <p:nvPr/>
        </p:nvGrpSpPr>
        <p:grpSpPr>
          <a:xfrm>
            <a:off x="3059280" y="3789360"/>
            <a:ext cx="1296720" cy="660240"/>
            <a:chOff x="3059280" y="3789360"/>
            <a:chExt cx="1296720" cy="660240"/>
          </a:xfrm>
        </p:grpSpPr>
        <p:sp>
          <p:nvSpPr>
            <p:cNvPr id="7796" name=""/>
            <p:cNvSpPr/>
            <p:nvPr/>
          </p:nvSpPr>
          <p:spPr>
            <a:xfrm>
              <a:off x="3121200" y="4074840"/>
              <a:ext cx="1800" cy="118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263760" y="3876840"/>
              <a:ext cx="165960" cy="6876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421080" y="3876840"/>
              <a:ext cx="864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127680" y="3935520"/>
              <a:ext cx="142560" cy="2628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263760" y="3935520"/>
              <a:ext cx="7920" cy="104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127680" y="3950640"/>
              <a:ext cx="3960" cy="11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074400" y="380808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138480" y="379116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066120" y="395388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059280" y="3843000"/>
              <a:ext cx="864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231720" y="3795480"/>
              <a:ext cx="81000" cy="345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231720" y="381780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304440" y="379548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372480" y="3894120"/>
              <a:ext cx="106200" cy="8460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472200" y="38941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300120" y="3968280"/>
              <a:ext cx="82800" cy="169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372480" y="3968280"/>
              <a:ext cx="10440" cy="10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223080" y="3968280"/>
              <a:ext cx="78480" cy="5292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295440" y="3968280"/>
              <a:ext cx="6120" cy="10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132000" y="4003920"/>
              <a:ext cx="95400" cy="205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223080" y="4010760"/>
              <a:ext cx="612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069720" y="3794400"/>
              <a:ext cx="1279080" cy="649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891240" y="4399560"/>
              <a:ext cx="106200" cy="403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991680" y="4427640"/>
              <a:ext cx="134280" cy="2160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989520" y="442764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4123440" y="4407120"/>
              <a:ext cx="123480" cy="4212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4123440" y="443700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238640" y="4360320"/>
              <a:ext cx="78480" cy="576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238640" y="440712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304520" y="4303800"/>
              <a:ext cx="51120" cy="637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4304520" y="4360320"/>
              <a:ext cx="14400" cy="90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334400" y="4209480"/>
              <a:ext cx="21240" cy="972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340880" y="4303800"/>
              <a:ext cx="15120" cy="5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257720" y="4134240"/>
              <a:ext cx="91080" cy="7992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334400" y="4206600"/>
              <a:ext cx="1440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161960" y="4113720"/>
              <a:ext cx="103680" cy="2988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257720" y="4132800"/>
              <a:ext cx="12600" cy="108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036680" y="4089240"/>
              <a:ext cx="131760" cy="3564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161960" y="41137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917520" y="4060440"/>
              <a:ext cx="125280" cy="388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4036680" y="4089240"/>
              <a:ext cx="612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3793680" y="4025880"/>
              <a:ext cx="129600" cy="4572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3917520" y="406044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3697920" y="3981960"/>
              <a:ext cx="103680" cy="5364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791880" y="4025880"/>
              <a:ext cx="9720" cy="11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3619440" y="3944520"/>
              <a:ext cx="89280" cy="468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3697920" y="398196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521160" y="3895920"/>
              <a:ext cx="108360" cy="576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619440" y="3944520"/>
              <a:ext cx="10080" cy="90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442680" y="3838320"/>
              <a:ext cx="89280" cy="669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3521160" y="3895920"/>
              <a:ext cx="1044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3376800" y="3799080"/>
              <a:ext cx="76320" cy="486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442680" y="383832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278520" y="3789360"/>
              <a:ext cx="104400" cy="2052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376800" y="3799080"/>
              <a:ext cx="10440" cy="10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187080" y="3789360"/>
              <a:ext cx="95400" cy="3888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3274560" y="378936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087000" y="3817800"/>
              <a:ext cx="108360" cy="716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3185280" y="3817800"/>
              <a:ext cx="9720" cy="104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061800" y="3883320"/>
              <a:ext cx="40320" cy="7668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085200" y="3880440"/>
              <a:ext cx="16920" cy="90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3061800" y="3958560"/>
              <a:ext cx="52920" cy="7848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3061800" y="3958560"/>
              <a:ext cx="169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099600" y="4032360"/>
              <a:ext cx="97920" cy="81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097800" y="4032360"/>
              <a:ext cx="1692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185280" y="4104360"/>
              <a:ext cx="136080" cy="81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185280" y="4104360"/>
              <a:ext cx="12600" cy="9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310920" y="4176720"/>
              <a:ext cx="129600" cy="7632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310920" y="417672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431880" y="4244040"/>
              <a:ext cx="146880" cy="7848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3430080" y="424404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570120" y="4311720"/>
              <a:ext cx="172080" cy="5904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570120" y="4311720"/>
              <a:ext cx="8640" cy="108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736080" y="4358520"/>
              <a:ext cx="162000" cy="5184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3734280" y="435852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891240" y="439776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3206160" y="3827160"/>
              <a:ext cx="1064160" cy="52344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4172760" y="4292640"/>
              <a:ext cx="954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4255920" y="4220640"/>
              <a:ext cx="20520" cy="7632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4255920" y="4292640"/>
              <a:ext cx="14400" cy="93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4204440" y="4159800"/>
              <a:ext cx="72000" cy="655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4262040" y="4217400"/>
              <a:ext cx="14400" cy="79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4017600" y="4113720"/>
              <a:ext cx="195480" cy="5508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4204440" y="41576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831840" y="4068360"/>
              <a:ext cx="191880" cy="5616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017600" y="41137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55440" y="4002480"/>
              <a:ext cx="184680" cy="7704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831840" y="4068360"/>
              <a:ext cx="864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3533760" y="3933360"/>
              <a:ext cx="129600" cy="7848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3652920" y="400248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3419280" y="3876840"/>
              <a:ext cx="125280" cy="662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3533760" y="393336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3344400" y="3822480"/>
              <a:ext cx="85320" cy="640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3419280" y="387684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3253320" y="3822480"/>
              <a:ext cx="99720" cy="309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3344400" y="3821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3197880" y="3844440"/>
              <a:ext cx="65880" cy="644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3248640" y="3843000"/>
              <a:ext cx="15120" cy="10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3197880" y="3905640"/>
              <a:ext cx="29520" cy="8280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3197880" y="3902040"/>
              <a:ext cx="16920" cy="6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3212640" y="3984120"/>
              <a:ext cx="98280" cy="8568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3210480" y="3984120"/>
              <a:ext cx="16920" cy="7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3300120" y="4060440"/>
              <a:ext cx="146880" cy="7344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3297960" y="40604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3438000" y="4123440"/>
              <a:ext cx="165960" cy="8748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3438000" y="41234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3596040" y="4200120"/>
              <a:ext cx="199440" cy="943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596040" y="4200120"/>
              <a:ext cx="8280" cy="11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3789360" y="4281840"/>
              <a:ext cx="181080" cy="5148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787560" y="428184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966120" y="4321080"/>
              <a:ext cx="212760" cy="3600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966120" y="4321080"/>
              <a:ext cx="396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4172760" y="4344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257640" y="3832920"/>
              <a:ext cx="1012680" cy="5032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4243320" y="4261320"/>
              <a:ext cx="33480" cy="622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249440" y="4203360"/>
              <a:ext cx="27000" cy="6120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4262040" y="4261320"/>
              <a:ext cx="14400" cy="43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4204440" y="4159800"/>
              <a:ext cx="5940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4249440" y="4202280"/>
              <a:ext cx="1440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4044600" y="4132800"/>
              <a:ext cx="168480" cy="3600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4204440" y="41576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891240" y="4098240"/>
              <a:ext cx="157680" cy="4500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4042800" y="4132800"/>
              <a:ext cx="6120" cy="10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715200" y="4046400"/>
              <a:ext cx="185040" cy="622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891240" y="40982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561840" y="3972600"/>
              <a:ext cx="161640" cy="8280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3712680" y="404640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3461400" y="3914640"/>
              <a:ext cx="110880" cy="6696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561840" y="397260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370320" y="3847680"/>
              <a:ext cx="101880" cy="7632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461400" y="391464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300120" y="3828240"/>
              <a:ext cx="78480" cy="295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70320" y="384768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251160" y="3830400"/>
              <a:ext cx="5940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297960" y="3827160"/>
              <a:ext cx="12600" cy="126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248640" y="3872160"/>
              <a:ext cx="55440" cy="5508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246840" y="3872160"/>
              <a:ext cx="1692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295440" y="3918240"/>
              <a:ext cx="95400" cy="2628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289320" y="3918240"/>
              <a:ext cx="15120" cy="126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382920" y="3933360"/>
              <a:ext cx="954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382920" y="393192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467880" y="3987000"/>
              <a:ext cx="110520" cy="6840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467880" y="3987000"/>
              <a:ext cx="1044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570120" y="4046400"/>
              <a:ext cx="132120" cy="5328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567960" y="404640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693600" y="4089240"/>
              <a:ext cx="174960" cy="637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693600" y="40892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3861720" y="4140720"/>
              <a:ext cx="146880" cy="5112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859560" y="4140720"/>
              <a:ext cx="864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4004280" y="4180320"/>
              <a:ext cx="129600" cy="41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4004280" y="4180320"/>
              <a:ext cx="4320" cy="1188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4127760" y="4211280"/>
              <a:ext cx="74520" cy="4392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4127760" y="420948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4176720" y="4247280"/>
              <a:ext cx="29520" cy="4500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4190040" y="4244040"/>
              <a:ext cx="16200" cy="11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4176720" y="4292640"/>
              <a:ext cx="23400" cy="457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4176720" y="4291200"/>
              <a:ext cx="169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4190040" y="4314600"/>
              <a:ext cx="63360" cy="2844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4183560" y="4330440"/>
              <a:ext cx="16200" cy="151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243320" y="4314600"/>
              <a:ext cx="14400" cy="12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912840" y="4311720"/>
              <a:ext cx="176760" cy="4500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791880" y="4306680"/>
              <a:ext cx="127080" cy="169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3912840" y="4311720"/>
              <a:ext cx="6120" cy="1188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3676320" y="4253400"/>
              <a:ext cx="115200" cy="7020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3789360" y="4311720"/>
              <a:ext cx="2520" cy="118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3515040" y="4220640"/>
              <a:ext cx="167760" cy="4500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3676320" y="4253400"/>
              <a:ext cx="6120" cy="1260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461400" y="4150080"/>
              <a:ext cx="64080" cy="79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3515040" y="422064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304440" y="4066920"/>
              <a:ext cx="172080" cy="8928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3461400" y="4148280"/>
              <a:ext cx="15120" cy="79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152880" y="3900960"/>
              <a:ext cx="165960" cy="17208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304440" y="4066920"/>
              <a:ext cx="14400" cy="6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4161960" y="4185000"/>
              <a:ext cx="91080" cy="10944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3278520" y="3847680"/>
              <a:ext cx="117000" cy="8568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3270240" y="3840840"/>
              <a:ext cx="40320" cy="6120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306240" y="3840840"/>
              <a:ext cx="87480" cy="4392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3304440" y="3840840"/>
              <a:ext cx="6120" cy="136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3361680" y="3878640"/>
              <a:ext cx="42120" cy="5904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3378600" y="3878640"/>
              <a:ext cx="1692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278520" y="3895920"/>
              <a:ext cx="89280" cy="4392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361680" y="3926160"/>
              <a:ext cx="8640" cy="136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278520" y="3895920"/>
              <a:ext cx="1692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9" name=""/>
          <p:cNvGrpSpPr/>
          <p:nvPr/>
        </p:nvGrpSpPr>
        <p:grpSpPr>
          <a:xfrm>
            <a:off x="826920" y="3789360"/>
            <a:ext cx="3313440" cy="1224000"/>
            <a:chOff x="826920" y="3789360"/>
            <a:chExt cx="3313440" cy="1224000"/>
          </a:xfrm>
        </p:grpSpPr>
        <p:grpSp>
          <p:nvGrpSpPr>
            <p:cNvPr id="7980" name=""/>
            <p:cNvGrpSpPr/>
            <p:nvPr/>
          </p:nvGrpSpPr>
          <p:grpSpPr>
            <a:xfrm>
              <a:off x="971640" y="4149720"/>
              <a:ext cx="1305000" cy="803160"/>
              <a:chOff x="971640" y="4149720"/>
              <a:chExt cx="1305000" cy="803160"/>
            </a:xfrm>
          </p:grpSpPr>
          <p:sp>
            <p:nvSpPr>
              <p:cNvPr id="7981" name=""/>
              <p:cNvSpPr/>
              <p:nvPr/>
            </p:nvSpPr>
            <p:spPr>
              <a:xfrm>
                <a:off x="1033920" y="449712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1177560" y="4256280"/>
                <a:ext cx="167040" cy="838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1335600" y="425628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1040400" y="4327200"/>
                <a:ext cx="143280" cy="3204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1177560" y="43272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1040400" y="434592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986760" y="4172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1051200" y="41518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978480" y="43498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971640" y="421488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1145160" y="4157280"/>
                <a:ext cx="81360" cy="4212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1145160" y="418428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1218240" y="41572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1286640" y="427752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1387440" y="4277520"/>
                <a:ext cx="648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1213920" y="4367160"/>
                <a:ext cx="83520" cy="208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1286640" y="43671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1136520" y="4367160"/>
                <a:ext cx="78840" cy="644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1209240" y="436716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1044720" y="4410720"/>
                <a:ext cx="96120" cy="2484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1136520" y="44190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982440" y="4155840"/>
                <a:ext cx="1287000" cy="7898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1809000" y="4892040"/>
                <a:ext cx="106920" cy="49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1909800" y="4926240"/>
                <a:ext cx="135000" cy="2664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1908000" y="49262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2042640" y="490140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2042640" y="4937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2158560" y="4844520"/>
                <a:ext cx="78840" cy="702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2158560" y="4901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2224800" y="4775760"/>
                <a:ext cx="51480" cy="7776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2224800" y="484452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2255040" y="4660920"/>
                <a:ext cx="21600" cy="11808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2261520" y="47757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2177640" y="4569480"/>
                <a:ext cx="91800" cy="9720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2255040" y="4657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2081520" y="4544280"/>
                <a:ext cx="104400" cy="3636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2177640" y="456768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1955160" y="4514400"/>
                <a:ext cx="132480" cy="435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2081520" y="45442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1835280" y="4479480"/>
                <a:ext cx="126000" cy="475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1955160" y="45144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1710720" y="4437360"/>
                <a:ext cx="130680" cy="5544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1835280" y="44794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1614600" y="4384080"/>
                <a:ext cx="104400" cy="6516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1708920" y="4437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1535400" y="4338720"/>
                <a:ext cx="89640" cy="5724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1614600" y="43840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1436400" y="4279680"/>
                <a:ext cx="108720" cy="702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1535400" y="43387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1357560" y="4209120"/>
                <a:ext cx="89640" cy="817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1436400" y="42796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1291320" y="4161240"/>
                <a:ext cx="77040" cy="590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1357560" y="4209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1192320" y="4149720"/>
                <a:ext cx="105120" cy="2484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1291320" y="41612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1100520" y="4149720"/>
                <a:ext cx="96120" cy="475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1188360" y="4149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999360" y="4184280"/>
                <a:ext cx="108720" cy="874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1098360" y="41842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974160" y="4264200"/>
                <a:ext cx="40680" cy="932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997560" y="426024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974160" y="4355640"/>
                <a:ext cx="53280" cy="9540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974160" y="435564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1012320" y="444564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1010520" y="44456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1098360" y="4533120"/>
                <a:ext cx="136800" cy="9936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1098360" y="45331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1224720" y="4620960"/>
                <a:ext cx="130680" cy="9288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1224720" y="46209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1346400" y="4703040"/>
                <a:ext cx="147960" cy="9540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1344600" y="470304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1485720" y="478512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1485720" y="478512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1652760" y="4842000"/>
                <a:ext cx="163080" cy="630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1650960" y="48420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1809000" y="488988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1119600" y="4195440"/>
                <a:ext cx="1071000" cy="6368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2092320" y="476208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2175840" y="4674600"/>
                <a:ext cx="20880" cy="9288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2175840" y="4762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2124360" y="460008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2182320" y="4670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1936080" y="4544280"/>
                <a:ext cx="196920" cy="6696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2124360" y="459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1749240" y="4489200"/>
                <a:ext cx="192960" cy="6840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1936080" y="454428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1571760" y="4409280"/>
                <a:ext cx="186120" cy="9360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1749240" y="448920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1449360" y="4325040"/>
                <a:ext cx="130680" cy="9540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1569240" y="4409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1333800" y="4256280"/>
                <a:ext cx="126000" cy="806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1449360" y="43250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1258560" y="4190040"/>
                <a:ext cx="86040" cy="781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1333800" y="42562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1166760" y="4190040"/>
                <a:ext cx="100440" cy="3780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1258560" y="41882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1111320" y="4216680"/>
                <a:ext cx="66240" cy="781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1162080" y="4214880"/>
                <a:ext cx="15120" cy="12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1111320" y="4290840"/>
                <a:ext cx="29880" cy="100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1111320" y="4286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1125720" y="4386600"/>
                <a:ext cx="98640" cy="104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1123920" y="43866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1213920" y="4479480"/>
                <a:ext cx="147960" cy="896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1212120" y="44794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1352880" y="4556160"/>
                <a:ext cx="167040" cy="10656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1352880" y="455616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1511640" y="4649400"/>
                <a:ext cx="200880" cy="11448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1511640" y="46494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1706400" y="4749120"/>
                <a:ext cx="182160" cy="6300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1704600" y="474912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1884240" y="4796640"/>
                <a:ext cx="214200" cy="435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1884240" y="479664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2092320" y="48250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1171080" y="4203000"/>
                <a:ext cx="1019160" cy="61236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2163240" y="4723920"/>
                <a:ext cx="33480" cy="7596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2169360" y="4653360"/>
                <a:ext cx="27000" cy="7416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2182320" y="472392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2124360" y="460008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2169360" y="46519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1963440" y="4567680"/>
                <a:ext cx="169560" cy="435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2124360" y="45979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1809000" y="452556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1961640" y="45676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1631520" y="4462560"/>
                <a:ext cx="186120" cy="7596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1809000" y="452556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1477440" y="4372920"/>
                <a:ext cx="162720" cy="100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1629360" y="44625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1376640" y="4302360"/>
                <a:ext cx="111600" cy="817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1477440" y="4372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1284480" y="422064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1376640" y="43023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1213920" y="4197240"/>
                <a:ext cx="78840" cy="360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1284480" y="42206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1164600" y="4199400"/>
                <a:ext cx="59760" cy="604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1212120" y="4195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1162080" y="425052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1160280" y="425052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1209240" y="4306320"/>
                <a:ext cx="96120" cy="3204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1203120" y="430632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1297440" y="4325040"/>
                <a:ext cx="96120" cy="7668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1297440" y="43232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1383120" y="4390200"/>
                <a:ext cx="111240" cy="835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1383120" y="4390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1485720" y="4462560"/>
                <a:ext cx="133200" cy="6480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1483560" y="44625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1609920" y="4514400"/>
                <a:ext cx="176040" cy="7776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1609920" y="451440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1779120" y="4577400"/>
                <a:ext cx="147960" cy="622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1777320" y="457740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1922400" y="4625280"/>
                <a:ext cx="130680" cy="50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1922400" y="462528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2046960" y="4663080"/>
                <a:ext cx="74880" cy="5328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2046960" y="466092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2096280" y="4707000"/>
                <a:ext cx="29880" cy="5472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2109600" y="470304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2096280" y="4762080"/>
                <a:ext cx="23400" cy="5544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2096280" y="47602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2109600" y="47887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2103120" y="480816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2163240" y="478872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1830600" y="4785120"/>
                <a:ext cx="177840" cy="5508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1708920" y="4779000"/>
                <a:ext cx="128160" cy="208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1830600" y="478512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1592640" y="471420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1706400" y="47851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1430280" y="4674600"/>
                <a:ext cx="168840" cy="5508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1592640" y="47142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1376640" y="4588560"/>
                <a:ext cx="64440" cy="9684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1430280" y="467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1218240" y="4487400"/>
                <a:ext cx="173160" cy="10836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1376640" y="458640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1065960" y="4285440"/>
                <a:ext cx="167040" cy="20952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1218240" y="44874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2081520" y="4630680"/>
                <a:ext cx="91800" cy="1332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1192320" y="4220640"/>
                <a:ext cx="117720" cy="104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1184040" y="4212720"/>
                <a:ext cx="40680" cy="7416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1220400" y="4212720"/>
                <a:ext cx="87840" cy="5328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1218240" y="42127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1275840" y="4258440"/>
                <a:ext cx="42480" cy="7200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1293120" y="425844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1192320" y="4279680"/>
                <a:ext cx="89640" cy="5328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1275840" y="4316040"/>
                <a:ext cx="8640" cy="169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1192320" y="427968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4" name=""/>
            <p:cNvGrpSpPr/>
            <p:nvPr/>
          </p:nvGrpSpPr>
          <p:grpSpPr>
            <a:xfrm>
              <a:off x="1979640" y="4005360"/>
              <a:ext cx="1655640" cy="836640"/>
              <a:chOff x="1979640" y="4005360"/>
              <a:chExt cx="1655640" cy="836640"/>
            </a:xfrm>
          </p:grpSpPr>
          <p:sp>
            <p:nvSpPr>
              <p:cNvPr id="8165" name=""/>
              <p:cNvSpPr/>
              <p:nvPr/>
            </p:nvSpPr>
            <p:spPr>
              <a:xfrm>
                <a:off x="2058840" y="436716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2241000" y="4116600"/>
                <a:ext cx="211680" cy="874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2441520" y="41166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2067120" y="4190400"/>
                <a:ext cx="181800" cy="334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2241000" y="419040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2067120" y="42098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1999080" y="40294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2080800" y="40075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1988280" y="42141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1979640" y="40734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2199600" y="401328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2199600" y="40413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2292840" y="401328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2379240" y="4138200"/>
                <a:ext cx="135720" cy="10764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2507040" y="41382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2287080" y="4231800"/>
                <a:ext cx="105840" cy="2160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2379240" y="423180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2189160" y="4231800"/>
                <a:ext cx="100080" cy="673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2281320" y="4231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2072520" y="4277520"/>
                <a:ext cx="122040" cy="259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2189160" y="4285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1993320" y="4011480"/>
                <a:ext cx="1632960" cy="82260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042000" y="4778640"/>
                <a:ext cx="135720" cy="514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169800" y="4814280"/>
                <a:ext cx="171360" cy="277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167640" y="481428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338280" y="4788360"/>
                <a:ext cx="157680" cy="5364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338280" y="482616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485520" y="4728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485520" y="478836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3569400" y="4657320"/>
                <a:ext cx="65520" cy="8100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3569400" y="47289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3607920" y="4537800"/>
                <a:ext cx="27360" cy="12312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3615840" y="465732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3509640" y="4442400"/>
                <a:ext cx="116280" cy="1011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3607920" y="45342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3387600" y="4416480"/>
                <a:ext cx="132480" cy="3780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3509640" y="444060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3227400" y="4385160"/>
                <a:ext cx="168120" cy="4536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3387600" y="4416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3075120" y="4349160"/>
                <a:ext cx="160200" cy="4932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3227400" y="4385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2917440" y="4305240"/>
                <a:ext cx="165600" cy="579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3075120" y="4349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2795040" y="4249440"/>
                <a:ext cx="132480" cy="680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2914920" y="43052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2694960" y="4202280"/>
                <a:ext cx="114120" cy="594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2795040" y="42494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2569320" y="4140720"/>
                <a:ext cx="138240" cy="73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2694960" y="4202280"/>
                <a:ext cx="12960" cy="11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2469240" y="4067280"/>
                <a:ext cx="114120" cy="84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2569320" y="41407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2385000" y="4017600"/>
                <a:ext cx="97560" cy="615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2469240" y="40672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2259360" y="4005360"/>
                <a:ext cx="133560" cy="259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2385000" y="401760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2143080" y="400536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2254680" y="400536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2014920" y="4041360"/>
                <a:ext cx="138240" cy="9108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2140560" y="404136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1982880" y="4124520"/>
                <a:ext cx="51480" cy="9684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2012760" y="4120560"/>
                <a:ext cx="21600" cy="11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1982880" y="4219920"/>
                <a:ext cx="67680" cy="993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1982880" y="421992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2031480" y="4313520"/>
                <a:ext cx="125280" cy="1026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2028960" y="431352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2140560" y="4404600"/>
                <a:ext cx="173880" cy="1033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2140560" y="4404600"/>
                <a:ext cx="15840" cy="11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2300760" y="4496400"/>
                <a:ext cx="165600" cy="9684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2300760" y="44964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2455200" y="4581720"/>
                <a:ext cx="187560" cy="993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2453040" y="4581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2631960" y="4667400"/>
                <a:ext cx="219960" cy="74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2631960" y="4667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2843640" y="4726440"/>
                <a:ext cx="207000" cy="6552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2841480" y="472644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3042000" y="4776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2167200" y="4053240"/>
                <a:ext cx="1358640" cy="66312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3401280" y="464328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3507480" y="4551840"/>
                <a:ext cx="26280" cy="9684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3507480" y="464328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3441960" y="4474440"/>
                <a:ext cx="91800" cy="8316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3515400" y="454788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3203280" y="4416480"/>
                <a:ext cx="249840" cy="6984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3441960" y="4472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2966040" y="4359240"/>
                <a:ext cx="245160" cy="712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3203280" y="4416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2741040" y="4275720"/>
                <a:ext cx="236160" cy="9756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2966040" y="43592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2585520" y="4187880"/>
                <a:ext cx="165600" cy="993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2737800" y="4275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2439000" y="4116600"/>
                <a:ext cx="160200" cy="8388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2585520" y="418788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2343600" y="4047120"/>
                <a:ext cx="109080" cy="8136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2439000" y="411660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2227320" y="4047120"/>
                <a:ext cx="127440" cy="392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2343600" y="404532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2156760" y="4074840"/>
                <a:ext cx="83880" cy="817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2221560" y="40734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2156760" y="4152600"/>
                <a:ext cx="37800" cy="1051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2156760" y="414828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2175120" y="4251960"/>
                <a:ext cx="125280" cy="10872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2172960" y="425196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2287080" y="4349160"/>
                <a:ext cx="187560" cy="932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2284560" y="43491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2463480" y="4429080"/>
                <a:ext cx="212040" cy="11124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2463480" y="4429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2664720" y="4525920"/>
                <a:ext cx="254880" cy="1195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2664720" y="452592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2911680" y="4629600"/>
                <a:ext cx="231120" cy="655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2909160" y="462960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3137760" y="4679280"/>
                <a:ext cx="271440" cy="453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3137760" y="46792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3401280" y="470880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2232720" y="4060800"/>
                <a:ext cx="1292760" cy="63792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3491280" y="4603680"/>
                <a:ext cx="42480" cy="792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3499200" y="453024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3515400" y="4603680"/>
                <a:ext cx="18360" cy="576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3441960" y="447444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3499200" y="45284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3237840" y="4440600"/>
                <a:ext cx="214920" cy="453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3441960" y="4472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3042000" y="4397040"/>
                <a:ext cx="201240" cy="572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3235320" y="44406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2817000" y="4331160"/>
                <a:ext cx="236160" cy="7920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3042000" y="43970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2621160" y="4237920"/>
                <a:ext cx="206280" cy="1051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2813760" y="4331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2493360" y="4164480"/>
                <a:ext cx="141480" cy="84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2621160" y="4237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2376720" y="4079160"/>
                <a:ext cx="129960" cy="9684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2493360" y="41644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2287080" y="4054680"/>
                <a:ext cx="100080" cy="378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2376720" y="40791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2224800" y="405720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2284560" y="405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2221560" y="4110480"/>
                <a:ext cx="70920" cy="694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2219040" y="411048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2281320" y="4168440"/>
                <a:ext cx="122040" cy="334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2273400" y="41684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2392920" y="4187880"/>
                <a:ext cx="122040" cy="7992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2392920" y="418608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2501640" y="4255920"/>
                <a:ext cx="141480" cy="8676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2501640" y="42559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2631960" y="433116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2629440" y="43311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2789640" y="4385160"/>
                <a:ext cx="223200" cy="8100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2789640" y="438516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3003840" y="4450680"/>
                <a:ext cx="187560" cy="6480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3001680" y="4450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3186000" y="4500720"/>
                <a:ext cx="165600" cy="5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3186000" y="45007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3344040" y="45403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3344040" y="453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3406320" y="458568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3423240" y="458172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3406320" y="4643280"/>
                <a:ext cx="29880" cy="579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3406320" y="464148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3423240" y="4671000"/>
                <a:ext cx="80640" cy="3600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3414960" y="4691160"/>
                <a:ext cx="20880" cy="194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3491280" y="467100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3069360" y="4667400"/>
                <a:ext cx="225360" cy="572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2914920" y="4660920"/>
                <a:ext cx="162360" cy="2160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3069360" y="46674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2767680" y="4593600"/>
                <a:ext cx="147240" cy="8928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2911680" y="466740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2561400" y="4551840"/>
                <a:ext cx="214200" cy="572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2767680" y="45936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2493360" y="4462560"/>
                <a:ext cx="81720" cy="1011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2561400" y="455184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2292840" y="4357080"/>
                <a:ext cx="219960" cy="11304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2493360" y="4460400"/>
                <a:ext cx="19440" cy="97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2099160" y="4146480"/>
                <a:ext cx="211680" cy="218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2292840" y="435708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3387600" y="4506480"/>
                <a:ext cx="116280" cy="13896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2259360" y="4079160"/>
                <a:ext cx="149400" cy="10872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2248920" y="4070880"/>
                <a:ext cx="51480" cy="774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2295000" y="4070880"/>
                <a:ext cx="111600" cy="5544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2292840" y="40708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2365560" y="411876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2387520" y="411876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2259360" y="414072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2365560" y="41785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2259360" y="414072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8" name=""/>
            <p:cNvGrpSpPr/>
            <p:nvPr/>
          </p:nvGrpSpPr>
          <p:grpSpPr>
            <a:xfrm>
              <a:off x="826920" y="3789360"/>
              <a:ext cx="1368720" cy="660240"/>
              <a:chOff x="826920" y="3789360"/>
              <a:chExt cx="1368720" cy="660240"/>
            </a:xfrm>
          </p:grpSpPr>
          <p:sp>
            <p:nvSpPr>
              <p:cNvPr id="8349" name=""/>
              <p:cNvSpPr/>
              <p:nvPr/>
            </p:nvSpPr>
            <p:spPr>
              <a:xfrm>
                <a:off x="89244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1042920" y="3876840"/>
                <a:ext cx="174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1208880" y="3876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899280" y="3935520"/>
                <a:ext cx="15048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1042920" y="39355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899280" y="3950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842760" y="38080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910440" y="3791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834120" y="39538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826920" y="3843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1008720" y="379548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1008720" y="38178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1085760" y="37954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1157400" y="3894120"/>
                <a:ext cx="11232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1262880" y="38941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1081080" y="396828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1157400" y="3968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1000080" y="396828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1076400" y="3968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903600" y="4003920"/>
                <a:ext cx="1008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1000080" y="40107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838080" y="3794400"/>
                <a:ext cx="135000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1705320" y="4399560"/>
                <a:ext cx="11232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1810800" y="4427640"/>
                <a:ext cx="14184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1809000" y="44276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1950120" y="4407120"/>
                <a:ext cx="13032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1950120" y="44370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2071800" y="4360320"/>
                <a:ext cx="8280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2071800" y="440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2141280" y="430380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2141280" y="436032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2172960" y="4209480"/>
                <a:ext cx="2268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2179440" y="430380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2091960" y="4134240"/>
                <a:ext cx="9612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2172960" y="42066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1990800" y="4113720"/>
                <a:ext cx="10944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2091960" y="413280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1858320" y="4089240"/>
                <a:ext cx="1389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199080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1732680" y="4060440"/>
                <a:ext cx="13212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1858320" y="408924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1602000" y="4025880"/>
                <a:ext cx="1368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1732680" y="4060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1501200" y="398196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1600200" y="40258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1418040" y="3944520"/>
                <a:ext cx="9432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1501200" y="3981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1314360" y="3895920"/>
                <a:ext cx="11412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1418040" y="39445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1231560" y="383832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1314360" y="38959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1162080" y="3799080"/>
                <a:ext cx="8064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1231560" y="38383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1058400" y="3789360"/>
                <a:ext cx="11016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1162080" y="37990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961920" y="3789360"/>
                <a:ext cx="1008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1054440" y="37893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856080" y="381780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960120" y="38178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829440" y="388332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854280" y="3880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829440" y="3958560"/>
                <a:ext cx="5580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829440" y="395856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869760" y="403236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867600" y="40323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960120" y="4104360"/>
                <a:ext cx="14364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960120" y="410436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1092240" y="4176720"/>
                <a:ext cx="1368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1092240" y="41767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1220040" y="424404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1218240" y="4244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1366200" y="4311720"/>
                <a:ext cx="18180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1366200" y="43117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1541160" y="4358520"/>
                <a:ext cx="171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1539360" y="4358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1705320" y="4397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982080" y="3827160"/>
                <a:ext cx="112320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2002320" y="429264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2089800" y="4220640"/>
                <a:ext cx="2196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2089800" y="4292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2035800" y="4159800"/>
                <a:ext cx="7596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2096640" y="42174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838520" y="4113720"/>
                <a:ext cx="2062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1642320" y="4068360"/>
                <a:ext cx="2026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183852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1456200" y="4002480"/>
                <a:ext cx="19512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1642320" y="4068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1327680" y="3933360"/>
                <a:ext cx="1368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1453680" y="4002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1206720" y="3876840"/>
                <a:ext cx="13212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1327680" y="39333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1127880" y="3822480"/>
                <a:ext cx="9000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1206720" y="38768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1031400" y="3822480"/>
                <a:ext cx="10548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1127880" y="38210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973440" y="3844440"/>
                <a:ext cx="694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1026720" y="3843000"/>
                <a:ext cx="1584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973440" y="390564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973440" y="390204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988560" y="3984120"/>
                <a:ext cx="1036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986760" y="398412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1081080" y="4060440"/>
                <a:ext cx="15516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1078920" y="40604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1226880" y="4123440"/>
                <a:ext cx="17532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1226880" y="4123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1393560" y="4200120"/>
                <a:ext cx="21060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1393560" y="42001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1597320" y="4281840"/>
                <a:ext cx="19116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1595520" y="4281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1784160" y="4321080"/>
                <a:ext cx="22464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1784160" y="4321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2002320" y="4344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1036080" y="3832920"/>
                <a:ext cx="10688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2076480" y="4261320"/>
                <a:ext cx="352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2083320" y="4203360"/>
                <a:ext cx="2844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2096640" y="426132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2035800" y="41598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2083320" y="4202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1866960" y="4132800"/>
                <a:ext cx="17784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1705320" y="4098240"/>
                <a:ext cx="16632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1865160" y="41328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1519200" y="4046400"/>
                <a:ext cx="19512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1705320" y="409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1357200" y="397260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15166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1251720" y="3914640"/>
                <a:ext cx="11700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1357200" y="3972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1155240" y="3847680"/>
                <a:ext cx="10764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1251720" y="3914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1081080" y="3828240"/>
                <a:ext cx="8280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1155240" y="3847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1029600" y="38304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1078920" y="382716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1026720" y="3872160"/>
                <a:ext cx="5868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1024920" y="38721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1076400" y="3918240"/>
                <a:ext cx="1008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1069560" y="39182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1168560" y="393336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1168560" y="39319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1258200" y="3987000"/>
                <a:ext cx="11664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1258200" y="3987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1366200" y="4046400"/>
                <a:ext cx="13968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136404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1496520" y="4089240"/>
                <a:ext cx="18468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1496520" y="4089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1673640" y="4140720"/>
                <a:ext cx="15516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1671840" y="4140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1824120" y="4180320"/>
                <a:ext cx="1368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1824120" y="418032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1954800" y="421128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1954800" y="42094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2006280" y="424728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2020320" y="42440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2006280" y="4292640"/>
                <a:ext cx="2448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2006280" y="429120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2020320" y="43146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2013480" y="433044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2076480" y="431460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1728000" y="4311720"/>
                <a:ext cx="18648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1600200" y="4306680"/>
                <a:ext cx="1342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1728000" y="431172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1478520" y="4253400"/>
                <a:ext cx="12168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159732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1307880" y="4220640"/>
                <a:ext cx="17712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1478520" y="42534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1251720" y="4150080"/>
                <a:ext cx="6732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1307880" y="4220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1085760" y="4066920"/>
                <a:ext cx="18180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1251720" y="4148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925920" y="3900960"/>
                <a:ext cx="174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1085760" y="4066920"/>
                <a:ext cx="1512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1990800" y="4185000"/>
                <a:ext cx="9612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1058400" y="3847680"/>
                <a:ext cx="12348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1049760" y="3840840"/>
                <a:ext cx="4248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1087560" y="384084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1085760" y="384084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1145880" y="3878640"/>
                <a:ext cx="4464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1163880" y="38786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1058400" y="3895920"/>
                <a:ext cx="9432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1145880" y="39261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1058400" y="389592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2" name=""/>
            <p:cNvGrpSpPr/>
            <p:nvPr/>
          </p:nvGrpSpPr>
          <p:grpSpPr>
            <a:xfrm>
              <a:off x="2987640" y="4221000"/>
              <a:ext cx="1152720" cy="792360"/>
              <a:chOff x="2987640" y="4221000"/>
              <a:chExt cx="1152720" cy="792360"/>
            </a:xfrm>
          </p:grpSpPr>
          <p:sp>
            <p:nvSpPr>
              <p:cNvPr id="8533" name=""/>
              <p:cNvSpPr/>
              <p:nvPr/>
            </p:nvSpPr>
            <p:spPr>
              <a:xfrm>
                <a:off x="3042720" y="4563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3169440" y="4326120"/>
                <a:ext cx="14724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3309120" y="43261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3048480" y="4396320"/>
                <a:ext cx="12672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3169440" y="439632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3048480" y="441468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3000960" y="424368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3057840" y="42231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2993760" y="44186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2987640" y="428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3140640" y="422856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3140640" y="425484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3205440" y="42285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3265920" y="4347000"/>
                <a:ext cx="9468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3354840" y="434700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3201480" y="443556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3265920" y="44355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3133440" y="443556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3197520" y="44355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3052080" y="4478760"/>
                <a:ext cx="8496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3133440" y="448668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2997000" y="4226760"/>
                <a:ext cx="1136880" cy="7790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3727440" y="4953240"/>
                <a:ext cx="9468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3816360" y="4987080"/>
                <a:ext cx="1191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3814560" y="498708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3933360" y="4962600"/>
                <a:ext cx="1098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3933360" y="499824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4036320" y="4906440"/>
                <a:ext cx="698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4036320" y="49626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4094640" y="4838400"/>
                <a:ext cx="4572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4094640" y="49064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4121280" y="4725360"/>
                <a:ext cx="190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4127040" y="483840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4052880" y="4635000"/>
                <a:ext cx="8100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4121280" y="47217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3967920" y="461016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4052880" y="4633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3856320" y="4580640"/>
                <a:ext cx="11700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396792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3750480" y="4546440"/>
                <a:ext cx="11124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3856320" y="458064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3640680" y="4505040"/>
                <a:ext cx="11520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3750480" y="45464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3555360" y="4452480"/>
                <a:ext cx="92160" cy="644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3638880" y="450504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3485520" y="440748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3555360" y="4452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3398400" y="4349160"/>
                <a:ext cx="9612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3485520" y="440748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3328200" y="4279680"/>
                <a:ext cx="792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3398400" y="43491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3269880" y="4232520"/>
                <a:ext cx="6804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3328200" y="4279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3182400" y="4221000"/>
                <a:ext cx="9288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3269880" y="4232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3101400" y="4221000"/>
                <a:ext cx="8496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3179160" y="42210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3012120" y="425484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3099600" y="4254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2989800" y="4334040"/>
                <a:ext cx="3600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3010680" y="4330080"/>
                <a:ext cx="151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2989800" y="4424040"/>
                <a:ext cx="4716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2989800" y="44240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3023640" y="4512960"/>
                <a:ext cx="8712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3021840" y="45129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3099600" y="4599000"/>
                <a:ext cx="12096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3099600" y="4599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3211200" y="4686120"/>
                <a:ext cx="11520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3211200" y="4686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3318840" y="4766760"/>
                <a:ext cx="13068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3317040" y="47667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3441600" y="4848120"/>
                <a:ext cx="15300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3441600" y="48481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3589200" y="4903920"/>
                <a:ext cx="144000" cy="6228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3587760" y="49039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3727440" y="49510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3118320" y="4266360"/>
                <a:ext cx="945720" cy="6282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3977640" y="482508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4051440" y="4738680"/>
                <a:ext cx="1836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4051440" y="48250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4005720" y="4665240"/>
                <a:ext cx="6408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4056840" y="4734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3839400" y="4610160"/>
                <a:ext cx="17388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3674520" y="4556160"/>
                <a:ext cx="17064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383940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3517920" y="4476960"/>
                <a:ext cx="164160" cy="925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3674520" y="45561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3409560" y="4393800"/>
                <a:ext cx="11520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3515400" y="44769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3307680" y="4326120"/>
                <a:ext cx="111240" cy="7956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3409560" y="43938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3241080" y="426060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3307680" y="4326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3160080" y="4260600"/>
                <a:ext cx="8892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3241080" y="42588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3110760" y="4286880"/>
                <a:ext cx="58320" cy="7740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3156120" y="428544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3110760" y="4360320"/>
                <a:ext cx="2628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3110760" y="4356360"/>
                <a:ext cx="1512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3123720" y="44546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3122280" y="4454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3201480" y="4546440"/>
                <a:ext cx="13068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3200040" y="4546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3324240" y="4622040"/>
                <a:ext cx="14760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3324240" y="4622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3464640" y="4714200"/>
                <a:ext cx="17748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3464640" y="47142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3636720" y="4812120"/>
                <a:ext cx="16092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3634920" y="48121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3794040" y="4859280"/>
                <a:ext cx="1890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3794040" y="485928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3977640" y="4887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3164040" y="4273560"/>
                <a:ext cx="900000" cy="604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4040280" y="4787640"/>
                <a:ext cx="295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4045680" y="4718160"/>
                <a:ext cx="2412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4056840" y="4787640"/>
                <a:ext cx="126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4005720" y="466524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4045680" y="471636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3863520" y="4633200"/>
                <a:ext cx="149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3727440" y="4591800"/>
                <a:ext cx="1400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3862080" y="4633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3570480" y="4529520"/>
                <a:ext cx="16452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3727440" y="4591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3434400" y="4440960"/>
                <a:ext cx="14364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356832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3345120" y="437148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3434400" y="4440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3264120" y="42908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3345120" y="4371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3201480" y="4267800"/>
                <a:ext cx="698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3264120" y="4290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3158280" y="4270320"/>
                <a:ext cx="5292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3200040" y="42663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3156120" y="432072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3154320" y="43207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3197520" y="4375440"/>
                <a:ext cx="8496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3192120" y="437544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3275640" y="439380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3275640" y="4392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3350880" y="4458240"/>
                <a:ext cx="9828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3350880" y="4458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3441600" y="4529520"/>
                <a:ext cx="11736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343980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3551400" y="4580640"/>
                <a:ext cx="15552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3551400" y="4580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3700800" y="464292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3699360" y="46429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3827520" y="4690080"/>
                <a:ext cx="11520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3827520" y="4690080"/>
                <a:ext cx="396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3937320" y="4727520"/>
                <a:ext cx="6624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3937320" y="47253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3980880" y="4770720"/>
                <a:ext cx="2628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3992760" y="4766760"/>
                <a:ext cx="1440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3980880" y="4825080"/>
                <a:ext cx="205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3980880" y="4823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3992760" y="4851360"/>
                <a:ext cx="5616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3987000" y="48704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4040280" y="48513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3746520" y="484812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3638880" y="4842000"/>
                <a:ext cx="11304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3746520" y="4848120"/>
                <a:ext cx="540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3536280" y="4777920"/>
                <a:ext cx="10260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3636720" y="484812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3392640" y="4738680"/>
                <a:ext cx="149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3536280" y="47779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3345120" y="4654080"/>
                <a:ext cx="5688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3392640" y="4738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3205440" y="4554360"/>
                <a:ext cx="15300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3345120" y="46519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3070800" y="4354920"/>
                <a:ext cx="14724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3205440" y="455436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3967920" y="4695480"/>
                <a:ext cx="8100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3182400" y="4290840"/>
                <a:ext cx="10404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3175200" y="4282920"/>
                <a:ext cx="3600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3207240" y="428292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3205440" y="4282920"/>
                <a:ext cx="540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3256200" y="4328280"/>
                <a:ext cx="3744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3271680" y="4328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3182400" y="4349160"/>
                <a:ext cx="792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3256200" y="4385160"/>
                <a:ext cx="756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3182400" y="43491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16" name=""/>
          <p:cNvGrpSpPr/>
          <p:nvPr/>
        </p:nvGrpSpPr>
        <p:grpSpPr>
          <a:xfrm>
            <a:off x="2556000" y="4508640"/>
            <a:ext cx="1158840" cy="733320"/>
            <a:chOff x="2556000" y="4508640"/>
            <a:chExt cx="1158840" cy="733320"/>
          </a:xfrm>
        </p:grpSpPr>
        <p:sp>
          <p:nvSpPr>
            <p:cNvPr id="8717" name=""/>
            <p:cNvSpPr/>
            <p:nvPr/>
          </p:nvSpPr>
          <p:spPr>
            <a:xfrm>
              <a:off x="2611440" y="4825800"/>
              <a:ext cx="1440" cy="1332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738880" y="4605840"/>
              <a:ext cx="148320" cy="7668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2879280" y="4605840"/>
              <a:ext cx="7920" cy="12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2617200" y="4671000"/>
              <a:ext cx="127080" cy="2952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2738880" y="467100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2617200" y="4687920"/>
              <a:ext cx="3600" cy="1224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2569320" y="4529520"/>
              <a:ext cx="3960" cy="140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2626560" y="451044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2562120" y="469152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6" name=""/>
            <p:cNvSpPr/>
            <p:nvPr/>
          </p:nvSpPr>
          <p:spPr>
            <a:xfrm>
              <a:off x="2556000" y="456804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2710080" y="4515480"/>
              <a:ext cx="72360" cy="381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2710080" y="4539960"/>
              <a:ext cx="756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2775240" y="451548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2835720" y="4625280"/>
              <a:ext cx="95040" cy="9432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2925000" y="4625280"/>
              <a:ext cx="576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2771280" y="4707000"/>
              <a:ext cx="74160" cy="1908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2835720" y="470700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2702520" y="4707000"/>
              <a:ext cx="70200" cy="5904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2766960" y="4707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2620800" y="4746960"/>
              <a:ext cx="85320" cy="2268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2702520" y="4754520"/>
              <a:ext cx="576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2565360" y="4514040"/>
              <a:ext cx="1143000" cy="721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3299760" y="5186520"/>
              <a:ext cx="95040" cy="4500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3389040" y="5217840"/>
              <a:ext cx="119880" cy="2412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3387600" y="521784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3506760" y="5194800"/>
              <a:ext cx="110160" cy="471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3506760" y="5227920"/>
              <a:ext cx="396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3610080" y="5142960"/>
              <a:ext cx="70200" cy="640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3610080" y="519480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3668760" y="5079960"/>
              <a:ext cx="45720" cy="709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3668760" y="5142960"/>
              <a:ext cx="12960" cy="100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3695760" y="4975200"/>
              <a:ext cx="19080" cy="1080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3701160" y="5079960"/>
              <a:ext cx="13320" cy="64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3627000" y="4891680"/>
              <a:ext cx="81360" cy="885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3695760" y="4972320"/>
              <a:ext cx="12960" cy="82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3541320" y="4869000"/>
              <a:ext cx="92520" cy="3312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3627000" y="4890240"/>
              <a:ext cx="11160" cy="118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3429360" y="4841640"/>
              <a:ext cx="117720" cy="3960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3541320" y="4869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3322800" y="4809960"/>
              <a:ext cx="111960" cy="4320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3429360" y="48416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3212280" y="4771440"/>
              <a:ext cx="115920" cy="5076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3322800" y="480996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3126960" y="4722840"/>
              <a:ext cx="92520" cy="5940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3210840" y="4771440"/>
              <a:ext cx="8640" cy="122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3056400" y="4681080"/>
              <a:ext cx="79560" cy="522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3126960" y="4722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2968920" y="4627080"/>
              <a:ext cx="96840" cy="6408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3056400" y="4681080"/>
              <a:ext cx="900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2898720" y="4563000"/>
              <a:ext cx="79560" cy="7452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2968920" y="4627080"/>
              <a:ext cx="9360" cy="10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2839680" y="4519440"/>
              <a:ext cx="68400" cy="540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2898720" y="45630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2751840" y="4508640"/>
              <a:ext cx="93240" cy="2268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2839680" y="4519440"/>
              <a:ext cx="9360" cy="118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2670120" y="4508640"/>
              <a:ext cx="85320" cy="4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2748600" y="4508640"/>
              <a:ext cx="7200" cy="12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2580840" y="4539960"/>
              <a:ext cx="96840" cy="795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2668680" y="4539960"/>
              <a:ext cx="8640" cy="118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2558160" y="4613040"/>
              <a:ext cx="36000" cy="8496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2579040" y="4609800"/>
              <a:ext cx="15120" cy="100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2558160" y="4696560"/>
              <a:ext cx="47520" cy="8712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2558160" y="469656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2592000" y="4778640"/>
              <a:ext cx="87480" cy="90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2590200" y="477864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2668680" y="4858560"/>
              <a:ext cx="121680" cy="90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2668680" y="4858560"/>
              <a:ext cx="11160" cy="10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2780640" y="4939200"/>
              <a:ext cx="115920" cy="8496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2780640" y="49392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2889000" y="5013720"/>
              <a:ext cx="131400" cy="8712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2887200" y="50137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3012480" y="5088960"/>
              <a:ext cx="153720" cy="6588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3012480" y="5088960"/>
              <a:ext cx="756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160800" y="5140800"/>
              <a:ext cx="144720" cy="5760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3159360" y="514080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3299760" y="5184360"/>
              <a:ext cx="79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2687400" y="4550400"/>
              <a:ext cx="950760" cy="58140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3551040" y="5067720"/>
              <a:ext cx="85320" cy="698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3625200" y="4987800"/>
              <a:ext cx="18360" cy="8496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625200" y="5067720"/>
              <a:ext cx="12960" cy="104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579480" y="4919760"/>
              <a:ext cx="64440" cy="727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630960" y="4984200"/>
              <a:ext cx="12960" cy="8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412440" y="4869000"/>
              <a:ext cx="174600" cy="6120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579480" y="491760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3246480" y="4818600"/>
              <a:ext cx="171360" cy="6264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3412440" y="4869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3088800" y="4745520"/>
              <a:ext cx="165240" cy="8532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3246480" y="4818600"/>
              <a:ext cx="7560" cy="12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2980080" y="4668840"/>
              <a:ext cx="115920" cy="8712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086640" y="47455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2877480" y="4605840"/>
              <a:ext cx="111960" cy="734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2980080" y="4668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2810880" y="4545360"/>
              <a:ext cx="76320" cy="712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2877480" y="4605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2729160" y="4545360"/>
              <a:ext cx="89280" cy="345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2810880" y="454392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2679840" y="4569480"/>
              <a:ext cx="58680" cy="716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2725200" y="4568040"/>
              <a:ext cx="13320" cy="118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2679840" y="4637520"/>
              <a:ext cx="26280" cy="9216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2679840" y="4633920"/>
              <a:ext cx="15120" cy="720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2692800" y="4725000"/>
              <a:ext cx="87840" cy="9540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2691360" y="472500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2771280" y="4809960"/>
              <a:ext cx="131400" cy="8172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2769480" y="480996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2894400" y="4879800"/>
              <a:ext cx="148320" cy="9720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2894400" y="487980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3035520" y="4965120"/>
              <a:ext cx="178200" cy="1047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3035520" y="4965120"/>
              <a:ext cx="7200" cy="12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3208320" y="5055840"/>
              <a:ext cx="161640" cy="5724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3206880" y="505584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3366360" y="5099400"/>
              <a:ext cx="190080" cy="3996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3366360" y="5099400"/>
              <a:ext cx="360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3551040" y="512532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2733120" y="4557240"/>
              <a:ext cx="905040" cy="5590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3614040" y="5032800"/>
              <a:ext cx="29880" cy="694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619800" y="4968720"/>
              <a:ext cx="24120" cy="6768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3630960" y="5032800"/>
              <a:ext cx="12960" cy="50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3579480" y="4919760"/>
              <a:ext cx="52920" cy="550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3619800" y="4966920"/>
              <a:ext cx="12960" cy="7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3436560" y="4890240"/>
              <a:ext cx="150480" cy="3996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3579480" y="491760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3299760" y="4851720"/>
              <a:ext cx="140760" cy="5004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3435120" y="48902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142080" y="4794120"/>
              <a:ext cx="165240" cy="694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3299760" y="485172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004920" y="4712400"/>
              <a:ext cx="144360" cy="9216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3139920" y="47941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2915640" y="4647960"/>
              <a:ext cx="99000" cy="7452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004920" y="47124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2833920" y="4573440"/>
              <a:ext cx="91080" cy="849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2915640" y="464796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2771280" y="4551840"/>
              <a:ext cx="70200" cy="331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2833920" y="4573440"/>
              <a:ext cx="9360" cy="118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2727360" y="4554000"/>
              <a:ext cx="53280" cy="5544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2769480" y="4550400"/>
              <a:ext cx="11160" cy="136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2725200" y="4600800"/>
              <a:ext cx="49680" cy="6084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2723760" y="460080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2766960" y="4651560"/>
              <a:ext cx="85320" cy="2952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2761560" y="4651560"/>
              <a:ext cx="13320" cy="13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2845440" y="4668840"/>
              <a:ext cx="85320" cy="698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2845440" y="466704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2921400" y="4728240"/>
              <a:ext cx="99000" cy="7632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2921400" y="4728240"/>
              <a:ext cx="9360" cy="10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3012480" y="4794120"/>
              <a:ext cx="118080" cy="5904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3010680" y="47941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3123000" y="4841640"/>
              <a:ext cx="156240" cy="709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3123000" y="484164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3273120" y="4899240"/>
              <a:ext cx="131400" cy="5688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271320" y="489924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3400560" y="4942800"/>
              <a:ext cx="115920" cy="4644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3400560" y="4942800"/>
              <a:ext cx="3960" cy="133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511080" y="4977360"/>
              <a:ext cx="66600" cy="4860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511080" y="4975200"/>
              <a:ext cx="79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3554640" y="5017320"/>
              <a:ext cx="26280" cy="5004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566520" y="5013720"/>
              <a:ext cx="14760" cy="122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554640" y="5067720"/>
              <a:ext cx="20880" cy="5076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554640" y="506628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3566520" y="5092200"/>
              <a:ext cx="56520" cy="313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3560760" y="5109840"/>
              <a:ext cx="14760" cy="169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3614040" y="5092200"/>
              <a:ext cx="12960" cy="13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318840" y="5088960"/>
              <a:ext cx="157680" cy="5004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3210840" y="5083200"/>
              <a:ext cx="113760" cy="1908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318840" y="508896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107520" y="5024160"/>
              <a:ext cx="102960" cy="7812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208320" y="5088960"/>
              <a:ext cx="2160" cy="1332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2963160" y="4987800"/>
              <a:ext cx="149760" cy="5004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107520" y="5024160"/>
              <a:ext cx="5400" cy="136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2915640" y="4909320"/>
              <a:ext cx="57240" cy="88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2963160" y="49878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2775240" y="4817160"/>
              <a:ext cx="153720" cy="9900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2915640" y="4907520"/>
              <a:ext cx="13320" cy="8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2639880" y="4632480"/>
              <a:ext cx="148320" cy="19116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775240" y="4817160"/>
              <a:ext cx="12960" cy="6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541320" y="4947840"/>
              <a:ext cx="81360" cy="12168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751840" y="4573440"/>
              <a:ext cx="104760" cy="9540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2744640" y="4565880"/>
              <a:ext cx="36000" cy="6768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2776680" y="4565880"/>
              <a:ext cx="78120" cy="486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2775240" y="4565880"/>
              <a:ext cx="5400" cy="154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2826000" y="4608000"/>
              <a:ext cx="37800" cy="6588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2841480" y="4608000"/>
              <a:ext cx="151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2751840" y="4627080"/>
              <a:ext cx="79560" cy="4860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2826000" y="4660560"/>
              <a:ext cx="7560" cy="154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2751840" y="4627080"/>
              <a:ext cx="151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0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1" name=""/>
          <p:cNvSpPr/>
          <p:nvPr/>
        </p:nvSpPr>
        <p:spPr>
          <a:xfrm>
            <a:off x="-38160" y="0"/>
            <a:ext cx="60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went pop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other went b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79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7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7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9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0" dur="1230" fill="hold"/>
                                        <p:tgtEl>
                                          <p:spTgt spid="779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1" dur="1230"/>
                                        <p:tgtEl>
                                          <p:spTgt spid="7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7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73" dur="1230"/>
                                        <p:tgtEl>
                                          <p:spTgt spid="7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7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1">
                                  <p:stCondLst>
                                    <p:cond delay="1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71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9" dur="1230" fill="hold"/>
                                        <p:tgtEl>
                                          <p:spTgt spid="871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0" dur="1230"/>
                                        <p:tgtEl>
                                          <p:spTgt spid="8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2" dur="1230"/>
                                        <p:tgtEl>
                                          <p:spTgt spid="8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8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sp>
        <p:nvSpPr>
          <p:cNvPr id="8903" name=""/>
          <p:cNvSpPr/>
          <p:nvPr/>
        </p:nvSpPr>
        <p:spPr>
          <a:xfrm>
            <a:off x="-114840" y="18720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f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usages sizzling in a 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4" name=""/>
          <p:cNvGrpSpPr/>
          <p:nvPr/>
        </p:nvGrpSpPr>
        <p:grpSpPr>
          <a:xfrm>
            <a:off x="826920" y="3789360"/>
            <a:ext cx="3529080" cy="1452600"/>
            <a:chOff x="826920" y="3789360"/>
            <a:chExt cx="3529080" cy="1452600"/>
          </a:xfrm>
        </p:grpSpPr>
        <p:grpSp>
          <p:nvGrpSpPr>
            <p:cNvPr id="8905" name=""/>
            <p:cNvGrpSpPr/>
            <p:nvPr/>
          </p:nvGrpSpPr>
          <p:grpSpPr>
            <a:xfrm>
              <a:off x="3059280" y="3789360"/>
              <a:ext cx="1296720" cy="660240"/>
              <a:chOff x="3059280" y="3789360"/>
              <a:chExt cx="1296720" cy="660240"/>
            </a:xfrm>
          </p:grpSpPr>
          <p:sp>
            <p:nvSpPr>
              <p:cNvPr id="8906" name=""/>
              <p:cNvSpPr/>
              <p:nvPr/>
            </p:nvSpPr>
            <p:spPr>
              <a:xfrm>
                <a:off x="312120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3263760" y="3876840"/>
                <a:ext cx="165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3421080" y="3876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3127680" y="393552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3263760" y="393552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3127680" y="39506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3074400" y="3808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3138480" y="3791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3066120" y="3953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3059280" y="384300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3231720" y="379548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3231720" y="38178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3304440" y="379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3372480" y="3894120"/>
                <a:ext cx="10620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3472200" y="38941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3300120" y="3968280"/>
                <a:ext cx="8280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3372480" y="39682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3223080" y="3968280"/>
                <a:ext cx="7848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3295440" y="39682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3132000" y="4003920"/>
                <a:ext cx="954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3223080" y="4010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3069720" y="3794400"/>
                <a:ext cx="127908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3891240" y="439956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3991680" y="4427640"/>
                <a:ext cx="13428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3989520" y="4427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4123440" y="4407120"/>
                <a:ext cx="12348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4123440" y="4437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4238640" y="436032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4238640" y="44071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4304520" y="430380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4304520" y="436032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4334400" y="4209480"/>
                <a:ext cx="2124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4340880" y="4303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4257720" y="4134240"/>
                <a:ext cx="9108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4334400" y="420660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4161960" y="4113720"/>
                <a:ext cx="10368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4257720" y="413280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4036680" y="4089240"/>
                <a:ext cx="1317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416196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3917520" y="4060440"/>
                <a:ext cx="12528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4036680" y="40892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3793680" y="4025880"/>
                <a:ext cx="1296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3917520" y="40604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3697920" y="3981960"/>
                <a:ext cx="10368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3791880" y="4025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3619440" y="3944520"/>
                <a:ext cx="8928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3697920" y="39819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3521160" y="3895920"/>
                <a:ext cx="10836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3619440" y="394452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3442680" y="3838320"/>
                <a:ext cx="8928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3521160" y="389592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3376800" y="3799080"/>
                <a:ext cx="7632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3442680" y="38383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3278520" y="378936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3376800" y="3799080"/>
                <a:ext cx="1044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3187080" y="3789360"/>
                <a:ext cx="954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3274560" y="37893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3087000" y="3817800"/>
                <a:ext cx="10836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3185280" y="381780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3061800" y="3883320"/>
                <a:ext cx="4032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3085200" y="388044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3061800" y="3958560"/>
                <a:ext cx="5292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3061800" y="395856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3099600" y="4032360"/>
                <a:ext cx="979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3097800" y="40323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3185280" y="4104360"/>
                <a:ext cx="13608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3185280" y="41043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3310920" y="4176720"/>
                <a:ext cx="1296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3310920" y="41767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3431880" y="4244040"/>
                <a:ext cx="14688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3430080" y="424404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3570120" y="4311720"/>
                <a:ext cx="17208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3570120" y="43117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3736080" y="4358520"/>
                <a:ext cx="162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0" name=""/>
              <p:cNvSpPr/>
              <p:nvPr/>
            </p:nvSpPr>
            <p:spPr>
              <a:xfrm>
                <a:off x="3734280" y="4358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>
                <a:off x="3891240" y="43977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3206160" y="3827160"/>
                <a:ext cx="106416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4172760" y="429264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4255920" y="4220640"/>
                <a:ext cx="2052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4255920" y="42926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4204440" y="41598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4262040" y="4217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4017600" y="4113720"/>
                <a:ext cx="1954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3831840" y="4068360"/>
                <a:ext cx="1918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4017600" y="4113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3655440" y="4002480"/>
                <a:ext cx="18468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3831840" y="406836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3533760" y="3933360"/>
                <a:ext cx="1296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3652920" y="40024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3419280" y="3876840"/>
                <a:ext cx="12528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3533760" y="393336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3344400" y="3822480"/>
                <a:ext cx="8532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3419280" y="387684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3253320" y="3822480"/>
                <a:ext cx="9972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3344400" y="3821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3197880" y="3844440"/>
                <a:ext cx="658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3248640" y="384300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3197880" y="3905640"/>
                <a:ext cx="295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3197880" y="390204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3212640" y="3984120"/>
                <a:ext cx="982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3210480" y="39841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3300120" y="4060440"/>
                <a:ext cx="14688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3297960" y="4060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3438000" y="4123440"/>
                <a:ext cx="16596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3438000" y="41234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3596040" y="4200120"/>
                <a:ext cx="19944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3596040" y="42001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3789360" y="4281840"/>
                <a:ext cx="18108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3787560" y="42818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3966120" y="4321080"/>
                <a:ext cx="21276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3966120" y="4321080"/>
                <a:ext cx="396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4172760" y="434448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3257640" y="3832920"/>
                <a:ext cx="101268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4243320" y="42613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4249440" y="4203360"/>
                <a:ext cx="2700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4262040" y="4261320"/>
                <a:ext cx="1440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4204440" y="41598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4249440" y="4202280"/>
                <a:ext cx="1440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4044600" y="4132800"/>
                <a:ext cx="16848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4204440" y="4157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3891240" y="4098240"/>
                <a:ext cx="15768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4042800" y="4132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3715200" y="4046400"/>
                <a:ext cx="18504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3891240" y="4098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3561840" y="3972600"/>
                <a:ext cx="161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371268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3461400" y="391464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3561840" y="397260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3370320" y="3847680"/>
                <a:ext cx="10188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3461400" y="391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3300120" y="3828240"/>
                <a:ext cx="7848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3370320" y="3847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3251160" y="3830400"/>
                <a:ext cx="5940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3297960" y="38271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3248640" y="3872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3246840" y="38721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3295440" y="3918240"/>
                <a:ext cx="954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3289320" y="391824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3382920" y="3933360"/>
                <a:ext cx="954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3382920" y="39319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3467880" y="3987000"/>
                <a:ext cx="11052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3467880" y="398700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3570120" y="4046400"/>
                <a:ext cx="13212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3567960" y="404640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3693600" y="4089240"/>
                <a:ext cx="17496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3693600" y="40892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3861720" y="4140720"/>
                <a:ext cx="14688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3859560" y="4140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4004280" y="4180320"/>
                <a:ext cx="1296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4004280" y="418032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4127760" y="4211280"/>
                <a:ext cx="7452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4127760" y="42094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4176720" y="4247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4190040" y="424404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4176720" y="4292640"/>
                <a:ext cx="2340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4176720" y="429120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4190040" y="4314600"/>
                <a:ext cx="6336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4183560" y="433044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4243320" y="43146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3912840" y="4311720"/>
                <a:ext cx="17676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3791880" y="4306680"/>
                <a:ext cx="1270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3912840" y="431172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3676320" y="425340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378936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3515040" y="4220640"/>
                <a:ext cx="16776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3676320" y="425340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3461400" y="415008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3515040" y="4220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3304440" y="4066920"/>
                <a:ext cx="17208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3461400" y="41482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3152880" y="3900960"/>
                <a:ext cx="165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3304440" y="4066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4161960" y="4185000"/>
                <a:ext cx="9108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3278520" y="3847680"/>
                <a:ext cx="11700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3270240" y="3840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3306240" y="3840840"/>
                <a:ext cx="8748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3304440" y="384084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3361680" y="387864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3378600" y="38786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3278520" y="389592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3361680" y="392616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3278520" y="389592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9" name=""/>
            <p:cNvGrpSpPr/>
            <p:nvPr/>
          </p:nvGrpSpPr>
          <p:grpSpPr>
            <a:xfrm>
              <a:off x="826920" y="3789360"/>
              <a:ext cx="1368720" cy="660240"/>
              <a:chOff x="826920" y="3789360"/>
              <a:chExt cx="1368720" cy="660240"/>
            </a:xfrm>
          </p:grpSpPr>
          <p:sp>
            <p:nvSpPr>
              <p:cNvPr id="9090" name=""/>
              <p:cNvSpPr/>
              <p:nvPr/>
            </p:nvSpPr>
            <p:spPr>
              <a:xfrm>
                <a:off x="892440" y="407484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1042920" y="3876840"/>
                <a:ext cx="174960" cy="6876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1208880" y="3876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899280" y="3935520"/>
                <a:ext cx="150480" cy="262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1042920" y="39355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899280" y="3950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842760" y="38080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910440" y="3791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834120" y="395388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826920" y="3843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1008720" y="379548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1008720" y="38178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1085760" y="379548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1157400" y="3894120"/>
                <a:ext cx="112320" cy="8460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1262880" y="38941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1081080" y="396828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1157400" y="3968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1000080" y="396828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1076400" y="3968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903600" y="4003920"/>
                <a:ext cx="100800" cy="2052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1000080" y="40107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838080" y="3794400"/>
                <a:ext cx="1350000" cy="649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1705320" y="4399560"/>
                <a:ext cx="112320" cy="4032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1810800" y="4427640"/>
                <a:ext cx="141840" cy="2160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1809000" y="44276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1950120" y="4407120"/>
                <a:ext cx="130320" cy="421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1950120" y="44370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2071800" y="4360320"/>
                <a:ext cx="82800" cy="576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2071800" y="440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2141280" y="430380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2141280" y="436032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2172960" y="4209480"/>
                <a:ext cx="22680" cy="972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2179440" y="430380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2091960" y="4134240"/>
                <a:ext cx="96120" cy="7992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2172960" y="420660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1990800" y="4113720"/>
                <a:ext cx="109440" cy="2988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2091960" y="413280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1858320" y="4089240"/>
                <a:ext cx="138960" cy="356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199080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1732680" y="4060440"/>
                <a:ext cx="132120" cy="3888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1858320" y="408924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1602000" y="4025880"/>
                <a:ext cx="136800" cy="45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1732680" y="4060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1501200" y="398196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1600200" y="40258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1418040" y="3944520"/>
                <a:ext cx="94320" cy="468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1501200" y="3981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1314360" y="3895920"/>
                <a:ext cx="114120" cy="5760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1418040" y="39445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1231560" y="383832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1314360" y="38959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1162080" y="3799080"/>
                <a:ext cx="80640" cy="486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1231560" y="38383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1058400" y="3789360"/>
                <a:ext cx="110160" cy="2052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1162080" y="37990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961920" y="3789360"/>
                <a:ext cx="100800" cy="3888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1054440" y="37893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856080" y="381780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960120" y="38178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829440" y="388332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854280" y="3880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829440" y="3958560"/>
                <a:ext cx="55800" cy="7848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829440" y="395856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869760" y="403236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867600" y="40323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960120" y="4104360"/>
                <a:ext cx="143640" cy="81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960120" y="410436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1092240" y="4176720"/>
                <a:ext cx="136800" cy="7632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1092240" y="41767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1220040" y="424404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1218240" y="4244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1366200" y="4311720"/>
                <a:ext cx="181800" cy="5904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1366200" y="43117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1541160" y="4358520"/>
                <a:ext cx="171000" cy="5184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1539360" y="4358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1705320" y="4397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982080" y="3827160"/>
                <a:ext cx="1123200" cy="52344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2002320" y="429264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2089800" y="4220640"/>
                <a:ext cx="21960" cy="7632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2089800" y="4292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2035800" y="4159800"/>
                <a:ext cx="75960" cy="655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2096640" y="421740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1838520" y="4113720"/>
                <a:ext cx="206280" cy="550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1642320" y="4068360"/>
                <a:ext cx="202680" cy="5616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1838520" y="4113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1456200" y="4002480"/>
                <a:ext cx="195120" cy="7704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1642320" y="4068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1327680" y="3933360"/>
                <a:ext cx="136800" cy="7848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1453680" y="4002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1206720" y="3876840"/>
                <a:ext cx="132120" cy="662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1" name=""/>
              <p:cNvSpPr/>
              <p:nvPr/>
            </p:nvSpPr>
            <p:spPr>
              <a:xfrm>
                <a:off x="1327680" y="39333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>
                <a:off x="1127880" y="3822480"/>
                <a:ext cx="90000" cy="640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1206720" y="38768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1031400" y="3822480"/>
                <a:ext cx="105480" cy="309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1127880" y="38210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973440" y="3844440"/>
                <a:ext cx="69480" cy="644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1026720" y="3843000"/>
                <a:ext cx="15840" cy="10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973440" y="390564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973440" y="390204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988560" y="3984120"/>
                <a:ext cx="103680" cy="8568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986760" y="398412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1081080" y="4060440"/>
                <a:ext cx="155160" cy="7344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1078920" y="40604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1226880" y="4123440"/>
                <a:ext cx="175320" cy="8748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1226880" y="4123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1393560" y="4200120"/>
                <a:ext cx="210600" cy="9432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1393560" y="42001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1597320" y="4281840"/>
                <a:ext cx="191160" cy="5148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1595520" y="4281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1784160" y="4321080"/>
                <a:ext cx="224640" cy="360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1784160" y="4321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2002320" y="4344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1036080" y="3832920"/>
                <a:ext cx="1068840" cy="5032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2076480" y="4261320"/>
                <a:ext cx="35280" cy="622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2083320" y="4203360"/>
                <a:ext cx="28440" cy="6120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2096640" y="426132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2035800" y="41598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2083320" y="4202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1866960" y="4132800"/>
                <a:ext cx="177840" cy="360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2035800" y="415764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1705320" y="4098240"/>
                <a:ext cx="166320" cy="4500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1865160" y="41328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1519200" y="4046400"/>
                <a:ext cx="195120" cy="622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1705320" y="409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1357200" y="397260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15166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1251720" y="3914640"/>
                <a:ext cx="117000" cy="6696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1357200" y="3972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1155240" y="3847680"/>
                <a:ext cx="107640" cy="7632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1251720" y="3914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1081080" y="3828240"/>
                <a:ext cx="82800" cy="295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1155240" y="3847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1029600" y="383040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1078920" y="382716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1026720" y="3872160"/>
                <a:ext cx="58680" cy="550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1024920" y="387216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1076400" y="3918240"/>
                <a:ext cx="100800" cy="262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1069560" y="39182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1168560" y="3933360"/>
                <a:ext cx="100800" cy="630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1168560" y="39319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1258200" y="3987000"/>
                <a:ext cx="116640" cy="6840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1258200" y="3987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1366200" y="4046400"/>
                <a:ext cx="139680" cy="5328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136404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1496520" y="4089240"/>
                <a:ext cx="184680" cy="637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1496520" y="4089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1673640" y="4140720"/>
                <a:ext cx="155160" cy="5112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1671840" y="4140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1824120" y="4180320"/>
                <a:ext cx="136800" cy="4176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1824120" y="418032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1954800" y="421128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1954800" y="42094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2006280" y="424728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2020320" y="42440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2006280" y="4292640"/>
                <a:ext cx="24480" cy="45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2006280" y="4291200"/>
                <a:ext cx="18000" cy="32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2020320" y="43146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2013480" y="433044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2076480" y="431460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1728000" y="4311720"/>
                <a:ext cx="186480" cy="4500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1600200" y="4306680"/>
                <a:ext cx="134280" cy="169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1728000" y="431172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1478520" y="4253400"/>
                <a:ext cx="121680" cy="702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1597320" y="4311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1307880" y="4220640"/>
                <a:ext cx="177120" cy="4500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1478520" y="42534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1251720" y="4150080"/>
                <a:ext cx="67320" cy="79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1307880" y="42206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1085760" y="4066920"/>
                <a:ext cx="181800" cy="8928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1251720" y="4148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925920" y="3900960"/>
                <a:ext cx="174960" cy="17208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1085760" y="4066920"/>
                <a:ext cx="15120" cy="61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1990800" y="4185000"/>
                <a:ext cx="96120" cy="10944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1058400" y="3847680"/>
                <a:ext cx="123480" cy="85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1049760" y="3840840"/>
                <a:ext cx="42480" cy="6120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1087560" y="384084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1085760" y="3840840"/>
                <a:ext cx="6480" cy="136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1145880" y="3878640"/>
                <a:ext cx="44640" cy="5904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1163880" y="38786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1058400" y="3895920"/>
                <a:ext cx="94320" cy="4392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1145880" y="39261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1058400" y="389592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3" name=""/>
            <p:cNvGrpSpPr/>
            <p:nvPr/>
          </p:nvGrpSpPr>
          <p:grpSpPr>
            <a:xfrm>
              <a:off x="2987640" y="4221000"/>
              <a:ext cx="1152720" cy="792360"/>
              <a:chOff x="2987640" y="4221000"/>
              <a:chExt cx="1152720" cy="792360"/>
            </a:xfrm>
          </p:grpSpPr>
          <p:sp>
            <p:nvSpPr>
              <p:cNvPr id="9274" name=""/>
              <p:cNvSpPr/>
              <p:nvPr/>
            </p:nvSpPr>
            <p:spPr>
              <a:xfrm>
                <a:off x="3042720" y="4563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3169440" y="4326120"/>
                <a:ext cx="147240" cy="8280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3309120" y="43261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3048480" y="4396320"/>
                <a:ext cx="126720" cy="3168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3169440" y="439632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3048480" y="441468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3000960" y="424368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3057840" y="42231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2993760" y="44186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2987640" y="428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3140640" y="422856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3140640" y="425484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3205440" y="4228560"/>
                <a:ext cx="7200" cy="1296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3265920" y="4347000"/>
                <a:ext cx="94680" cy="1018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3354840" y="434700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3201480" y="4435560"/>
                <a:ext cx="73800" cy="2052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3265920" y="44355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3133440" y="443556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3197520" y="44355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3052080" y="4478760"/>
                <a:ext cx="84960" cy="244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3133440" y="448668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2997000" y="4226760"/>
                <a:ext cx="1136880" cy="77904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3727440" y="4953240"/>
                <a:ext cx="94680" cy="486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3816360" y="4987080"/>
                <a:ext cx="119160" cy="2628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3814560" y="498708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3933360" y="4962600"/>
                <a:ext cx="109800" cy="507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3933360" y="4998240"/>
                <a:ext cx="396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4036320" y="4906440"/>
                <a:ext cx="69840" cy="694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4036320" y="49626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4094640" y="4838400"/>
                <a:ext cx="45720" cy="766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4094640" y="49064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4121280" y="4725360"/>
                <a:ext cx="19080" cy="1166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4127040" y="483840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4052880" y="4635000"/>
                <a:ext cx="81000" cy="957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4121280" y="47217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3967920" y="461016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4052880" y="4633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3856320" y="4580640"/>
                <a:ext cx="117000" cy="4284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396792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3750480" y="4546440"/>
                <a:ext cx="111240" cy="468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3856320" y="4580640"/>
                <a:ext cx="5400" cy="1260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3640680" y="4505040"/>
                <a:ext cx="115200" cy="5472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3750480" y="45464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3555360" y="4452480"/>
                <a:ext cx="92160" cy="6444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3638880" y="4505040"/>
                <a:ext cx="8640" cy="133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3485520" y="440748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3555360" y="4452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3398400" y="4349160"/>
                <a:ext cx="96120" cy="694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3485520" y="440748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3328200" y="4279680"/>
                <a:ext cx="79200" cy="8064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3398400" y="43491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3269880" y="4232520"/>
                <a:ext cx="68040" cy="5832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3328200" y="4279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3182400" y="4221000"/>
                <a:ext cx="92880" cy="244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3269880" y="4232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3101400" y="4221000"/>
                <a:ext cx="84960" cy="468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3179160" y="42210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3012120" y="425484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3099600" y="42548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2989800" y="4334040"/>
                <a:ext cx="36000" cy="9180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3010680" y="4330080"/>
                <a:ext cx="15120" cy="111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2989800" y="4424040"/>
                <a:ext cx="47160" cy="9396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2989800" y="442404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3023640" y="4512960"/>
                <a:ext cx="87120" cy="972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3021840" y="45129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3099600" y="4599000"/>
                <a:ext cx="120960" cy="979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3099600" y="4599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3211200" y="4686120"/>
                <a:ext cx="115200" cy="9180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3211200" y="4686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3318840" y="4766760"/>
                <a:ext cx="130680" cy="9396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3317040" y="47667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3441600" y="4848120"/>
                <a:ext cx="153000" cy="7092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3441600" y="48481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3589200" y="4903920"/>
                <a:ext cx="144000" cy="6228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3587760" y="49039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3727440" y="49510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3118320" y="4266360"/>
                <a:ext cx="945720" cy="6282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3977640" y="482508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4051440" y="4738680"/>
                <a:ext cx="18360" cy="9180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4051440" y="48250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4005720" y="4665240"/>
                <a:ext cx="64080" cy="7884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4056840" y="4734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3839400" y="4610160"/>
                <a:ext cx="173880" cy="6588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3674520" y="4556160"/>
                <a:ext cx="170640" cy="6768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3839400" y="46101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3517920" y="4476960"/>
                <a:ext cx="164160" cy="925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3674520" y="455616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3409560" y="4393800"/>
                <a:ext cx="115200" cy="9396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3515400" y="44769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3307680" y="4326120"/>
                <a:ext cx="111240" cy="7956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3409560" y="43938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3241080" y="426060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3307680" y="4326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3160080" y="4260600"/>
                <a:ext cx="88920" cy="3744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3241080" y="42588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3110760" y="4286880"/>
                <a:ext cx="58320" cy="7740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3156120" y="428544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3110760" y="4360320"/>
                <a:ext cx="26280" cy="9972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3110760" y="4356360"/>
                <a:ext cx="15120" cy="75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3123720" y="44546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3122280" y="445464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3201480" y="4546440"/>
                <a:ext cx="130680" cy="8820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3200040" y="454644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3324240" y="4622040"/>
                <a:ext cx="147600" cy="10512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3324240" y="4622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3464640" y="4714200"/>
                <a:ext cx="177480" cy="11304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3464640" y="47142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2" name=""/>
              <p:cNvSpPr/>
              <p:nvPr/>
            </p:nvSpPr>
            <p:spPr>
              <a:xfrm>
                <a:off x="3636720" y="4812120"/>
                <a:ext cx="160920" cy="6192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3" name=""/>
              <p:cNvSpPr/>
              <p:nvPr/>
            </p:nvSpPr>
            <p:spPr>
              <a:xfrm>
                <a:off x="3634920" y="48121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3794040" y="4859280"/>
                <a:ext cx="189000" cy="4320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3794040" y="485928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3977640" y="4887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3164040" y="4273560"/>
                <a:ext cx="900000" cy="604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4040280" y="4787640"/>
                <a:ext cx="29520" cy="748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4045680" y="4718160"/>
                <a:ext cx="24120" cy="7344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4056840" y="4787640"/>
                <a:ext cx="12600" cy="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4005720" y="466524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4045680" y="471636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3863520" y="4633200"/>
                <a:ext cx="149760" cy="4320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4005720" y="466308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3727440" y="4591800"/>
                <a:ext cx="140040" cy="5436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3862080" y="4633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3570480" y="4529520"/>
                <a:ext cx="164520" cy="748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3727440" y="4591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3434400" y="4440960"/>
                <a:ext cx="143640" cy="9972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356832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3345120" y="437148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3434400" y="4440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3264120" y="42908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3345120" y="4371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3201480" y="4267800"/>
                <a:ext cx="69840" cy="3564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3264120" y="4290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3158280" y="4270320"/>
                <a:ext cx="52920" cy="5976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3200040" y="42663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3156120" y="432072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3154320" y="43207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3197520" y="4375440"/>
                <a:ext cx="84960" cy="3168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3192120" y="437544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3275640" y="4393800"/>
                <a:ext cx="84960" cy="756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3275640" y="43923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3350880" y="4458240"/>
                <a:ext cx="98280" cy="8244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3350880" y="4458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3441600" y="4529520"/>
                <a:ext cx="117360" cy="6372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3439800" y="45295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3551400" y="4580640"/>
                <a:ext cx="155520" cy="7668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3551400" y="4580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3700800" y="464292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3699360" y="46429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3827520" y="4690080"/>
                <a:ext cx="115200" cy="500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3827520" y="4690080"/>
                <a:ext cx="396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3937320" y="4727520"/>
                <a:ext cx="66240" cy="5256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3937320" y="472536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3980880" y="4770720"/>
                <a:ext cx="26280" cy="5400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3992760" y="4766760"/>
                <a:ext cx="14400" cy="133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3980880" y="4825080"/>
                <a:ext cx="20520" cy="5472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3980880" y="4823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3992760" y="4851360"/>
                <a:ext cx="56160" cy="33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3987000" y="48704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4040280" y="48513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3746520" y="484812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3638880" y="4842000"/>
                <a:ext cx="113040" cy="2052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3746520" y="4848120"/>
                <a:ext cx="5400" cy="14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3536280" y="4777920"/>
                <a:ext cx="102600" cy="8460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3636720" y="484812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3392640" y="4738680"/>
                <a:ext cx="149040" cy="5436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3536280" y="477792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3345120" y="4654080"/>
                <a:ext cx="56880" cy="957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3392640" y="47386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3205440" y="4554360"/>
                <a:ext cx="153000" cy="10692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3345120" y="46519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3070800" y="4354920"/>
                <a:ext cx="147240" cy="20664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3205440" y="455436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3967920" y="4695480"/>
                <a:ext cx="81000" cy="13140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3182400" y="4290840"/>
                <a:ext cx="104040" cy="102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3175200" y="4282920"/>
                <a:ext cx="36000" cy="7344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3207240" y="428292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3205440" y="4282920"/>
                <a:ext cx="5400" cy="165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3256200" y="4328280"/>
                <a:ext cx="37440" cy="7092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3271680" y="432828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3182400" y="4349160"/>
                <a:ext cx="79200" cy="5256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3256200" y="4385160"/>
                <a:ext cx="7560" cy="165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3182400" y="434916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7" name=""/>
            <p:cNvGrpSpPr/>
            <p:nvPr/>
          </p:nvGrpSpPr>
          <p:grpSpPr>
            <a:xfrm>
              <a:off x="2556000" y="4508640"/>
              <a:ext cx="1158840" cy="733320"/>
              <a:chOff x="2556000" y="4508640"/>
              <a:chExt cx="1158840" cy="733320"/>
            </a:xfrm>
          </p:grpSpPr>
          <p:sp>
            <p:nvSpPr>
              <p:cNvPr id="9458" name=""/>
              <p:cNvSpPr/>
              <p:nvPr/>
            </p:nvSpPr>
            <p:spPr>
              <a:xfrm>
                <a:off x="2611440" y="4825800"/>
                <a:ext cx="1440" cy="133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6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2738880" y="460584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262" h="148">
                    <a:moveTo>
                      <a:pt x="262" y="24"/>
                    </a:moveTo>
                    <a:lnTo>
                      <a:pt x="248" y="0"/>
                    </a:lnTo>
                    <a:lnTo>
                      <a:pt x="0" y="125"/>
                    </a:lnTo>
                    <a:lnTo>
                      <a:pt x="13" y="148"/>
                    </a:lnTo>
                    <a:lnTo>
                      <a:pt x="262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2879280" y="46058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2617200" y="4671000"/>
                <a:ext cx="127080" cy="295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23"/>
                    </a:moveTo>
                    <a:lnTo>
                      <a:pt x="218" y="0"/>
                    </a:lnTo>
                    <a:lnTo>
                      <a:pt x="0" y="33"/>
                    </a:lnTo>
                    <a:lnTo>
                      <a:pt x="7" y="57"/>
                    </a:lnTo>
                    <a:lnTo>
                      <a:pt x="225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2738880" y="4671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2617200" y="468792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3" y="2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2569320" y="452952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2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2626560" y="451044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3"/>
                    </a:moveTo>
                    <a:lnTo>
                      <a:pt x="10" y="23"/>
                    </a:lnTo>
                    <a:lnTo>
                      <a:pt x="0" y="0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2562120" y="469152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3" y="27"/>
                    </a:moveTo>
                    <a:lnTo>
                      <a:pt x="13" y="3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2556000" y="45680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3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2710080" y="4515480"/>
                <a:ext cx="72360" cy="38160"/>
              </a:xfrm>
              <a:custGeom>
                <a:avLst/>
                <a:gdLst/>
                <a:ahLst/>
                <a:rect l="l" t="t" r="r" b="b"/>
                <a:pathLst>
                  <a:path w="128" h="74">
                    <a:moveTo>
                      <a:pt x="0" y="50"/>
                    </a:moveTo>
                    <a:lnTo>
                      <a:pt x="14" y="74"/>
                    </a:lnTo>
                    <a:lnTo>
                      <a:pt x="128" y="23"/>
                    </a:lnTo>
                    <a:lnTo>
                      <a:pt x="1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2710080" y="4539960"/>
                <a:ext cx="756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27"/>
                    </a:moveTo>
                    <a:lnTo>
                      <a:pt x="14" y="27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2775240" y="451548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0"/>
                    </a:moveTo>
                    <a:lnTo>
                      <a:pt x="10" y="23"/>
                    </a:lnTo>
                    <a:lnTo>
                      <a:pt x="13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2835720" y="4625280"/>
                <a:ext cx="95040" cy="9432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24"/>
                    </a:moveTo>
                    <a:lnTo>
                      <a:pt x="151" y="31"/>
                    </a:lnTo>
                    <a:lnTo>
                      <a:pt x="138" y="37"/>
                    </a:lnTo>
                    <a:lnTo>
                      <a:pt x="128" y="47"/>
                    </a:lnTo>
                    <a:lnTo>
                      <a:pt x="118" y="54"/>
                    </a:lnTo>
                    <a:lnTo>
                      <a:pt x="101" y="74"/>
                    </a:lnTo>
                    <a:lnTo>
                      <a:pt x="87" y="94"/>
                    </a:lnTo>
                    <a:lnTo>
                      <a:pt x="74" y="115"/>
                    </a:lnTo>
                    <a:lnTo>
                      <a:pt x="61" y="138"/>
                    </a:lnTo>
                    <a:lnTo>
                      <a:pt x="50" y="148"/>
                    </a:lnTo>
                    <a:lnTo>
                      <a:pt x="40" y="158"/>
                    </a:lnTo>
                    <a:lnTo>
                      <a:pt x="30" y="172"/>
                    </a:lnTo>
                    <a:lnTo>
                      <a:pt x="17" y="182"/>
                    </a:lnTo>
                    <a:lnTo>
                      <a:pt x="0" y="158"/>
                    </a:lnTo>
                    <a:lnTo>
                      <a:pt x="14" y="152"/>
                    </a:lnTo>
                    <a:lnTo>
                      <a:pt x="20" y="141"/>
                    </a:lnTo>
                    <a:lnTo>
                      <a:pt x="30" y="131"/>
                    </a:lnTo>
                    <a:lnTo>
                      <a:pt x="37" y="121"/>
                    </a:lnTo>
                    <a:lnTo>
                      <a:pt x="50" y="101"/>
                    </a:lnTo>
                    <a:lnTo>
                      <a:pt x="64" y="81"/>
                    </a:lnTo>
                    <a:lnTo>
                      <a:pt x="81" y="58"/>
                    </a:lnTo>
                    <a:lnTo>
                      <a:pt x="97" y="37"/>
                    </a:lnTo>
                    <a:lnTo>
                      <a:pt x="111" y="27"/>
                    </a:lnTo>
                    <a:lnTo>
                      <a:pt x="124" y="17"/>
                    </a:lnTo>
                    <a:lnTo>
                      <a:pt x="141" y="7"/>
                    </a:lnTo>
                    <a:lnTo>
                      <a:pt x="158" y="0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2925000" y="462528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0" y="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2771280" y="47070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4"/>
                    </a:moveTo>
                    <a:lnTo>
                      <a:pt x="121" y="27"/>
                    </a:lnTo>
                    <a:lnTo>
                      <a:pt x="111" y="30"/>
                    </a:lnTo>
                    <a:lnTo>
                      <a:pt x="91" y="37"/>
                    </a:lnTo>
                    <a:lnTo>
                      <a:pt x="74" y="37"/>
                    </a:lnTo>
                    <a:lnTo>
                      <a:pt x="54" y="34"/>
                    </a:lnTo>
                    <a:lnTo>
                      <a:pt x="20" y="27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4" y="10"/>
                    </a:lnTo>
                    <a:lnTo>
                      <a:pt x="87" y="10"/>
                    </a:lnTo>
                    <a:lnTo>
                      <a:pt x="104" y="7"/>
                    </a:lnTo>
                    <a:lnTo>
                      <a:pt x="107" y="4"/>
                    </a:lnTo>
                    <a:lnTo>
                      <a:pt x="114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2835720" y="4707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0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2702520" y="4707000"/>
                <a:ext cx="70200" cy="5904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4" y="24"/>
                    </a:moveTo>
                    <a:lnTo>
                      <a:pt x="121" y="24"/>
                    </a:lnTo>
                    <a:lnTo>
                      <a:pt x="118" y="27"/>
                    </a:lnTo>
                    <a:lnTo>
                      <a:pt x="104" y="37"/>
                    </a:lnTo>
                    <a:lnTo>
                      <a:pt x="91" y="47"/>
                    </a:lnTo>
                    <a:lnTo>
                      <a:pt x="77" y="64"/>
                    </a:lnTo>
                    <a:lnTo>
                      <a:pt x="44" y="94"/>
                    </a:lnTo>
                    <a:lnTo>
                      <a:pt x="27" y="108"/>
                    </a:lnTo>
                    <a:lnTo>
                      <a:pt x="10" y="114"/>
                    </a:lnTo>
                    <a:lnTo>
                      <a:pt x="0" y="91"/>
                    </a:lnTo>
                    <a:lnTo>
                      <a:pt x="13" y="84"/>
                    </a:lnTo>
                    <a:lnTo>
                      <a:pt x="27" y="74"/>
                    </a:lnTo>
                    <a:lnTo>
                      <a:pt x="57" y="44"/>
                    </a:lnTo>
                    <a:lnTo>
                      <a:pt x="74" y="30"/>
                    </a:lnTo>
                    <a:lnTo>
                      <a:pt x="87" y="17"/>
                    </a:lnTo>
                    <a:lnTo>
                      <a:pt x="101" y="4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2766960" y="4707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7" y="0"/>
                    </a:moveTo>
                    <a:lnTo>
                      <a:pt x="0" y="0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2620800" y="4746960"/>
                <a:ext cx="85320" cy="22680"/>
              </a:xfrm>
              <a:custGeom>
                <a:avLst/>
                <a:gdLst/>
                <a:ahLst/>
                <a:rect l="l" t="t" r="r" b="b"/>
                <a:pathLst>
                  <a:path w="151" h="44">
                    <a:moveTo>
                      <a:pt x="151" y="37"/>
                    </a:moveTo>
                    <a:lnTo>
                      <a:pt x="131" y="44"/>
                    </a:lnTo>
                    <a:lnTo>
                      <a:pt x="107" y="44"/>
                    </a:lnTo>
                    <a:lnTo>
                      <a:pt x="87" y="41"/>
                    </a:lnTo>
                    <a:lnTo>
                      <a:pt x="70" y="37"/>
                    </a:lnTo>
                    <a:lnTo>
                      <a:pt x="50" y="34"/>
                    </a:lnTo>
                    <a:lnTo>
                      <a:pt x="37" y="31"/>
                    </a:lnTo>
                    <a:lnTo>
                      <a:pt x="20" y="27"/>
                    </a:lnTo>
                    <a:lnTo>
                      <a:pt x="3" y="27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0" y="4"/>
                    </a:lnTo>
                    <a:lnTo>
                      <a:pt x="57" y="7"/>
                    </a:lnTo>
                    <a:lnTo>
                      <a:pt x="74" y="14"/>
                    </a:lnTo>
                    <a:lnTo>
                      <a:pt x="94" y="17"/>
                    </a:lnTo>
                    <a:lnTo>
                      <a:pt x="107" y="17"/>
                    </a:lnTo>
                    <a:lnTo>
                      <a:pt x="124" y="17"/>
                    </a:lnTo>
                    <a:lnTo>
                      <a:pt x="147" y="14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2702520" y="475452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10" y="23"/>
                    </a:moveTo>
                    <a:lnTo>
                      <a:pt x="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2565360" y="4514040"/>
                <a:ext cx="1143000" cy="721080"/>
              </a:xfrm>
              <a:custGeom>
                <a:avLst/>
                <a:gdLst/>
                <a:ahLst/>
                <a:rect l="l" t="t" r="r" b="b"/>
                <a:pathLst>
                  <a:path w="2018" h="1390">
                    <a:moveTo>
                      <a:pt x="1303" y="1306"/>
                    </a:moveTo>
                    <a:lnTo>
                      <a:pt x="1458" y="1369"/>
                    </a:lnTo>
                    <a:lnTo>
                      <a:pt x="1666" y="1390"/>
                    </a:lnTo>
                    <a:lnTo>
                      <a:pt x="1854" y="1326"/>
                    </a:lnTo>
                    <a:lnTo>
                      <a:pt x="1961" y="1222"/>
                    </a:lnTo>
                    <a:lnTo>
                      <a:pt x="2018" y="1097"/>
                    </a:lnTo>
                    <a:lnTo>
                      <a:pt x="2008" y="889"/>
                    </a:lnTo>
                    <a:lnTo>
                      <a:pt x="1884" y="735"/>
                    </a:lnTo>
                    <a:lnTo>
                      <a:pt x="1730" y="695"/>
                    </a:lnTo>
                    <a:lnTo>
                      <a:pt x="1532" y="641"/>
                    </a:lnTo>
                    <a:lnTo>
                      <a:pt x="1343" y="580"/>
                    </a:lnTo>
                    <a:lnTo>
                      <a:pt x="1149" y="507"/>
                    </a:lnTo>
                    <a:lnTo>
                      <a:pt x="1001" y="413"/>
                    </a:lnTo>
                    <a:lnTo>
                      <a:pt x="877" y="332"/>
                    </a:lnTo>
                    <a:lnTo>
                      <a:pt x="722" y="228"/>
                    </a:lnTo>
                    <a:lnTo>
                      <a:pt x="598" y="104"/>
                    </a:lnTo>
                    <a:lnTo>
                      <a:pt x="494" y="20"/>
                    </a:lnTo>
                    <a:lnTo>
                      <a:pt x="329" y="0"/>
                    </a:lnTo>
                    <a:lnTo>
                      <a:pt x="192" y="60"/>
                    </a:lnTo>
                    <a:lnTo>
                      <a:pt x="37" y="194"/>
                    </a:lnTo>
                    <a:lnTo>
                      <a:pt x="0" y="355"/>
                    </a:lnTo>
                    <a:lnTo>
                      <a:pt x="57" y="517"/>
                    </a:lnTo>
                    <a:lnTo>
                      <a:pt x="192" y="674"/>
                    </a:lnTo>
                    <a:lnTo>
                      <a:pt x="390" y="829"/>
                    </a:lnTo>
                    <a:lnTo>
                      <a:pt x="578" y="973"/>
                    </a:lnTo>
                    <a:lnTo>
                      <a:pt x="796" y="1118"/>
                    </a:lnTo>
                    <a:lnTo>
                      <a:pt x="1055" y="1222"/>
                    </a:lnTo>
                    <a:lnTo>
                      <a:pt x="1303" y="1306"/>
                    </a:lnTo>
                    <a:close/>
                  </a:path>
                </a:pathLst>
              </a:custGeom>
              <a:solidFill>
                <a:srgbClr val="c0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3299760" y="5186520"/>
                <a:ext cx="95040" cy="4500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14" y="0"/>
                    </a:moveTo>
                    <a:lnTo>
                      <a:pt x="0" y="23"/>
                    </a:lnTo>
                    <a:lnTo>
                      <a:pt x="155" y="87"/>
                    </a:lnTo>
                    <a:lnTo>
                      <a:pt x="168" y="6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3389040" y="5217840"/>
                <a:ext cx="119880" cy="24120"/>
              </a:xfrm>
              <a:custGeom>
                <a:avLst/>
                <a:gdLst/>
                <a:ahLst/>
                <a:rect l="l" t="t" r="r" b="b"/>
                <a:pathLst>
                  <a:path w="212" h="47">
                    <a:moveTo>
                      <a:pt x="4" y="0"/>
                    </a:moveTo>
                    <a:lnTo>
                      <a:pt x="0" y="27"/>
                    </a:lnTo>
                    <a:lnTo>
                      <a:pt x="208" y="47"/>
                    </a:lnTo>
                    <a:lnTo>
                      <a:pt x="212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3387600" y="5217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3506760" y="5194800"/>
                <a:ext cx="110160" cy="471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0" y="64"/>
                    </a:moveTo>
                    <a:lnTo>
                      <a:pt x="7" y="91"/>
                    </a:lnTo>
                    <a:lnTo>
                      <a:pt x="195" y="27"/>
                    </a:lnTo>
                    <a:lnTo>
                      <a:pt x="18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3506760" y="522792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7" y="2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3610080" y="5142960"/>
                <a:ext cx="70200" cy="6408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04"/>
                    </a:moveTo>
                    <a:lnTo>
                      <a:pt x="17" y="124"/>
                    </a:lnTo>
                    <a:lnTo>
                      <a:pt x="124" y="20"/>
                    </a:lnTo>
                    <a:lnTo>
                      <a:pt x="107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3610080" y="51948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27"/>
                    </a:moveTo>
                    <a:lnTo>
                      <a:pt x="17" y="2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3668760" y="5079960"/>
                <a:ext cx="45720" cy="7092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0" y="124"/>
                    </a:moveTo>
                    <a:lnTo>
                      <a:pt x="23" y="137"/>
                    </a:lnTo>
                    <a:lnTo>
                      <a:pt x="81" y="13"/>
                    </a:lnTo>
                    <a:lnTo>
                      <a:pt x="57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3668760" y="514296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3695760" y="4975200"/>
                <a:ext cx="19080" cy="10800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0" y="208"/>
                    </a:moveTo>
                    <a:lnTo>
                      <a:pt x="34" y="2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3701160" y="507996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13"/>
                    </a:moveTo>
                    <a:lnTo>
                      <a:pt x="2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3627000" y="4891680"/>
                <a:ext cx="81360" cy="88560"/>
              </a:xfrm>
              <a:custGeom>
                <a:avLst/>
                <a:gdLst/>
                <a:ahLst/>
                <a:rect l="l" t="t" r="r" b="b"/>
                <a:pathLst>
                  <a:path w="144" h="171">
                    <a:moveTo>
                      <a:pt x="124" y="171"/>
                    </a:moveTo>
                    <a:lnTo>
                      <a:pt x="144" y="155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12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3695760" y="4972320"/>
                <a:ext cx="12960" cy="82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6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3541320" y="4869000"/>
                <a:ext cx="92520" cy="33120"/>
              </a:xfrm>
              <a:custGeom>
                <a:avLst/>
                <a:gdLst/>
                <a:ahLst/>
                <a:rect l="l" t="t" r="r" b="b"/>
                <a:pathLst>
                  <a:path w="164" h="64">
                    <a:moveTo>
                      <a:pt x="154" y="64"/>
                    </a:moveTo>
                    <a:lnTo>
                      <a:pt x="16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3627000" y="48902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3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3429360" y="484164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208" h="77">
                    <a:moveTo>
                      <a:pt x="198" y="77"/>
                    </a:moveTo>
                    <a:lnTo>
                      <a:pt x="208" y="5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19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354132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0"/>
                    </a:moveTo>
                    <a:lnTo>
                      <a:pt x="0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3322800" y="4809960"/>
                <a:ext cx="111960" cy="43200"/>
              </a:xfrm>
              <a:custGeom>
                <a:avLst/>
                <a:gdLst/>
                <a:ahLst/>
                <a:rect l="l" t="t" r="r" b="b"/>
                <a:pathLst>
                  <a:path w="198" h="84">
                    <a:moveTo>
                      <a:pt x="188" y="84"/>
                    </a:moveTo>
                    <a:lnTo>
                      <a:pt x="198" y="6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3429360" y="48416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3"/>
                    </a:moveTo>
                    <a:lnTo>
                      <a:pt x="1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3212280" y="477144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205" h="98">
                    <a:moveTo>
                      <a:pt x="195" y="98"/>
                    </a:moveTo>
                    <a:lnTo>
                      <a:pt x="205" y="7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3322800" y="480996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3126960" y="4722840"/>
                <a:ext cx="92520" cy="594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48" y="115"/>
                    </a:moveTo>
                    <a:lnTo>
                      <a:pt x="164" y="94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4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3210840" y="47714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3" y="24"/>
                    </a:moveTo>
                    <a:lnTo>
                      <a:pt x="0" y="2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3056400" y="4681080"/>
                <a:ext cx="79560" cy="52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24" y="101"/>
                    </a:moveTo>
                    <a:lnTo>
                      <a:pt x="141" y="80"/>
                    </a:lnTo>
                    <a:lnTo>
                      <a:pt x="16" y="0"/>
                    </a:lnTo>
                    <a:lnTo>
                      <a:pt x="0" y="20"/>
                    </a:lnTo>
                    <a:lnTo>
                      <a:pt x="12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3126960" y="4722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2968920" y="462708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171" h="124">
                    <a:moveTo>
                      <a:pt x="155" y="124"/>
                    </a:moveTo>
                    <a:lnTo>
                      <a:pt x="171" y="10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5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3056400" y="46810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0"/>
                    </a:move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2898720" y="456300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141" h="144">
                    <a:moveTo>
                      <a:pt x="124" y="144"/>
                    </a:moveTo>
                    <a:lnTo>
                      <a:pt x="141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2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2968920" y="462708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2839680" y="451944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04" y="104"/>
                    </a:moveTo>
                    <a:lnTo>
                      <a:pt x="121" y="8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2898720" y="45630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2751840" y="4508640"/>
                <a:ext cx="93240" cy="22680"/>
              </a:xfrm>
              <a:custGeom>
                <a:avLst/>
                <a:gdLst/>
                <a:ahLst/>
                <a:rect l="l" t="t" r="r" b="b"/>
                <a:pathLst>
                  <a:path w="165" h="44">
                    <a:moveTo>
                      <a:pt x="165" y="44"/>
                    </a:moveTo>
                    <a:lnTo>
                      <a:pt x="165" y="2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2839680" y="4519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2670120" y="4508640"/>
                <a:ext cx="85320" cy="43200"/>
              </a:xfrm>
              <a:custGeom>
                <a:avLst/>
                <a:gdLst/>
                <a:ahLst/>
                <a:rect l="l" t="t" r="r" b="b"/>
                <a:pathLst>
                  <a:path w="151" h="84">
                    <a:moveTo>
                      <a:pt x="151" y="24"/>
                    </a:moveTo>
                    <a:lnTo>
                      <a:pt x="138" y="0"/>
                    </a:lnTo>
                    <a:lnTo>
                      <a:pt x="0" y="61"/>
                    </a:lnTo>
                    <a:lnTo>
                      <a:pt x="13" y="84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2748600" y="45086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6" y="0"/>
                    </a:moveTo>
                    <a:lnTo>
                      <a:pt x="0" y="0"/>
                    </a:lnTo>
                    <a:lnTo>
                      <a:pt x="13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2580840" y="453996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171" h="154">
                    <a:moveTo>
                      <a:pt x="171" y="20"/>
                    </a:moveTo>
                    <a:lnTo>
                      <a:pt x="155" y="0"/>
                    </a:lnTo>
                    <a:lnTo>
                      <a:pt x="0" y="134"/>
                    </a:lnTo>
                    <a:lnTo>
                      <a:pt x="17" y="154"/>
                    </a:lnTo>
                    <a:lnTo>
                      <a:pt x="1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2668680" y="453996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3" y="0"/>
                    </a:moveTo>
                    <a:lnTo>
                      <a:pt x="0" y="0"/>
                    </a:lnTo>
                    <a:lnTo>
                      <a:pt x="16" y="20"/>
                    </a:lnTo>
                    <a:lnTo>
                      <a:pt x="16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2558160" y="4613040"/>
                <a:ext cx="36000" cy="84960"/>
              </a:xfrm>
              <a:custGeom>
                <a:avLst/>
                <a:gdLst/>
                <a:ahLst/>
                <a:rect l="l" t="t" r="r" b="b"/>
                <a:pathLst>
                  <a:path w="64" h="164">
                    <a:moveTo>
                      <a:pt x="64" y="3"/>
                    </a:moveTo>
                    <a:lnTo>
                      <a:pt x="37" y="0"/>
                    </a:lnTo>
                    <a:lnTo>
                      <a:pt x="0" y="161"/>
                    </a:lnTo>
                    <a:lnTo>
                      <a:pt x="27" y="164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2579040" y="46098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3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7" y="10"/>
                    </a:lnTo>
                    <a:lnTo>
                      <a:pt x="20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2558160" y="469656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84" h="168">
                    <a:moveTo>
                      <a:pt x="27" y="0"/>
                    </a:moveTo>
                    <a:lnTo>
                      <a:pt x="0" y="7"/>
                    </a:lnTo>
                    <a:lnTo>
                      <a:pt x="57" y="168"/>
                    </a:lnTo>
                    <a:lnTo>
                      <a:pt x="84" y="16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2558160" y="469656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2592000" y="4778640"/>
                <a:ext cx="87480" cy="90000"/>
              </a:xfrm>
              <a:custGeom>
                <a:avLst/>
                <a:gdLst/>
                <a:ahLst/>
                <a:rect l="l" t="t" r="r" b="b"/>
                <a:pathLst>
                  <a:path w="155" h="17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74"/>
                    </a:lnTo>
                    <a:lnTo>
                      <a:pt x="155" y="1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2590200" y="47786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2668680" y="4858560"/>
                <a:ext cx="121680" cy="9072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16" y="0"/>
                    </a:moveTo>
                    <a:lnTo>
                      <a:pt x="0" y="20"/>
                    </a:lnTo>
                    <a:lnTo>
                      <a:pt x="198" y="175"/>
                    </a:lnTo>
                    <a:lnTo>
                      <a:pt x="215" y="1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2668680" y="48585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2780640" y="4939200"/>
                <a:ext cx="115920" cy="84960"/>
              </a:xfrm>
              <a:custGeom>
                <a:avLst/>
                <a:gdLst/>
                <a:ahLst/>
                <a:rect l="l" t="t" r="r" b="b"/>
                <a:pathLst>
                  <a:path w="205" h="164">
                    <a:moveTo>
                      <a:pt x="17" y="0"/>
                    </a:moveTo>
                    <a:lnTo>
                      <a:pt x="0" y="20"/>
                    </a:lnTo>
                    <a:lnTo>
                      <a:pt x="188" y="164"/>
                    </a:lnTo>
                    <a:lnTo>
                      <a:pt x="205" y="1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2780640" y="49392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2889000" y="5013720"/>
                <a:ext cx="131400" cy="87120"/>
              </a:xfrm>
              <a:custGeom>
                <a:avLst/>
                <a:gdLst/>
                <a:ahLst/>
                <a:rect l="l" t="t" r="r" b="b"/>
                <a:pathLst>
                  <a:path w="232" h="168">
                    <a:moveTo>
                      <a:pt x="14" y="0"/>
                    </a:moveTo>
                    <a:lnTo>
                      <a:pt x="0" y="24"/>
                    </a:lnTo>
                    <a:lnTo>
                      <a:pt x="218" y="168"/>
                    </a:lnTo>
                    <a:lnTo>
                      <a:pt x="232" y="14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2887200" y="50137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3012480" y="5088960"/>
                <a:ext cx="153720" cy="6588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14" y="0"/>
                    </a:moveTo>
                    <a:lnTo>
                      <a:pt x="0" y="23"/>
                    </a:lnTo>
                    <a:lnTo>
                      <a:pt x="259" y="127"/>
                    </a:lnTo>
                    <a:lnTo>
                      <a:pt x="272" y="10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3012480" y="508896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3160800" y="5140800"/>
                <a:ext cx="144720" cy="57600"/>
              </a:xfrm>
              <a:custGeom>
                <a:avLst/>
                <a:gdLst/>
                <a:ahLst/>
                <a:rect l="l" t="t" r="r" b="b"/>
                <a:pathLst>
                  <a:path w="25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49" y="111"/>
                    </a:lnTo>
                    <a:lnTo>
                      <a:pt x="25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3159360" y="51408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3299760" y="51843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1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2687400" y="4550400"/>
                <a:ext cx="950760" cy="581400"/>
              </a:xfrm>
              <a:custGeom>
                <a:avLst/>
                <a:gdLst/>
                <a:ahLst/>
                <a:rect l="l" t="t" r="r" b="b"/>
                <a:pathLst>
                  <a:path w="1679" h="1121">
                    <a:moveTo>
                      <a:pt x="1535" y="1121"/>
                    </a:moveTo>
                    <a:lnTo>
                      <a:pt x="1669" y="1007"/>
                    </a:lnTo>
                    <a:lnTo>
                      <a:pt x="1679" y="843"/>
                    </a:lnTo>
                    <a:lnTo>
                      <a:pt x="1585" y="719"/>
                    </a:lnTo>
                    <a:lnTo>
                      <a:pt x="1286" y="625"/>
                    </a:lnTo>
                    <a:lnTo>
                      <a:pt x="994" y="527"/>
                    </a:lnTo>
                    <a:lnTo>
                      <a:pt x="715" y="386"/>
                    </a:lnTo>
                    <a:lnTo>
                      <a:pt x="527" y="238"/>
                    </a:lnTo>
                    <a:lnTo>
                      <a:pt x="346" y="118"/>
                    </a:lnTo>
                    <a:lnTo>
                      <a:pt x="229" y="0"/>
                    </a:lnTo>
                    <a:lnTo>
                      <a:pt x="81" y="44"/>
                    </a:lnTo>
                    <a:lnTo>
                      <a:pt x="0" y="168"/>
                    </a:lnTo>
                    <a:lnTo>
                      <a:pt x="20" y="343"/>
                    </a:lnTo>
                    <a:lnTo>
                      <a:pt x="155" y="510"/>
                    </a:lnTo>
                    <a:lnTo>
                      <a:pt x="373" y="645"/>
                    </a:lnTo>
                    <a:lnTo>
                      <a:pt x="621" y="809"/>
                    </a:lnTo>
                    <a:lnTo>
                      <a:pt x="924" y="987"/>
                    </a:lnTo>
                    <a:lnTo>
                      <a:pt x="1202" y="1071"/>
                    </a:lnTo>
                    <a:lnTo>
                      <a:pt x="1535" y="1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3551040" y="506772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4"/>
                    </a:moveTo>
                    <a:lnTo>
                      <a:pt x="17" y="135"/>
                    </a:lnTo>
                    <a:lnTo>
                      <a:pt x="151" y="20"/>
                    </a:lnTo>
                    <a:lnTo>
                      <a:pt x="134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3625200" y="498780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33" h="164">
                    <a:moveTo>
                      <a:pt x="0" y="164"/>
                    </a:moveTo>
                    <a:lnTo>
                      <a:pt x="23" y="164"/>
                    </a:lnTo>
                    <a:lnTo>
                      <a:pt x="33" y="0"/>
                    </a:lnTo>
                    <a:lnTo>
                      <a:pt x="1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3625200" y="506772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0" y="20"/>
                    </a:moveTo>
                    <a:lnTo>
                      <a:pt x="23" y="17"/>
                    </a:lnTo>
                    <a:lnTo>
                      <a:pt x="23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3579480" y="491976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94" y="141"/>
                    </a:moveTo>
                    <a:lnTo>
                      <a:pt x="114" y="124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94" y="14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3630960" y="498420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7"/>
                    </a:moveTo>
                    <a:lnTo>
                      <a:pt x="23" y="0"/>
                    </a:lnTo>
                    <a:lnTo>
                      <a:pt x="3" y="17"/>
                    </a:lnTo>
                    <a:lnTo>
                      <a:pt x="0" y="7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3412440" y="4869000"/>
                <a:ext cx="174600" cy="61200"/>
              </a:xfrm>
              <a:custGeom>
                <a:avLst/>
                <a:gdLst/>
                <a:ahLst/>
                <a:rect l="l" t="t" r="r" b="b"/>
                <a:pathLst>
                  <a:path w="309" h="118">
                    <a:moveTo>
                      <a:pt x="298" y="118"/>
                    </a:moveTo>
                    <a:lnTo>
                      <a:pt x="309" y="94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298" y="1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4" y="0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3246480" y="4818600"/>
                <a:ext cx="171360" cy="62640"/>
              </a:xfrm>
              <a:custGeom>
                <a:avLst/>
                <a:gdLst/>
                <a:ahLst/>
                <a:rect l="l" t="t" r="r" b="b"/>
                <a:pathLst>
                  <a:path w="303" h="121">
                    <a:moveTo>
                      <a:pt x="293" y="121"/>
                    </a:moveTo>
                    <a:lnTo>
                      <a:pt x="303" y="97"/>
                    </a:lnTo>
                    <a:lnTo>
                      <a:pt x="11" y="0"/>
                    </a:lnTo>
                    <a:lnTo>
                      <a:pt x="0" y="24"/>
                    </a:lnTo>
                    <a:lnTo>
                      <a:pt x="293" y="1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3412440" y="486900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24"/>
                    </a:moveTo>
                    <a:lnTo>
                      <a:pt x="1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3088800" y="474552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292" h="165">
                    <a:moveTo>
                      <a:pt x="278" y="165"/>
                    </a:moveTo>
                    <a:lnTo>
                      <a:pt x="292" y="14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6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3246480" y="481860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2980080" y="4668840"/>
                <a:ext cx="115920" cy="87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188" y="168"/>
                    </a:moveTo>
                    <a:lnTo>
                      <a:pt x="205" y="148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8" y="16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3086640" y="47455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2877480" y="4605840"/>
                <a:ext cx="111960" cy="73440"/>
              </a:xfrm>
              <a:custGeom>
                <a:avLst/>
                <a:gdLst/>
                <a:ahLst/>
                <a:rect l="l" t="t" r="r" b="b"/>
                <a:pathLst>
                  <a:path w="198" h="142">
                    <a:moveTo>
                      <a:pt x="181" y="142"/>
                    </a:moveTo>
                    <a:lnTo>
                      <a:pt x="198" y="1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81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2980080" y="4668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2810880" y="45453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118" y="138"/>
                    </a:moveTo>
                    <a:lnTo>
                      <a:pt x="135" y="117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18" y="13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2877480" y="460584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1"/>
                    </a:moveTo>
                    <a:lnTo>
                      <a:pt x="1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2729160" y="4545360"/>
                <a:ext cx="89280" cy="3456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158" y="23"/>
                    </a:moveTo>
                    <a:lnTo>
                      <a:pt x="148" y="0"/>
                    </a:lnTo>
                    <a:lnTo>
                      <a:pt x="0" y="44"/>
                    </a:lnTo>
                    <a:lnTo>
                      <a:pt x="10" y="67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2810880" y="45439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3"/>
                    </a:moveTo>
                    <a:lnTo>
                      <a:pt x="14" y="0"/>
                    </a:lnTo>
                    <a:lnTo>
                      <a:pt x="4" y="3"/>
                    </a:lnTo>
                    <a:lnTo>
                      <a:pt x="14" y="26"/>
                    </a:lnTo>
                    <a:lnTo>
                      <a:pt x="0" y="2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2679840" y="456948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104" y="13"/>
                    </a:moveTo>
                    <a:lnTo>
                      <a:pt x="80" y="0"/>
                    </a:lnTo>
                    <a:lnTo>
                      <a:pt x="0" y="124"/>
                    </a:lnTo>
                    <a:lnTo>
                      <a:pt x="23" y="138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2725200" y="456804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7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2679840" y="4637520"/>
                <a:ext cx="26280" cy="92160"/>
              </a:xfrm>
              <a:custGeom>
                <a:avLst/>
                <a:gdLst/>
                <a:ahLst/>
                <a:rect l="l" t="t" r="r" b="b"/>
                <a:pathLst>
                  <a:path w="47" h="178">
                    <a:moveTo>
                      <a:pt x="27" y="0"/>
                    </a:moveTo>
                    <a:lnTo>
                      <a:pt x="0" y="3"/>
                    </a:lnTo>
                    <a:lnTo>
                      <a:pt x="20" y="178"/>
                    </a:lnTo>
                    <a:lnTo>
                      <a:pt x="47" y="17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2679840" y="4633920"/>
                <a:ext cx="15120" cy="720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0" y="10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2692800" y="4725000"/>
                <a:ext cx="87840" cy="95400"/>
              </a:xfrm>
              <a:custGeom>
                <a:avLst/>
                <a:gdLst/>
                <a:ahLst/>
                <a:rect l="l" t="t" r="r" b="b"/>
                <a:pathLst>
                  <a:path w="155" h="184">
                    <a:moveTo>
                      <a:pt x="20" y="0"/>
                    </a:moveTo>
                    <a:lnTo>
                      <a:pt x="0" y="17"/>
                    </a:lnTo>
                    <a:lnTo>
                      <a:pt x="135" y="184"/>
                    </a:lnTo>
                    <a:lnTo>
                      <a:pt x="155" y="16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2691360" y="47250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0"/>
                    </a:moveTo>
                    <a:lnTo>
                      <a:pt x="0" y="13"/>
                    </a:lnTo>
                    <a:lnTo>
                      <a:pt x="3" y="17"/>
                    </a:lnTo>
                    <a:lnTo>
                      <a:pt x="23" y="0"/>
                    </a:lnTo>
                    <a:lnTo>
                      <a:pt x="27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2771280" y="4809960"/>
                <a:ext cx="131400" cy="817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13" y="0"/>
                    </a:moveTo>
                    <a:lnTo>
                      <a:pt x="0" y="24"/>
                    </a:lnTo>
                    <a:lnTo>
                      <a:pt x="218" y="158"/>
                    </a:lnTo>
                    <a:lnTo>
                      <a:pt x="232" y="1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2769480" y="4809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0"/>
                    </a:moveTo>
                    <a:lnTo>
                      <a:pt x="3" y="24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2894400" y="4879800"/>
                <a:ext cx="148320" cy="97200"/>
              </a:xfrm>
              <a:custGeom>
                <a:avLst/>
                <a:gdLst/>
                <a:ahLst/>
                <a:rect l="l" t="t" r="r" b="b"/>
                <a:pathLst>
                  <a:path w="262" h="188">
                    <a:moveTo>
                      <a:pt x="14" y="0"/>
                    </a:moveTo>
                    <a:lnTo>
                      <a:pt x="0" y="23"/>
                    </a:lnTo>
                    <a:lnTo>
                      <a:pt x="249" y="188"/>
                    </a:lnTo>
                    <a:lnTo>
                      <a:pt x="262" y="16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2894400" y="48798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0"/>
                    </a:move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3035520" y="4965120"/>
                <a:ext cx="178200" cy="104760"/>
              </a:xfrm>
              <a:custGeom>
                <a:avLst/>
                <a:gdLst/>
                <a:ahLst/>
                <a:rect l="l" t="t" r="r" b="b"/>
                <a:pathLst>
                  <a:path w="315" h="202">
                    <a:moveTo>
                      <a:pt x="13" y="0"/>
                    </a:moveTo>
                    <a:lnTo>
                      <a:pt x="0" y="24"/>
                    </a:lnTo>
                    <a:lnTo>
                      <a:pt x="302" y="202"/>
                    </a:lnTo>
                    <a:lnTo>
                      <a:pt x="315" y="1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3035520" y="4965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3208320" y="5055840"/>
                <a:ext cx="161640" cy="57240"/>
              </a:xfrm>
              <a:custGeom>
                <a:avLst/>
                <a:gdLst/>
                <a:ahLst/>
                <a:rect l="l" t="t" r="r" b="b"/>
                <a:pathLst>
                  <a:path w="286" h="111">
                    <a:moveTo>
                      <a:pt x="7" y="0"/>
                    </a:moveTo>
                    <a:lnTo>
                      <a:pt x="0" y="27"/>
                    </a:lnTo>
                    <a:lnTo>
                      <a:pt x="279" y="111"/>
                    </a:lnTo>
                    <a:lnTo>
                      <a:pt x="286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3206880" y="505584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27"/>
                    </a:moveTo>
                    <a:lnTo>
                      <a:pt x="3" y="27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3366360" y="5099400"/>
                <a:ext cx="190080" cy="39960"/>
              </a:xfrm>
              <a:custGeom>
                <a:avLst/>
                <a:gdLst/>
                <a:ahLst/>
                <a:rect l="l" t="t" r="r" b="b"/>
                <a:pathLst>
                  <a:path w="336" h="77">
                    <a:moveTo>
                      <a:pt x="3" y="0"/>
                    </a:moveTo>
                    <a:lnTo>
                      <a:pt x="0" y="27"/>
                    </a:lnTo>
                    <a:lnTo>
                      <a:pt x="332" y="77"/>
                    </a:lnTo>
                    <a:lnTo>
                      <a:pt x="336" y="5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3366360" y="5099400"/>
                <a:ext cx="3600" cy="1368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0" y="27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3551040" y="51253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6" y="27"/>
                    </a:moveTo>
                    <a:lnTo>
                      <a:pt x="13" y="27"/>
                    </a:lnTo>
                    <a:lnTo>
                      <a:pt x="17" y="2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2733120" y="4557240"/>
                <a:ext cx="905040" cy="559080"/>
              </a:xfrm>
              <a:custGeom>
                <a:avLst/>
                <a:gdLst/>
                <a:ahLst/>
                <a:rect l="l" t="t" r="r" b="b"/>
                <a:pathLst>
                  <a:path w="1598" h="1078">
                    <a:moveTo>
                      <a:pt x="1568" y="1045"/>
                    </a:moveTo>
                    <a:lnTo>
                      <a:pt x="1598" y="920"/>
                    </a:lnTo>
                    <a:lnTo>
                      <a:pt x="1578" y="796"/>
                    </a:lnTo>
                    <a:lnTo>
                      <a:pt x="1504" y="706"/>
                    </a:lnTo>
                    <a:lnTo>
                      <a:pt x="1246" y="652"/>
                    </a:lnTo>
                    <a:lnTo>
                      <a:pt x="1007" y="578"/>
                    </a:lnTo>
                    <a:lnTo>
                      <a:pt x="728" y="467"/>
                    </a:lnTo>
                    <a:lnTo>
                      <a:pt x="490" y="309"/>
                    </a:lnTo>
                    <a:lnTo>
                      <a:pt x="332" y="185"/>
                    </a:lnTo>
                    <a:lnTo>
                      <a:pt x="188" y="41"/>
                    </a:lnTo>
                    <a:lnTo>
                      <a:pt x="74" y="0"/>
                    </a:lnTo>
                    <a:lnTo>
                      <a:pt x="0" y="91"/>
                    </a:lnTo>
                    <a:lnTo>
                      <a:pt x="64" y="195"/>
                    </a:lnTo>
                    <a:lnTo>
                      <a:pt x="208" y="225"/>
                    </a:lnTo>
                    <a:lnTo>
                      <a:pt x="342" y="340"/>
                    </a:lnTo>
                    <a:lnTo>
                      <a:pt x="500" y="467"/>
                    </a:lnTo>
                    <a:lnTo>
                      <a:pt x="695" y="558"/>
                    </a:lnTo>
                    <a:lnTo>
                      <a:pt x="957" y="672"/>
                    </a:lnTo>
                    <a:lnTo>
                      <a:pt x="1182" y="756"/>
                    </a:lnTo>
                    <a:lnTo>
                      <a:pt x="1380" y="820"/>
                    </a:lnTo>
                    <a:lnTo>
                      <a:pt x="1484" y="890"/>
                    </a:lnTo>
                    <a:lnTo>
                      <a:pt x="1464" y="984"/>
                    </a:lnTo>
                    <a:lnTo>
                      <a:pt x="1474" y="1078"/>
                    </a:lnTo>
                    <a:lnTo>
                      <a:pt x="1568" y="1045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3614040" y="5032800"/>
                <a:ext cx="29880" cy="6948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124"/>
                    </a:moveTo>
                    <a:lnTo>
                      <a:pt x="23" y="134"/>
                    </a:lnTo>
                    <a:lnTo>
                      <a:pt x="53" y="10"/>
                    </a:lnTo>
                    <a:lnTo>
                      <a:pt x="3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3619800" y="4968720"/>
                <a:ext cx="24120" cy="67680"/>
              </a:xfrm>
              <a:custGeom>
                <a:avLst/>
                <a:gdLst/>
                <a:ahLst/>
                <a:rect l="l" t="t" r="r" b="b"/>
                <a:pathLst>
                  <a:path w="43" h="131">
                    <a:moveTo>
                      <a:pt x="20" y="131"/>
                    </a:moveTo>
                    <a:lnTo>
                      <a:pt x="43" y="124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20" y="131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3630960" y="503280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23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3579480" y="4919760"/>
                <a:ext cx="52920" cy="5508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74" y="107"/>
                    </a:moveTo>
                    <a:lnTo>
                      <a:pt x="94" y="91"/>
                    </a:lnTo>
                    <a:lnTo>
                      <a:pt x="20" y="0"/>
                    </a:lnTo>
                    <a:lnTo>
                      <a:pt x="0" y="17"/>
                    </a:lnTo>
                    <a:lnTo>
                      <a:pt x="74" y="10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3619800" y="4966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3" y="3"/>
                    </a:moveTo>
                    <a:lnTo>
                      <a:pt x="23" y="0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3436560" y="4890240"/>
                <a:ext cx="150480" cy="3996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259" y="77"/>
                    </a:moveTo>
                    <a:lnTo>
                      <a:pt x="266" y="53"/>
                    </a:lnTo>
                    <a:lnTo>
                      <a:pt x="7" y="0"/>
                    </a:lnTo>
                    <a:lnTo>
                      <a:pt x="0" y="23"/>
                    </a:lnTo>
                    <a:lnTo>
                      <a:pt x="259" y="7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3579480" y="49176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3299760" y="4851720"/>
                <a:ext cx="140760" cy="50040"/>
              </a:xfrm>
              <a:custGeom>
                <a:avLst/>
                <a:gdLst/>
                <a:ahLst/>
                <a:rect l="l" t="t" r="r" b="b"/>
                <a:pathLst>
                  <a:path w="249" h="97">
                    <a:moveTo>
                      <a:pt x="239" y="97"/>
                    </a:moveTo>
                    <a:lnTo>
                      <a:pt x="249" y="74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239" y="9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3435120" y="489024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3142080" y="4794120"/>
                <a:ext cx="165240" cy="69480"/>
              </a:xfrm>
              <a:custGeom>
                <a:avLst/>
                <a:gdLst/>
                <a:ahLst/>
                <a:rect l="l" t="t" r="r" b="b"/>
                <a:pathLst>
                  <a:path w="292" h="134">
                    <a:moveTo>
                      <a:pt x="278" y="134"/>
                    </a:moveTo>
                    <a:lnTo>
                      <a:pt x="292" y="111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278" y="1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3299760" y="485172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3" name=""/>
              <p:cNvSpPr/>
              <p:nvPr/>
            </p:nvSpPr>
            <p:spPr>
              <a:xfrm>
                <a:off x="3004920" y="4712400"/>
                <a:ext cx="144360" cy="92160"/>
              </a:xfrm>
              <a:custGeom>
                <a:avLst/>
                <a:gdLst/>
                <a:ahLst/>
                <a:rect l="l" t="t" r="r" b="b"/>
                <a:pathLst>
                  <a:path w="255" h="178">
                    <a:moveTo>
                      <a:pt x="238" y="178"/>
                    </a:moveTo>
                    <a:lnTo>
                      <a:pt x="255" y="158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238" y="178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4" name=""/>
              <p:cNvSpPr/>
              <p:nvPr/>
            </p:nvSpPr>
            <p:spPr>
              <a:xfrm>
                <a:off x="313992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24"/>
                    </a:moveTo>
                    <a:lnTo>
                      <a:pt x="0" y="20"/>
                    </a:lnTo>
                    <a:lnTo>
                      <a:pt x="17" y="0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2915640" y="4647960"/>
                <a:ext cx="99000" cy="74520"/>
              </a:xfrm>
              <a:custGeom>
                <a:avLst/>
                <a:gdLst/>
                <a:ahLst/>
                <a:rect l="l" t="t" r="r" b="b"/>
                <a:pathLst>
                  <a:path w="175" h="144">
                    <a:moveTo>
                      <a:pt x="158" y="144"/>
                    </a:moveTo>
                    <a:lnTo>
                      <a:pt x="175" y="12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58" y="14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3004920" y="47124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2833920" y="4573440"/>
                <a:ext cx="91080" cy="84960"/>
              </a:xfrm>
              <a:custGeom>
                <a:avLst/>
                <a:gdLst/>
                <a:ahLst/>
                <a:rect l="l" t="t" r="r" b="b"/>
                <a:pathLst>
                  <a:path w="161" h="164">
                    <a:moveTo>
                      <a:pt x="144" y="164"/>
                    </a:moveTo>
                    <a:lnTo>
                      <a:pt x="161" y="144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44" y="1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2915640" y="4647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2771280" y="4551840"/>
                <a:ext cx="70200" cy="33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14" y="64"/>
                    </a:moveTo>
                    <a:lnTo>
                      <a:pt x="124" y="41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14" y="6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2833920" y="45734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13" y="0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2727360" y="4554000"/>
                <a:ext cx="53280" cy="5544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17"/>
                    </a:moveTo>
                    <a:lnTo>
                      <a:pt x="74" y="0"/>
                    </a:lnTo>
                    <a:lnTo>
                      <a:pt x="0" y="90"/>
                    </a:lnTo>
                    <a:lnTo>
                      <a:pt x="20" y="107"/>
                    </a:lnTo>
                    <a:lnTo>
                      <a:pt x="94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2769480" y="455040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20" y="24"/>
                    </a:lnTo>
                    <a:lnTo>
                      <a:pt x="3" y="2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2725200" y="4600800"/>
                <a:ext cx="49680" cy="6084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24" y="0"/>
                    </a:moveTo>
                    <a:lnTo>
                      <a:pt x="0" y="14"/>
                    </a:lnTo>
                    <a:lnTo>
                      <a:pt x="64" y="118"/>
                    </a:lnTo>
                    <a:lnTo>
                      <a:pt x="88" y="10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2723760" y="460080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7" y="0"/>
                    </a:moveTo>
                    <a:lnTo>
                      <a:pt x="0" y="7"/>
                    </a:lnTo>
                    <a:lnTo>
                      <a:pt x="3" y="14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2766960" y="46515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51" h="57">
                    <a:moveTo>
                      <a:pt x="7" y="0"/>
                    </a:moveTo>
                    <a:lnTo>
                      <a:pt x="0" y="27"/>
                    </a:lnTo>
                    <a:lnTo>
                      <a:pt x="145" y="57"/>
                    </a:lnTo>
                    <a:lnTo>
                      <a:pt x="151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2761560" y="465156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20"/>
                    </a:moveTo>
                    <a:lnTo>
                      <a:pt x="4" y="27"/>
                    </a:lnTo>
                    <a:lnTo>
                      <a:pt x="10" y="27"/>
                    </a:lnTo>
                    <a:lnTo>
                      <a:pt x="17" y="0"/>
                    </a:lnTo>
                    <a:lnTo>
                      <a:pt x="24" y="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2845440" y="466884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7" y="0"/>
                    </a:moveTo>
                    <a:lnTo>
                      <a:pt x="0" y="21"/>
                    </a:lnTo>
                    <a:lnTo>
                      <a:pt x="134" y="135"/>
                    </a:lnTo>
                    <a:lnTo>
                      <a:pt x="151" y="1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2845440" y="46670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0"/>
                    </a:moveTo>
                    <a:lnTo>
                      <a:pt x="17" y="3"/>
                    </a:lnTo>
                    <a:lnTo>
                      <a:pt x="0" y="24"/>
                    </a:lnTo>
                    <a:lnTo>
                      <a:pt x="7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2921400" y="4728240"/>
                <a:ext cx="99000" cy="76320"/>
              </a:xfrm>
              <a:custGeom>
                <a:avLst/>
                <a:gdLst/>
                <a:ahLst/>
                <a:rect l="l" t="t" r="r" b="b"/>
                <a:pathLst>
                  <a:path w="175" h="147">
                    <a:moveTo>
                      <a:pt x="17" y="0"/>
                    </a:moveTo>
                    <a:lnTo>
                      <a:pt x="0" y="20"/>
                    </a:lnTo>
                    <a:lnTo>
                      <a:pt x="158" y="147"/>
                    </a:lnTo>
                    <a:lnTo>
                      <a:pt x="175" y="12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2921400" y="47282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3012480" y="4794120"/>
                <a:ext cx="118080" cy="59040"/>
              </a:xfrm>
              <a:custGeom>
                <a:avLst/>
                <a:gdLst/>
                <a:ahLst/>
                <a:rect l="l" t="t" r="r" b="b"/>
                <a:pathLst>
                  <a:path w="209" h="114">
                    <a:moveTo>
                      <a:pt x="14" y="0"/>
                    </a:moveTo>
                    <a:lnTo>
                      <a:pt x="0" y="24"/>
                    </a:lnTo>
                    <a:lnTo>
                      <a:pt x="195" y="114"/>
                    </a:lnTo>
                    <a:lnTo>
                      <a:pt x="209" y="9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3010680" y="4794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0"/>
                    </a:moveTo>
                    <a:lnTo>
                      <a:pt x="3" y="24"/>
                    </a:ln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3123000" y="484164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76" h="137">
                    <a:moveTo>
                      <a:pt x="14" y="0"/>
                    </a:moveTo>
                    <a:lnTo>
                      <a:pt x="0" y="23"/>
                    </a:lnTo>
                    <a:lnTo>
                      <a:pt x="262" y="137"/>
                    </a:lnTo>
                    <a:lnTo>
                      <a:pt x="276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3123000" y="484164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3273120" y="4899240"/>
                <a:ext cx="131400" cy="56880"/>
              </a:xfrm>
              <a:custGeom>
                <a:avLst/>
                <a:gdLst/>
                <a:ahLst/>
                <a:rect l="l" t="t" r="r" b="b"/>
                <a:pathLst>
                  <a:path w="232" h="110">
                    <a:moveTo>
                      <a:pt x="7" y="0"/>
                    </a:moveTo>
                    <a:lnTo>
                      <a:pt x="0" y="26"/>
                    </a:lnTo>
                    <a:lnTo>
                      <a:pt x="225" y="110"/>
                    </a:lnTo>
                    <a:lnTo>
                      <a:pt x="232" y="8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3271320" y="4899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3" y="26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3400560" y="4942800"/>
                <a:ext cx="115920" cy="4644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7" y="0"/>
                    </a:moveTo>
                    <a:lnTo>
                      <a:pt x="0" y="26"/>
                    </a:lnTo>
                    <a:lnTo>
                      <a:pt x="199" y="90"/>
                    </a:lnTo>
                    <a:lnTo>
                      <a:pt x="205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3400560" y="4942800"/>
                <a:ext cx="3960" cy="1332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3511080" y="497736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18" h="94">
                    <a:moveTo>
                      <a:pt x="14" y="0"/>
                    </a:moveTo>
                    <a:lnTo>
                      <a:pt x="0" y="23"/>
                    </a:lnTo>
                    <a:lnTo>
                      <a:pt x="104" y="94"/>
                    </a:lnTo>
                    <a:lnTo>
                      <a:pt x="118" y="7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3511080" y="497520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0" y="0"/>
                    </a:moveTo>
                    <a:lnTo>
                      <a:pt x="14" y="4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3554640" y="501732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47" h="97">
                    <a:moveTo>
                      <a:pt x="47" y="3"/>
                    </a:moveTo>
                    <a:lnTo>
                      <a:pt x="21" y="0"/>
                    </a:lnTo>
                    <a:lnTo>
                      <a:pt x="0" y="94"/>
                    </a:lnTo>
                    <a:lnTo>
                      <a:pt x="27" y="97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3566520" y="501372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0" y="0"/>
                    </a:moveTo>
                    <a:lnTo>
                      <a:pt x="26" y="7"/>
                    </a:lnTo>
                    <a:lnTo>
                      <a:pt x="26" y="10"/>
                    </a:lnTo>
                    <a:lnTo>
                      <a:pt x="0" y="7"/>
                    </a:lnTo>
                    <a:lnTo>
                      <a:pt x="6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3554640" y="5067720"/>
                <a:ext cx="20880" cy="50760"/>
              </a:xfrm>
              <a:custGeom>
                <a:avLst/>
                <a:gdLst/>
                <a:ahLst/>
                <a:rect l="l" t="t" r="r" b="b"/>
                <a:pathLst>
                  <a:path w="37" h="98">
                    <a:moveTo>
                      <a:pt x="27" y="0"/>
                    </a:moveTo>
                    <a:lnTo>
                      <a:pt x="0" y="4"/>
                    </a:lnTo>
                    <a:lnTo>
                      <a:pt x="11" y="98"/>
                    </a:lnTo>
                    <a:lnTo>
                      <a:pt x="37" y="9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3554640" y="5066280"/>
                <a:ext cx="15120" cy="36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3566520" y="5092200"/>
                <a:ext cx="56520" cy="3132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0" y="34"/>
                    </a:moveTo>
                    <a:lnTo>
                      <a:pt x="6" y="61"/>
                    </a:lnTo>
                    <a:lnTo>
                      <a:pt x="100" y="27"/>
                    </a:lnTo>
                    <a:lnTo>
                      <a:pt x="94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3560760" y="510984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17"/>
                    </a:moveTo>
                    <a:lnTo>
                      <a:pt x="0" y="33"/>
                    </a:lnTo>
                    <a:lnTo>
                      <a:pt x="16" y="27"/>
                    </a:lnTo>
                    <a:lnTo>
                      <a:pt x="10" y="0"/>
                    </a:lnTo>
                    <a:lnTo>
                      <a:pt x="26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3614040" y="509220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6" y="27"/>
                    </a:moveTo>
                    <a:lnTo>
                      <a:pt x="23" y="24"/>
                    </a:lnTo>
                    <a:lnTo>
                      <a:pt x="23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ffd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3318840" y="5088960"/>
                <a:ext cx="157680" cy="50040"/>
              </a:xfrm>
              <a:custGeom>
                <a:avLst/>
                <a:gdLst/>
                <a:ahLst/>
                <a:rect l="l" t="t" r="r" b="b"/>
                <a:pathLst>
                  <a:path w="279" h="97">
                    <a:moveTo>
                      <a:pt x="279" y="87"/>
                    </a:moveTo>
                    <a:lnTo>
                      <a:pt x="252" y="94"/>
                    </a:lnTo>
                    <a:lnTo>
                      <a:pt x="232" y="97"/>
                    </a:lnTo>
                    <a:lnTo>
                      <a:pt x="212" y="97"/>
                    </a:lnTo>
                    <a:lnTo>
                      <a:pt x="191" y="97"/>
                    </a:lnTo>
                    <a:lnTo>
                      <a:pt x="155" y="94"/>
                    </a:lnTo>
                    <a:lnTo>
                      <a:pt x="124" y="83"/>
                    </a:lnTo>
                    <a:lnTo>
                      <a:pt x="94" y="70"/>
                    </a:lnTo>
                    <a:lnTo>
                      <a:pt x="64" y="53"/>
                    </a:lnTo>
                    <a:lnTo>
                      <a:pt x="34" y="40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44" y="16"/>
                    </a:lnTo>
                    <a:lnTo>
                      <a:pt x="77" y="30"/>
                    </a:lnTo>
                    <a:lnTo>
                      <a:pt x="104" y="47"/>
                    </a:lnTo>
                    <a:lnTo>
                      <a:pt x="134" y="60"/>
                    </a:lnTo>
                    <a:lnTo>
                      <a:pt x="161" y="67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8" y="70"/>
                    </a:lnTo>
                    <a:lnTo>
                      <a:pt x="249" y="67"/>
                    </a:lnTo>
                    <a:lnTo>
                      <a:pt x="272" y="60"/>
                    </a:lnTo>
                    <a:lnTo>
                      <a:pt x="27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3210840" y="5083200"/>
                <a:ext cx="113760" cy="19080"/>
              </a:xfrm>
              <a:custGeom>
                <a:avLst/>
                <a:gdLst/>
                <a:ahLst/>
                <a:rect l="l" t="t" r="r" b="b"/>
                <a:pathLst>
                  <a:path w="201" h="37">
                    <a:moveTo>
                      <a:pt x="191" y="37"/>
                    </a:moveTo>
                    <a:lnTo>
                      <a:pt x="168" y="31"/>
                    </a:lnTo>
                    <a:lnTo>
                      <a:pt x="144" y="27"/>
                    </a:lnTo>
                    <a:lnTo>
                      <a:pt x="124" y="27"/>
                    </a:lnTo>
                    <a:lnTo>
                      <a:pt x="100" y="31"/>
                    </a:lnTo>
                    <a:lnTo>
                      <a:pt x="53" y="37"/>
                    </a:lnTo>
                    <a:lnTo>
                      <a:pt x="26" y="37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26" y="11"/>
                    </a:lnTo>
                    <a:lnTo>
                      <a:pt x="50" y="11"/>
                    </a:lnTo>
                    <a:lnTo>
                      <a:pt x="97" y="4"/>
                    </a:lnTo>
                    <a:lnTo>
                      <a:pt x="121" y="0"/>
                    </a:lnTo>
                    <a:lnTo>
                      <a:pt x="147" y="0"/>
                    </a:lnTo>
                    <a:lnTo>
                      <a:pt x="174" y="4"/>
                    </a:lnTo>
                    <a:lnTo>
                      <a:pt x="201" y="11"/>
                    </a:lnTo>
                    <a:lnTo>
                      <a:pt x="1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3318840" y="508896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3107520" y="5024160"/>
                <a:ext cx="102960" cy="781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78" y="151"/>
                    </a:moveTo>
                    <a:lnTo>
                      <a:pt x="161" y="148"/>
                    </a:lnTo>
                    <a:lnTo>
                      <a:pt x="145" y="145"/>
                    </a:lnTo>
                    <a:lnTo>
                      <a:pt x="131" y="138"/>
                    </a:lnTo>
                    <a:lnTo>
                      <a:pt x="118" y="128"/>
                    </a:lnTo>
                    <a:lnTo>
                      <a:pt x="91" y="108"/>
                    </a:lnTo>
                    <a:lnTo>
                      <a:pt x="67" y="88"/>
                    </a:lnTo>
                    <a:lnTo>
                      <a:pt x="31" y="47"/>
                    </a:lnTo>
                    <a:lnTo>
                      <a:pt x="14" y="34"/>
                    </a:lnTo>
                    <a:lnTo>
                      <a:pt x="10" y="31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4" y="7"/>
                    </a:lnTo>
                    <a:lnTo>
                      <a:pt x="31" y="14"/>
                    </a:lnTo>
                    <a:lnTo>
                      <a:pt x="47" y="27"/>
                    </a:lnTo>
                    <a:lnTo>
                      <a:pt x="88" y="67"/>
                    </a:lnTo>
                    <a:lnTo>
                      <a:pt x="108" y="88"/>
                    </a:lnTo>
                    <a:lnTo>
                      <a:pt x="131" y="108"/>
                    </a:lnTo>
                    <a:lnTo>
                      <a:pt x="145" y="114"/>
                    </a:lnTo>
                    <a:lnTo>
                      <a:pt x="155" y="118"/>
                    </a:lnTo>
                    <a:lnTo>
                      <a:pt x="168" y="121"/>
                    </a:lnTo>
                    <a:lnTo>
                      <a:pt x="182" y="125"/>
                    </a:lnTo>
                    <a:lnTo>
                      <a:pt x="17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3208320" y="5088960"/>
                <a:ext cx="2160" cy="133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4" y="26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2963160" y="4987800"/>
                <a:ext cx="149760" cy="50040"/>
              </a:xfrm>
              <a:custGeom>
                <a:avLst/>
                <a:gdLst/>
                <a:ahLst/>
                <a:rect l="l" t="t" r="r" b="b"/>
                <a:pathLst>
                  <a:path w="265" h="97">
                    <a:moveTo>
                      <a:pt x="255" y="97"/>
                    </a:moveTo>
                    <a:lnTo>
                      <a:pt x="222" y="87"/>
                    </a:lnTo>
                    <a:lnTo>
                      <a:pt x="188" y="80"/>
                    </a:lnTo>
                    <a:lnTo>
                      <a:pt x="124" y="70"/>
                    </a:lnTo>
                    <a:lnTo>
                      <a:pt x="94" y="64"/>
                    </a:lnTo>
                    <a:lnTo>
                      <a:pt x="64" y="54"/>
                    </a:lnTo>
                    <a:lnTo>
                      <a:pt x="47" y="47"/>
                    </a:lnTo>
                    <a:lnTo>
                      <a:pt x="30" y="40"/>
                    </a:lnTo>
                    <a:lnTo>
                      <a:pt x="17" y="30"/>
                    </a:lnTo>
                    <a:lnTo>
                      <a:pt x="0" y="20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4" y="17"/>
                    </a:lnTo>
                    <a:lnTo>
                      <a:pt x="57" y="23"/>
                    </a:lnTo>
                    <a:lnTo>
                      <a:pt x="71" y="30"/>
                    </a:lnTo>
                    <a:lnTo>
                      <a:pt x="101" y="37"/>
                    </a:lnTo>
                    <a:lnTo>
                      <a:pt x="131" y="43"/>
                    </a:lnTo>
                    <a:lnTo>
                      <a:pt x="192" y="54"/>
                    </a:lnTo>
                    <a:lnTo>
                      <a:pt x="225" y="60"/>
                    </a:lnTo>
                    <a:lnTo>
                      <a:pt x="265" y="70"/>
                    </a:lnTo>
                    <a:lnTo>
                      <a:pt x="25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3107520" y="502416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0"/>
                    </a:moveTo>
                    <a:lnTo>
                      <a:pt x="0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2915640" y="4909320"/>
                <a:ext cx="57240" cy="88560"/>
              </a:xfrm>
              <a:custGeom>
                <a:avLst/>
                <a:gdLst/>
                <a:ahLst/>
                <a:rect l="l" t="t" r="r" b="b"/>
                <a:pathLst>
                  <a:path w="101" h="171">
                    <a:moveTo>
                      <a:pt x="84" y="171"/>
                    </a:moveTo>
                    <a:lnTo>
                      <a:pt x="74" y="164"/>
                    </a:lnTo>
                    <a:lnTo>
                      <a:pt x="64" y="154"/>
                    </a:lnTo>
                    <a:lnTo>
                      <a:pt x="51" y="137"/>
                    </a:lnTo>
                    <a:lnTo>
                      <a:pt x="44" y="124"/>
                    </a:lnTo>
                    <a:lnTo>
                      <a:pt x="40" y="114"/>
                    </a:lnTo>
                    <a:lnTo>
                      <a:pt x="30" y="94"/>
                    </a:lnTo>
                    <a:lnTo>
                      <a:pt x="17" y="53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23"/>
                    </a:lnTo>
                    <a:lnTo>
                      <a:pt x="44" y="43"/>
                    </a:lnTo>
                    <a:lnTo>
                      <a:pt x="57" y="87"/>
                    </a:lnTo>
                    <a:lnTo>
                      <a:pt x="64" y="104"/>
                    </a:lnTo>
                    <a:lnTo>
                      <a:pt x="67" y="114"/>
                    </a:lnTo>
                    <a:lnTo>
                      <a:pt x="74" y="121"/>
                    </a:lnTo>
                    <a:lnTo>
                      <a:pt x="84" y="137"/>
                    </a:lnTo>
                    <a:lnTo>
                      <a:pt x="94" y="144"/>
                    </a:lnTo>
                    <a:lnTo>
                      <a:pt x="101" y="151"/>
                    </a:lnTo>
                    <a:lnTo>
                      <a:pt x="84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2963160" y="49878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0"/>
                    </a:moveTo>
                    <a:lnTo>
                      <a:pt x="1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2775240" y="481716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272" h="191">
                    <a:moveTo>
                      <a:pt x="248" y="191"/>
                    </a:moveTo>
                    <a:lnTo>
                      <a:pt x="238" y="174"/>
                    </a:lnTo>
                    <a:lnTo>
                      <a:pt x="225" y="161"/>
                    </a:lnTo>
                    <a:lnTo>
                      <a:pt x="211" y="151"/>
                    </a:lnTo>
                    <a:lnTo>
                      <a:pt x="198" y="141"/>
                    </a:lnTo>
                    <a:lnTo>
                      <a:pt x="181" y="131"/>
                    </a:lnTo>
                    <a:lnTo>
                      <a:pt x="164" y="124"/>
                    </a:lnTo>
                    <a:lnTo>
                      <a:pt x="127" y="111"/>
                    </a:lnTo>
                    <a:lnTo>
                      <a:pt x="90" y="94"/>
                    </a:lnTo>
                    <a:lnTo>
                      <a:pt x="74" y="84"/>
                    </a:lnTo>
                    <a:lnTo>
                      <a:pt x="57" y="74"/>
                    </a:lnTo>
                    <a:lnTo>
                      <a:pt x="40" y="64"/>
                    </a:lnTo>
                    <a:lnTo>
                      <a:pt x="23" y="50"/>
                    </a:lnTo>
                    <a:lnTo>
                      <a:pt x="10" y="33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33" y="17"/>
                    </a:lnTo>
                    <a:lnTo>
                      <a:pt x="43" y="30"/>
                    </a:lnTo>
                    <a:lnTo>
                      <a:pt x="57" y="43"/>
                    </a:lnTo>
                    <a:lnTo>
                      <a:pt x="70" y="53"/>
                    </a:lnTo>
                    <a:lnTo>
                      <a:pt x="87" y="60"/>
                    </a:lnTo>
                    <a:lnTo>
                      <a:pt x="104" y="70"/>
                    </a:lnTo>
                    <a:lnTo>
                      <a:pt x="137" y="84"/>
                    </a:lnTo>
                    <a:lnTo>
                      <a:pt x="174" y="100"/>
                    </a:lnTo>
                    <a:lnTo>
                      <a:pt x="194" y="107"/>
                    </a:lnTo>
                    <a:lnTo>
                      <a:pt x="211" y="117"/>
                    </a:lnTo>
                    <a:lnTo>
                      <a:pt x="228" y="131"/>
                    </a:lnTo>
                    <a:lnTo>
                      <a:pt x="245" y="144"/>
                    </a:lnTo>
                    <a:lnTo>
                      <a:pt x="258" y="158"/>
                    </a:lnTo>
                    <a:lnTo>
                      <a:pt x="272" y="178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2915640" y="490752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4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0" y="17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2639880" y="4632480"/>
                <a:ext cx="148320" cy="191160"/>
              </a:xfrm>
              <a:custGeom>
                <a:avLst/>
                <a:gdLst/>
                <a:ahLst/>
                <a:rect l="l" t="t" r="r" b="b"/>
                <a:pathLst>
                  <a:path w="262" h="369">
                    <a:moveTo>
                      <a:pt x="239" y="369"/>
                    </a:moveTo>
                    <a:lnTo>
                      <a:pt x="235" y="359"/>
                    </a:lnTo>
                    <a:lnTo>
                      <a:pt x="225" y="349"/>
                    </a:lnTo>
                    <a:lnTo>
                      <a:pt x="219" y="342"/>
                    </a:lnTo>
                    <a:lnTo>
                      <a:pt x="212" y="332"/>
                    </a:lnTo>
                    <a:lnTo>
                      <a:pt x="188" y="312"/>
                    </a:lnTo>
                    <a:lnTo>
                      <a:pt x="165" y="295"/>
                    </a:lnTo>
                    <a:lnTo>
                      <a:pt x="111" y="255"/>
                    </a:lnTo>
                    <a:lnTo>
                      <a:pt x="84" y="235"/>
                    </a:lnTo>
                    <a:lnTo>
                      <a:pt x="61" y="215"/>
                    </a:lnTo>
                    <a:lnTo>
                      <a:pt x="37" y="191"/>
                    </a:lnTo>
                    <a:lnTo>
                      <a:pt x="27" y="181"/>
                    </a:lnTo>
                    <a:lnTo>
                      <a:pt x="20" y="168"/>
                    </a:lnTo>
                    <a:lnTo>
                      <a:pt x="10" y="158"/>
                    </a:lnTo>
                    <a:lnTo>
                      <a:pt x="7" y="144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7" y="74"/>
                    </a:lnTo>
                    <a:lnTo>
                      <a:pt x="17" y="57"/>
                    </a:lnTo>
                    <a:lnTo>
                      <a:pt x="27" y="44"/>
                    </a:lnTo>
                    <a:lnTo>
                      <a:pt x="41" y="30"/>
                    </a:lnTo>
                    <a:lnTo>
                      <a:pt x="74" y="0"/>
                    </a:lnTo>
                    <a:lnTo>
                      <a:pt x="91" y="20"/>
                    </a:lnTo>
                    <a:lnTo>
                      <a:pt x="57" y="47"/>
                    </a:lnTo>
                    <a:lnTo>
                      <a:pt x="47" y="60"/>
                    </a:lnTo>
                    <a:lnTo>
                      <a:pt x="41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27" y="104"/>
                    </a:lnTo>
                    <a:lnTo>
                      <a:pt x="27" y="114"/>
                    </a:lnTo>
                    <a:lnTo>
                      <a:pt x="27" y="124"/>
                    </a:lnTo>
                    <a:lnTo>
                      <a:pt x="30" y="134"/>
                    </a:lnTo>
                    <a:lnTo>
                      <a:pt x="34" y="144"/>
                    </a:lnTo>
                    <a:lnTo>
                      <a:pt x="41" y="154"/>
                    </a:lnTo>
                    <a:lnTo>
                      <a:pt x="47" y="164"/>
                    </a:lnTo>
                    <a:lnTo>
                      <a:pt x="57" y="174"/>
                    </a:lnTo>
                    <a:lnTo>
                      <a:pt x="77" y="195"/>
                    </a:lnTo>
                    <a:lnTo>
                      <a:pt x="101" y="215"/>
                    </a:lnTo>
                    <a:lnTo>
                      <a:pt x="128" y="235"/>
                    </a:lnTo>
                    <a:lnTo>
                      <a:pt x="182" y="272"/>
                    </a:lnTo>
                    <a:lnTo>
                      <a:pt x="205" y="292"/>
                    </a:lnTo>
                    <a:lnTo>
                      <a:pt x="229" y="312"/>
                    </a:lnTo>
                    <a:lnTo>
                      <a:pt x="239" y="322"/>
                    </a:lnTo>
                    <a:lnTo>
                      <a:pt x="249" y="332"/>
                    </a:lnTo>
                    <a:lnTo>
                      <a:pt x="255" y="346"/>
                    </a:lnTo>
                    <a:lnTo>
                      <a:pt x="262" y="356"/>
                    </a:lnTo>
                    <a:lnTo>
                      <a:pt x="239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2775240" y="48171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3"/>
                    </a:moveTo>
                    <a:lnTo>
                      <a:pt x="2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3541320" y="4947840"/>
                <a:ext cx="81360" cy="121680"/>
              </a:xfrm>
              <a:custGeom>
                <a:avLst/>
                <a:gdLst/>
                <a:ahLst/>
                <a:rect l="l" t="t" r="r" b="b"/>
                <a:pathLst>
                  <a:path w="144" h="235">
                    <a:moveTo>
                      <a:pt x="107" y="228"/>
                    </a:moveTo>
                    <a:lnTo>
                      <a:pt x="111" y="204"/>
                    </a:lnTo>
                    <a:lnTo>
                      <a:pt x="114" y="181"/>
                    </a:lnTo>
                    <a:lnTo>
                      <a:pt x="117" y="141"/>
                    </a:lnTo>
                    <a:lnTo>
                      <a:pt x="117" y="127"/>
                    </a:lnTo>
                    <a:lnTo>
                      <a:pt x="114" y="114"/>
                    </a:lnTo>
                    <a:lnTo>
                      <a:pt x="111" y="100"/>
                    </a:lnTo>
                    <a:lnTo>
                      <a:pt x="107" y="87"/>
                    </a:lnTo>
                    <a:lnTo>
                      <a:pt x="101" y="77"/>
                    </a:lnTo>
                    <a:lnTo>
                      <a:pt x="91" y="70"/>
                    </a:lnTo>
                    <a:lnTo>
                      <a:pt x="81" y="60"/>
                    </a:lnTo>
                    <a:lnTo>
                      <a:pt x="70" y="53"/>
                    </a:lnTo>
                    <a:lnTo>
                      <a:pt x="57" y="47"/>
                    </a:lnTo>
                    <a:lnTo>
                      <a:pt x="40" y="40"/>
                    </a:lnTo>
                    <a:lnTo>
                      <a:pt x="20" y="33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30" y="6"/>
                    </a:lnTo>
                    <a:lnTo>
                      <a:pt x="50" y="13"/>
                    </a:lnTo>
                    <a:lnTo>
                      <a:pt x="67" y="23"/>
                    </a:lnTo>
                    <a:lnTo>
                      <a:pt x="84" y="30"/>
                    </a:lnTo>
                    <a:lnTo>
                      <a:pt x="97" y="40"/>
                    </a:lnTo>
                    <a:lnTo>
                      <a:pt x="111" y="50"/>
                    </a:lnTo>
                    <a:lnTo>
                      <a:pt x="121" y="60"/>
                    </a:lnTo>
                    <a:lnTo>
                      <a:pt x="128" y="73"/>
                    </a:lnTo>
                    <a:lnTo>
                      <a:pt x="138" y="90"/>
                    </a:lnTo>
                    <a:lnTo>
                      <a:pt x="141" y="107"/>
                    </a:lnTo>
                    <a:lnTo>
                      <a:pt x="141" y="124"/>
                    </a:lnTo>
                    <a:lnTo>
                      <a:pt x="144" y="144"/>
                    </a:lnTo>
                    <a:lnTo>
                      <a:pt x="141" y="184"/>
                    </a:lnTo>
                    <a:lnTo>
                      <a:pt x="138" y="208"/>
                    </a:lnTo>
                    <a:lnTo>
                      <a:pt x="131" y="235"/>
                    </a:lnTo>
                    <a:lnTo>
                      <a:pt x="107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2751840" y="457344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4" y="110"/>
                    </a:moveTo>
                    <a:lnTo>
                      <a:pt x="7" y="90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4" y="47"/>
                    </a:lnTo>
                    <a:lnTo>
                      <a:pt x="4" y="40"/>
                    </a:lnTo>
                    <a:lnTo>
                      <a:pt x="10" y="27"/>
                    </a:lnTo>
                    <a:lnTo>
                      <a:pt x="21" y="16"/>
                    </a:lnTo>
                    <a:lnTo>
                      <a:pt x="24" y="10"/>
                    </a:lnTo>
                    <a:lnTo>
                      <a:pt x="31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98" y="6"/>
                    </a:lnTo>
                    <a:lnTo>
                      <a:pt x="115" y="13"/>
                    </a:lnTo>
                    <a:lnTo>
                      <a:pt x="131" y="27"/>
                    </a:lnTo>
                    <a:lnTo>
                      <a:pt x="148" y="40"/>
                    </a:lnTo>
                    <a:lnTo>
                      <a:pt x="162" y="57"/>
                    </a:lnTo>
                    <a:lnTo>
                      <a:pt x="172" y="74"/>
                    </a:lnTo>
                    <a:lnTo>
                      <a:pt x="178" y="94"/>
                    </a:lnTo>
                    <a:lnTo>
                      <a:pt x="182" y="110"/>
                    </a:lnTo>
                    <a:lnTo>
                      <a:pt x="185" y="127"/>
                    </a:lnTo>
                    <a:lnTo>
                      <a:pt x="182" y="134"/>
                    </a:lnTo>
                    <a:lnTo>
                      <a:pt x="182" y="144"/>
                    </a:lnTo>
                    <a:lnTo>
                      <a:pt x="175" y="158"/>
                    </a:lnTo>
                    <a:lnTo>
                      <a:pt x="165" y="168"/>
                    </a:lnTo>
                    <a:lnTo>
                      <a:pt x="162" y="174"/>
                    </a:lnTo>
                    <a:lnTo>
                      <a:pt x="155" y="178"/>
                    </a:lnTo>
                    <a:lnTo>
                      <a:pt x="138" y="181"/>
                    </a:lnTo>
                    <a:lnTo>
                      <a:pt x="121" y="184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68"/>
                    </a:lnTo>
                    <a:lnTo>
                      <a:pt x="54" y="158"/>
                    </a:lnTo>
                    <a:lnTo>
                      <a:pt x="37" y="144"/>
                    </a:lnTo>
                    <a:lnTo>
                      <a:pt x="24" y="127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2744640" y="4565880"/>
                <a:ext cx="36000" cy="67680"/>
              </a:xfrm>
              <a:custGeom>
                <a:avLst/>
                <a:gdLst/>
                <a:ahLst/>
                <a:rect l="l" t="t" r="r" b="b"/>
                <a:pathLst>
                  <a:path w="64" h="131">
                    <a:moveTo>
                      <a:pt x="13" y="131"/>
                    </a:moveTo>
                    <a:lnTo>
                      <a:pt x="7" y="111"/>
                    </a:lnTo>
                    <a:lnTo>
                      <a:pt x="0" y="91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3" y="51"/>
                    </a:lnTo>
                    <a:lnTo>
                      <a:pt x="10" y="34"/>
                    </a:lnTo>
                    <a:lnTo>
                      <a:pt x="23" y="20"/>
                    </a:lnTo>
                    <a:lnTo>
                      <a:pt x="30" y="14"/>
                    </a:lnTo>
                    <a:lnTo>
                      <a:pt x="37" y="7"/>
                    </a:lnTo>
                    <a:lnTo>
                      <a:pt x="54" y="0"/>
                    </a:lnTo>
                    <a:lnTo>
                      <a:pt x="64" y="27"/>
                    </a:lnTo>
                    <a:lnTo>
                      <a:pt x="50" y="34"/>
                    </a:lnTo>
                    <a:lnTo>
                      <a:pt x="44" y="37"/>
                    </a:lnTo>
                    <a:lnTo>
                      <a:pt x="44" y="41"/>
                    </a:lnTo>
                    <a:lnTo>
                      <a:pt x="34" y="47"/>
                    </a:lnTo>
                    <a:lnTo>
                      <a:pt x="30" y="61"/>
                    </a:lnTo>
                    <a:lnTo>
                      <a:pt x="30" y="64"/>
                    </a:lnTo>
                    <a:lnTo>
                      <a:pt x="27" y="71"/>
                    </a:lnTo>
                    <a:lnTo>
                      <a:pt x="27" y="84"/>
                    </a:lnTo>
                    <a:lnTo>
                      <a:pt x="34" y="101"/>
                    </a:lnTo>
                    <a:lnTo>
                      <a:pt x="40" y="118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2776680" y="4565880"/>
                <a:ext cx="78120" cy="48600"/>
              </a:xfrm>
              <a:custGeom>
                <a:avLst/>
                <a:gdLst/>
                <a:ahLst/>
                <a:rect l="l" t="t" r="r" b="b"/>
                <a:pathLst>
                  <a:path w="138" h="94">
                    <a:moveTo>
                      <a:pt x="0" y="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60" y="7"/>
                    </a:lnTo>
                    <a:lnTo>
                      <a:pt x="77" y="17"/>
                    </a:lnTo>
                    <a:lnTo>
                      <a:pt x="97" y="30"/>
                    </a:lnTo>
                    <a:lnTo>
                      <a:pt x="114" y="44"/>
                    </a:lnTo>
                    <a:lnTo>
                      <a:pt x="128" y="61"/>
                    </a:lnTo>
                    <a:lnTo>
                      <a:pt x="138" y="81"/>
                    </a:lnTo>
                    <a:lnTo>
                      <a:pt x="114" y="94"/>
                    </a:lnTo>
                    <a:lnTo>
                      <a:pt x="104" y="77"/>
                    </a:lnTo>
                    <a:lnTo>
                      <a:pt x="91" y="64"/>
                    </a:lnTo>
                    <a:lnTo>
                      <a:pt x="77" y="51"/>
                    </a:lnTo>
                    <a:lnTo>
                      <a:pt x="64" y="41"/>
                    </a:lnTo>
                    <a:lnTo>
                      <a:pt x="50" y="34"/>
                    </a:lnTo>
                    <a:lnTo>
                      <a:pt x="34" y="30"/>
                    </a:lnTo>
                    <a:lnTo>
                      <a:pt x="20" y="27"/>
                    </a:lnTo>
                    <a:lnTo>
                      <a:pt x="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2775240" y="4565880"/>
                <a:ext cx="5400" cy="1548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0"/>
                    </a:moveTo>
                    <a:lnTo>
                      <a:pt x="3" y="0"/>
                    </a:lnTo>
                    <a:lnTo>
                      <a:pt x="6" y="30"/>
                    </a:lnTo>
                    <a:lnTo>
                      <a:pt x="1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2826000" y="4608000"/>
                <a:ext cx="37800" cy="65880"/>
              </a:xfrm>
              <a:custGeom>
                <a:avLst/>
                <a:gdLst/>
                <a:ahLst/>
                <a:rect l="l" t="t" r="r" b="b"/>
                <a:pathLst>
                  <a:path w="67" h="127">
                    <a:moveTo>
                      <a:pt x="54" y="0"/>
                    </a:moveTo>
                    <a:lnTo>
                      <a:pt x="61" y="20"/>
                    </a:lnTo>
                    <a:lnTo>
                      <a:pt x="67" y="40"/>
                    </a:lnTo>
                    <a:lnTo>
                      <a:pt x="67" y="60"/>
                    </a:lnTo>
                    <a:lnTo>
                      <a:pt x="64" y="70"/>
                    </a:lnTo>
                    <a:lnTo>
                      <a:pt x="64" y="80"/>
                    </a:lnTo>
                    <a:lnTo>
                      <a:pt x="54" y="97"/>
                    </a:lnTo>
                    <a:lnTo>
                      <a:pt x="44" y="111"/>
                    </a:lnTo>
                    <a:lnTo>
                      <a:pt x="37" y="117"/>
                    </a:lnTo>
                    <a:lnTo>
                      <a:pt x="27" y="124"/>
                    </a:lnTo>
                    <a:lnTo>
                      <a:pt x="14" y="127"/>
                    </a:lnTo>
                    <a:lnTo>
                      <a:pt x="0" y="104"/>
                    </a:lnTo>
                    <a:lnTo>
                      <a:pt x="17" y="97"/>
                    </a:lnTo>
                    <a:lnTo>
                      <a:pt x="20" y="94"/>
                    </a:lnTo>
                    <a:lnTo>
                      <a:pt x="24" y="91"/>
                    </a:lnTo>
                    <a:lnTo>
                      <a:pt x="31" y="84"/>
                    </a:lnTo>
                    <a:lnTo>
                      <a:pt x="37" y="70"/>
                    </a:lnTo>
                    <a:lnTo>
                      <a:pt x="37" y="67"/>
                    </a:lnTo>
                    <a:lnTo>
                      <a:pt x="37" y="60"/>
                    </a:lnTo>
                    <a:lnTo>
                      <a:pt x="37" y="43"/>
                    </a:lnTo>
                    <a:lnTo>
                      <a:pt x="34" y="30"/>
                    </a:lnTo>
                    <a:lnTo>
                      <a:pt x="27" y="1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2841480" y="460800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4" y="0"/>
                    </a:moveTo>
                    <a:lnTo>
                      <a:pt x="27" y="0"/>
                    </a:lnTo>
                    <a:lnTo>
                      <a:pt x="0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2751840" y="4627080"/>
                <a:ext cx="79560" cy="48600"/>
              </a:xfrm>
              <a:custGeom>
                <a:avLst/>
                <a:gdLst/>
                <a:ahLst/>
                <a:rect l="l" t="t" r="r" b="b"/>
                <a:pathLst>
                  <a:path w="141" h="94">
                    <a:moveTo>
                      <a:pt x="141" y="94"/>
                    </a:moveTo>
                    <a:lnTo>
                      <a:pt x="121" y="94"/>
                    </a:lnTo>
                    <a:lnTo>
                      <a:pt x="101" y="94"/>
                    </a:lnTo>
                    <a:lnTo>
                      <a:pt x="81" y="87"/>
                    </a:lnTo>
                    <a:lnTo>
                      <a:pt x="61" y="77"/>
                    </a:lnTo>
                    <a:lnTo>
                      <a:pt x="44" y="64"/>
                    </a:lnTo>
                    <a:lnTo>
                      <a:pt x="27" y="50"/>
                    </a:lnTo>
                    <a:lnTo>
                      <a:pt x="14" y="33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34" y="17"/>
                    </a:lnTo>
                    <a:lnTo>
                      <a:pt x="47" y="30"/>
                    </a:lnTo>
                    <a:lnTo>
                      <a:pt x="61" y="43"/>
                    </a:lnTo>
                    <a:lnTo>
                      <a:pt x="78" y="54"/>
                    </a:lnTo>
                    <a:lnTo>
                      <a:pt x="91" y="60"/>
                    </a:lnTo>
                    <a:lnTo>
                      <a:pt x="108" y="64"/>
                    </a:lnTo>
                    <a:lnTo>
                      <a:pt x="121" y="67"/>
                    </a:lnTo>
                    <a:lnTo>
                      <a:pt x="135" y="64"/>
                    </a:lnTo>
                    <a:lnTo>
                      <a:pt x="141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2826000" y="4660560"/>
                <a:ext cx="7560" cy="154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4" y="26"/>
                    </a:moveTo>
                    <a:lnTo>
                      <a:pt x="10" y="3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2751840" y="4627080"/>
                <a:ext cx="15120" cy="64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3"/>
                    </a:moveTo>
                    <a:lnTo>
                      <a:pt x="27" y="0"/>
                    </a:lnTo>
                    <a:lnTo>
                      <a:pt x="2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41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8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8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8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264440"/>
          </a:xfrm>
          <a:prstGeom prst="rect">
            <a:avLst/>
          </a:prstGeom>
          <a:ln w="0">
            <a:noFill/>
          </a:ln>
        </p:spPr>
      </p:pic>
      <p:grpSp>
        <p:nvGrpSpPr>
          <p:cNvPr id="9643" name=""/>
          <p:cNvGrpSpPr/>
          <p:nvPr/>
        </p:nvGrpSpPr>
        <p:grpSpPr>
          <a:xfrm>
            <a:off x="3059280" y="3789360"/>
            <a:ext cx="1296720" cy="660240"/>
            <a:chOff x="3059280" y="3789360"/>
            <a:chExt cx="1296720" cy="660240"/>
          </a:xfrm>
        </p:grpSpPr>
        <p:sp>
          <p:nvSpPr>
            <p:cNvPr id="9644" name=""/>
            <p:cNvSpPr/>
            <p:nvPr/>
          </p:nvSpPr>
          <p:spPr>
            <a:xfrm>
              <a:off x="3121200" y="4074840"/>
              <a:ext cx="1800" cy="118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3263760" y="3876840"/>
              <a:ext cx="165960" cy="6876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3421080" y="3876840"/>
              <a:ext cx="864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3127680" y="3935520"/>
              <a:ext cx="142560" cy="2628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3263760" y="3935520"/>
              <a:ext cx="7920" cy="104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3127680" y="3950640"/>
              <a:ext cx="3960" cy="11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3074400" y="380808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3138480" y="379116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3066120" y="395388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3059280" y="3843000"/>
              <a:ext cx="864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3231720" y="3795480"/>
              <a:ext cx="81000" cy="345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3231720" y="381780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3304440" y="379548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3372480" y="3894120"/>
              <a:ext cx="106200" cy="8460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3472200" y="38941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3300120" y="3968280"/>
              <a:ext cx="82800" cy="169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3372480" y="3968280"/>
              <a:ext cx="10440" cy="10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223080" y="3968280"/>
              <a:ext cx="78480" cy="5292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295440" y="3968280"/>
              <a:ext cx="6120" cy="10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32000" y="4003920"/>
              <a:ext cx="95400" cy="205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223080" y="4010760"/>
              <a:ext cx="612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069720" y="3794400"/>
              <a:ext cx="1279080" cy="649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3891240" y="4399560"/>
              <a:ext cx="106200" cy="403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3991680" y="4427640"/>
              <a:ext cx="134280" cy="2160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3989520" y="442764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123440" y="4407120"/>
              <a:ext cx="123480" cy="4212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4123440" y="443700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4238640" y="4360320"/>
              <a:ext cx="78480" cy="576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4238640" y="440712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4304520" y="4303800"/>
              <a:ext cx="51120" cy="637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4304520" y="4360320"/>
              <a:ext cx="14400" cy="90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334400" y="4209480"/>
              <a:ext cx="21240" cy="972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4340880" y="4303800"/>
              <a:ext cx="15120" cy="5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257720" y="4134240"/>
              <a:ext cx="91080" cy="7992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334400" y="4206600"/>
              <a:ext cx="1440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4161960" y="4113720"/>
              <a:ext cx="103680" cy="2988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4257720" y="4132800"/>
              <a:ext cx="12600" cy="108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036680" y="4089240"/>
              <a:ext cx="131760" cy="3564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4161960" y="41137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3917520" y="4060440"/>
              <a:ext cx="125280" cy="388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4036680" y="4089240"/>
              <a:ext cx="612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3793680" y="4025880"/>
              <a:ext cx="129600" cy="4572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3917520" y="406044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3697920" y="3981960"/>
              <a:ext cx="103680" cy="5364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3791880" y="4025880"/>
              <a:ext cx="9720" cy="11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3619440" y="3944520"/>
              <a:ext cx="89280" cy="468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3697920" y="398196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3521160" y="3895920"/>
              <a:ext cx="108360" cy="576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3619440" y="3944520"/>
              <a:ext cx="10080" cy="90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3442680" y="3838320"/>
              <a:ext cx="89280" cy="669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3521160" y="3895920"/>
              <a:ext cx="1044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3376800" y="3799080"/>
              <a:ext cx="76320" cy="486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3442680" y="383832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3278520" y="3789360"/>
              <a:ext cx="104400" cy="2052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3376800" y="3799080"/>
              <a:ext cx="10440" cy="10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3187080" y="3789360"/>
              <a:ext cx="95400" cy="3888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3274560" y="3789360"/>
              <a:ext cx="7920" cy="10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3087000" y="3817800"/>
              <a:ext cx="108360" cy="716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3185280" y="3817800"/>
              <a:ext cx="9720" cy="104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3061800" y="3883320"/>
              <a:ext cx="40320" cy="7668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3085200" y="3880440"/>
              <a:ext cx="16920" cy="90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3061800" y="3958560"/>
              <a:ext cx="52920" cy="7848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3061800" y="3958560"/>
              <a:ext cx="169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3099600" y="4032360"/>
              <a:ext cx="97920" cy="81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3097800" y="4032360"/>
              <a:ext cx="1692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3185280" y="4104360"/>
              <a:ext cx="136080" cy="81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3185280" y="4104360"/>
              <a:ext cx="12600" cy="9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3310920" y="4176720"/>
              <a:ext cx="129600" cy="7632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3310920" y="417672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3431880" y="4244040"/>
              <a:ext cx="146880" cy="7848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3430080" y="424404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3570120" y="4311720"/>
              <a:ext cx="172080" cy="5904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3570120" y="4311720"/>
              <a:ext cx="8640" cy="108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3736080" y="4358520"/>
              <a:ext cx="162000" cy="5184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3734280" y="435852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3891240" y="439776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3206160" y="3827160"/>
              <a:ext cx="1064160" cy="52344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172760" y="4292640"/>
              <a:ext cx="954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255920" y="4220640"/>
              <a:ext cx="20520" cy="7632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255920" y="4292640"/>
              <a:ext cx="14400" cy="93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4204440" y="4159800"/>
              <a:ext cx="72000" cy="655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262040" y="4217400"/>
              <a:ext cx="14400" cy="79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017600" y="4113720"/>
              <a:ext cx="195480" cy="5508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204440" y="41576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3831840" y="4068360"/>
              <a:ext cx="191880" cy="5616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4017600" y="4113720"/>
              <a:ext cx="612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3655440" y="4002480"/>
              <a:ext cx="184680" cy="7704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3831840" y="4068360"/>
              <a:ext cx="864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3533760" y="3933360"/>
              <a:ext cx="129600" cy="7848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3652920" y="400248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3419280" y="3876840"/>
              <a:ext cx="125280" cy="662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3533760" y="393336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3344400" y="3822480"/>
              <a:ext cx="85320" cy="640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3419280" y="3876840"/>
              <a:ext cx="1044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3253320" y="3822480"/>
              <a:ext cx="99720" cy="309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3344400" y="3821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3197880" y="3844440"/>
              <a:ext cx="65880" cy="644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3248640" y="3843000"/>
              <a:ext cx="15120" cy="10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3197880" y="3905640"/>
              <a:ext cx="29520" cy="8280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3197880" y="3902040"/>
              <a:ext cx="16920" cy="6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3212640" y="3984120"/>
              <a:ext cx="98280" cy="8568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3210480" y="3984120"/>
              <a:ext cx="16920" cy="7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3300120" y="4060440"/>
              <a:ext cx="146880" cy="7344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3297960" y="40604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3438000" y="4123440"/>
              <a:ext cx="165960" cy="8748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3438000" y="41234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3596040" y="4200120"/>
              <a:ext cx="199440" cy="943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3596040" y="4200120"/>
              <a:ext cx="8280" cy="11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3789360" y="4281840"/>
              <a:ext cx="181080" cy="5148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3787560" y="4281840"/>
              <a:ext cx="792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3966120" y="4321080"/>
              <a:ext cx="212760" cy="3600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3966120" y="4321080"/>
              <a:ext cx="396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4172760" y="4344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3257640" y="3832920"/>
              <a:ext cx="1012680" cy="5032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4243320" y="4261320"/>
              <a:ext cx="33480" cy="622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4249440" y="4203360"/>
              <a:ext cx="27000" cy="6120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4262040" y="4261320"/>
              <a:ext cx="14400" cy="43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4204440" y="4159800"/>
              <a:ext cx="5940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4249440" y="4202280"/>
              <a:ext cx="1440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4044600" y="4132800"/>
              <a:ext cx="168480" cy="3600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4204440" y="4157640"/>
              <a:ext cx="1260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3891240" y="4098240"/>
              <a:ext cx="157680" cy="4500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4042800" y="4132800"/>
              <a:ext cx="6120" cy="10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3715200" y="4046400"/>
              <a:ext cx="185040" cy="622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3891240" y="40982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3561840" y="3972600"/>
              <a:ext cx="161640" cy="8280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3712680" y="404640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3461400" y="3914640"/>
              <a:ext cx="110880" cy="6696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3561840" y="397260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3370320" y="3847680"/>
              <a:ext cx="101880" cy="7632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3461400" y="391464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3300120" y="3828240"/>
              <a:ext cx="78480" cy="295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3370320" y="384768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3251160" y="3830400"/>
              <a:ext cx="5940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3297960" y="3827160"/>
              <a:ext cx="12600" cy="126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3248640" y="3872160"/>
              <a:ext cx="55440" cy="5508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3246840" y="3872160"/>
              <a:ext cx="1692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3295440" y="3918240"/>
              <a:ext cx="95400" cy="2628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289320" y="3918240"/>
              <a:ext cx="15120" cy="126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382920" y="3933360"/>
              <a:ext cx="954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382920" y="393192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467880" y="3987000"/>
              <a:ext cx="110520" cy="6840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3467880" y="3987000"/>
              <a:ext cx="1044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3570120" y="4046400"/>
              <a:ext cx="132120" cy="5328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3567960" y="4046400"/>
              <a:ext cx="1044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3693600" y="4089240"/>
              <a:ext cx="174960" cy="637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3693600" y="4089240"/>
              <a:ext cx="864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3861720" y="4140720"/>
              <a:ext cx="146880" cy="5112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3859560" y="4140720"/>
              <a:ext cx="864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4004280" y="4180320"/>
              <a:ext cx="129600" cy="41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4004280" y="4180320"/>
              <a:ext cx="4320" cy="1188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4127760" y="4211280"/>
              <a:ext cx="74520" cy="4392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4127760" y="4209480"/>
              <a:ext cx="864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4176720" y="4247280"/>
              <a:ext cx="29520" cy="4500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4190040" y="4244040"/>
              <a:ext cx="16200" cy="11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4176720" y="4292640"/>
              <a:ext cx="23400" cy="457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4176720" y="4291200"/>
              <a:ext cx="1692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4190040" y="4314600"/>
              <a:ext cx="63360" cy="2844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4183560" y="4330440"/>
              <a:ext cx="16200" cy="151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4243320" y="4314600"/>
              <a:ext cx="14400" cy="12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3912840" y="4311720"/>
              <a:ext cx="176760" cy="4500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3791880" y="4306680"/>
              <a:ext cx="127080" cy="169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3912840" y="4311720"/>
              <a:ext cx="6120" cy="1188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3676320" y="4253400"/>
              <a:ext cx="115200" cy="7020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3789360" y="4311720"/>
              <a:ext cx="2520" cy="118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3515040" y="4220640"/>
              <a:ext cx="167760" cy="4500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3676320" y="4253400"/>
              <a:ext cx="6120" cy="1260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3461400" y="4150080"/>
              <a:ext cx="64080" cy="79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3515040" y="4220640"/>
              <a:ext cx="1044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3304440" y="4066920"/>
              <a:ext cx="172080" cy="8928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3461400" y="4148280"/>
              <a:ext cx="15120" cy="79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3152880" y="3900960"/>
              <a:ext cx="165960" cy="17208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3304440" y="4066920"/>
              <a:ext cx="14400" cy="6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4161960" y="4185000"/>
              <a:ext cx="91080" cy="10944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3278520" y="3847680"/>
              <a:ext cx="117000" cy="8568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3270240" y="3840840"/>
              <a:ext cx="40320" cy="6120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3306240" y="3840840"/>
              <a:ext cx="87480" cy="4392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3304440" y="3840840"/>
              <a:ext cx="6120" cy="136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3361680" y="3878640"/>
              <a:ext cx="42120" cy="5904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3378600" y="3878640"/>
              <a:ext cx="1692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3278520" y="3895920"/>
              <a:ext cx="89280" cy="4392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3361680" y="3926160"/>
              <a:ext cx="8640" cy="136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3278520" y="3895920"/>
              <a:ext cx="1692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7" name=""/>
          <p:cNvGrpSpPr/>
          <p:nvPr/>
        </p:nvGrpSpPr>
        <p:grpSpPr>
          <a:xfrm>
            <a:off x="826920" y="3789360"/>
            <a:ext cx="1368720" cy="660240"/>
            <a:chOff x="826920" y="3789360"/>
            <a:chExt cx="1368720" cy="660240"/>
          </a:xfrm>
        </p:grpSpPr>
        <p:sp>
          <p:nvSpPr>
            <p:cNvPr id="9828" name=""/>
            <p:cNvSpPr/>
            <p:nvPr/>
          </p:nvSpPr>
          <p:spPr>
            <a:xfrm>
              <a:off x="892440" y="4074840"/>
              <a:ext cx="1800" cy="118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1042920" y="3876840"/>
              <a:ext cx="174960" cy="6876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1208880" y="38768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899280" y="3935520"/>
              <a:ext cx="150480" cy="2628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1042920" y="3935520"/>
              <a:ext cx="8640" cy="104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899280" y="3950640"/>
              <a:ext cx="4320" cy="11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842760" y="3808080"/>
              <a:ext cx="468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910440" y="3791160"/>
              <a:ext cx="864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834120" y="3953880"/>
              <a:ext cx="864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826920" y="3843000"/>
              <a:ext cx="936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1008720" y="3795480"/>
              <a:ext cx="85320" cy="345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1008720" y="3817800"/>
              <a:ext cx="900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1085760" y="3795480"/>
              <a:ext cx="8640" cy="108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1157400" y="3894120"/>
              <a:ext cx="112320" cy="8460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1262880" y="3894120"/>
              <a:ext cx="648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1081080" y="3968280"/>
              <a:ext cx="87480" cy="169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1157400" y="3968280"/>
              <a:ext cx="11160" cy="10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1000080" y="3968280"/>
              <a:ext cx="82800" cy="5292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1076400" y="3968280"/>
              <a:ext cx="6480" cy="10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903600" y="4003920"/>
              <a:ext cx="100800" cy="205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1000080" y="4010760"/>
              <a:ext cx="648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838080" y="3794400"/>
              <a:ext cx="1350000" cy="649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1705320" y="4399560"/>
              <a:ext cx="112320" cy="4032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1810800" y="4427640"/>
              <a:ext cx="141840" cy="2160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1809000" y="4427640"/>
              <a:ext cx="864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1950120" y="4407120"/>
              <a:ext cx="130320" cy="4212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1950120" y="4437000"/>
              <a:ext cx="468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2071800" y="4360320"/>
              <a:ext cx="82800" cy="576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2071800" y="4407120"/>
              <a:ext cx="1116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2141280" y="4303800"/>
              <a:ext cx="54000" cy="637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2141280" y="4360320"/>
              <a:ext cx="15120" cy="90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2172960" y="4209480"/>
              <a:ext cx="22680" cy="972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2179440" y="4303800"/>
              <a:ext cx="15840" cy="5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2091960" y="4134240"/>
              <a:ext cx="96120" cy="7992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2172960" y="4206600"/>
              <a:ext cx="1512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1990800" y="4113720"/>
              <a:ext cx="109440" cy="2988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2091960" y="4132800"/>
              <a:ext cx="13320" cy="108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1858320" y="4089240"/>
              <a:ext cx="138960" cy="3564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1990800" y="4113720"/>
              <a:ext cx="648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1732680" y="4060440"/>
              <a:ext cx="132120" cy="388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1858320" y="4089240"/>
              <a:ext cx="6480" cy="104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1602000" y="4025880"/>
              <a:ext cx="136800" cy="4572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1732680" y="4060440"/>
              <a:ext cx="648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1501200" y="3981960"/>
              <a:ext cx="109440" cy="5364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1600200" y="4025880"/>
              <a:ext cx="10440" cy="11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1418040" y="3944520"/>
              <a:ext cx="94320" cy="468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1501200" y="3981960"/>
              <a:ext cx="1116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1314360" y="3895920"/>
              <a:ext cx="114120" cy="5760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1418040" y="3944520"/>
              <a:ext cx="10440" cy="90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1231560" y="3838320"/>
              <a:ext cx="94320" cy="669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1314360" y="3895920"/>
              <a:ext cx="1116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1162080" y="3799080"/>
              <a:ext cx="80640" cy="486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1231560" y="3838320"/>
              <a:ext cx="1116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1058400" y="3789360"/>
              <a:ext cx="110160" cy="2052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1162080" y="3799080"/>
              <a:ext cx="11160" cy="10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961920" y="3789360"/>
              <a:ext cx="100800" cy="3888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1054440" y="3789360"/>
              <a:ext cx="8640" cy="10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856080" y="3817800"/>
              <a:ext cx="114120" cy="716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960120" y="3817800"/>
              <a:ext cx="10440" cy="104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829440" y="3883320"/>
              <a:ext cx="42480" cy="7668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854280" y="3880440"/>
              <a:ext cx="18000" cy="90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829440" y="3958560"/>
              <a:ext cx="55800" cy="7848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829440" y="3958560"/>
              <a:ext cx="1800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869760" y="4032360"/>
              <a:ext cx="103320" cy="81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867600" y="4032360"/>
              <a:ext cx="1800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960120" y="4104360"/>
              <a:ext cx="143640" cy="81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960120" y="4104360"/>
              <a:ext cx="13320" cy="9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1092240" y="4176720"/>
              <a:ext cx="136800" cy="7632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1092240" y="4176720"/>
              <a:ext cx="1116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1220040" y="4244040"/>
              <a:ext cx="155160" cy="7848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1218240" y="4244040"/>
              <a:ext cx="1116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1366200" y="4311720"/>
              <a:ext cx="181800" cy="5904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1366200" y="4311720"/>
              <a:ext cx="9000" cy="108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1541160" y="4358520"/>
              <a:ext cx="171000" cy="5184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1539360" y="4358520"/>
              <a:ext cx="864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1705320" y="4397760"/>
              <a:ext cx="936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982080" y="3827160"/>
              <a:ext cx="1123200" cy="52344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2002320" y="4292640"/>
              <a:ext cx="1008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2089800" y="4220640"/>
              <a:ext cx="21960" cy="7632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2089800" y="4292640"/>
              <a:ext cx="15120" cy="93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35800" y="4159800"/>
              <a:ext cx="75960" cy="655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2096640" y="4217400"/>
              <a:ext cx="15120" cy="79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38520" y="4113720"/>
              <a:ext cx="206280" cy="5508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035800" y="4157640"/>
              <a:ext cx="1332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1642320" y="4068360"/>
              <a:ext cx="202680" cy="5616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1838520" y="4113720"/>
              <a:ext cx="6480" cy="11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1456200" y="4002480"/>
              <a:ext cx="195120" cy="7704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1642320" y="4068360"/>
              <a:ext cx="9000" cy="11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1327680" y="3933360"/>
              <a:ext cx="136800" cy="7848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1453680" y="4002480"/>
              <a:ext cx="1116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1206720" y="3876840"/>
              <a:ext cx="132120" cy="662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1327680" y="3933360"/>
              <a:ext cx="1116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1127880" y="3822480"/>
              <a:ext cx="90000" cy="640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1206720" y="3876840"/>
              <a:ext cx="11160" cy="9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1031400" y="3822480"/>
              <a:ext cx="105480" cy="309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1127880" y="3821040"/>
              <a:ext cx="11160" cy="11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973440" y="3844440"/>
              <a:ext cx="69480" cy="644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1026720" y="3843000"/>
              <a:ext cx="15840" cy="10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973440" y="3905640"/>
              <a:ext cx="31320" cy="8280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973440" y="3902040"/>
              <a:ext cx="18000" cy="6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988560" y="3984120"/>
              <a:ext cx="103680" cy="8568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986760" y="3984120"/>
              <a:ext cx="18000" cy="7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1081080" y="4060440"/>
              <a:ext cx="155160" cy="7344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1078920" y="4060440"/>
              <a:ext cx="1332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2" name=""/>
            <p:cNvSpPr/>
            <p:nvPr/>
          </p:nvSpPr>
          <p:spPr>
            <a:xfrm>
              <a:off x="1226880" y="4123440"/>
              <a:ext cx="175320" cy="8748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3" name=""/>
            <p:cNvSpPr/>
            <p:nvPr/>
          </p:nvSpPr>
          <p:spPr>
            <a:xfrm>
              <a:off x="1226880" y="4123440"/>
              <a:ext cx="936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1393560" y="4200120"/>
              <a:ext cx="210600" cy="943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1393560" y="4200120"/>
              <a:ext cx="8640" cy="11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1597320" y="4281840"/>
              <a:ext cx="191160" cy="5148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1595520" y="4281840"/>
              <a:ext cx="8640" cy="126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1784160" y="4321080"/>
              <a:ext cx="224640" cy="3600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1784160" y="4321080"/>
              <a:ext cx="4320" cy="126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2002320" y="4344480"/>
              <a:ext cx="1116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1036080" y="3832920"/>
              <a:ext cx="1068840" cy="5032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2076480" y="4261320"/>
              <a:ext cx="35280" cy="622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2083320" y="4203360"/>
              <a:ext cx="28440" cy="6120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2096640" y="4261320"/>
              <a:ext cx="15120" cy="43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2035800" y="4159800"/>
              <a:ext cx="6264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2083320" y="4202280"/>
              <a:ext cx="15120" cy="7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1866960" y="4132800"/>
              <a:ext cx="177840" cy="3600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2035800" y="4157640"/>
              <a:ext cx="13320" cy="11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1705320" y="4098240"/>
              <a:ext cx="166320" cy="4500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1865160" y="4132800"/>
              <a:ext cx="6480" cy="10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1519200" y="4046400"/>
              <a:ext cx="195120" cy="622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1705320" y="4098240"/>
              <a:ext cx="936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1357200" y="3972600"/>
              <a:ext cx="170640" cy="8280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1516680" y="4046400"/>
              <a:ext cx="1116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1251720" y="3914640"/>
              <a:ext cx="117000" cy="6696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1357200" y="3972600"/>
              <a:ext cx="1116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1155240" y="3847680"/>
              <a:ext cx="107640" cy="7632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1251720" y="3914640"/>
              <a:ext cx="1116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1081080" y="3828240"/>
              <a:ext cx="82800" cy="295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1155240" y="3847680"/>
              <a:ext cx="11160" cy="10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1029600" y="3830400"/>
              <a:ext cx="62640" cy="496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1078920" y="3827160"/>
              <a:ext cx="13320" cy="126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1026720" y="3872160"/>
              <a:ext cx="58680" cy="5508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1024920" y="3872160"/>
              <a:ext cx="1800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1076400" y="3918240"/>
              <a:ext cx="100800" cy="2628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1069560" y="3918240"/>
              <a:ext cx="15840" cy="126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1168560" y="3933360"/>
              <a:ext cx="100800" cy="630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1168560" y="3931920"/>
              <a:ext cx="11160" cy="126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1258200" y="3987000"/>
              <a:ext cx="116640" cy="6840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1258200" y="3987000"/>
              <a:ext cx="11160" cy="93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1366200" y="4046400"/>
              <a:ext cx="139680" cy="5328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1364040" y="4046400"/>
              <a:ext cx="11160" cy="11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1496520" y="4089240"/>
              <a:ext cx="184680" cy="637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1496520" y="4089240"/>
              <a:ext cx="9360" cy="10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1673640" y="4140720"/>
              <a:ext cx="155160" cy="5112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1671840" y="4140720"/>
              <a:ext cx="9360" cy="11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1824120" y="4180320"/>
              <a:ext cx="136800" cy="41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1824120" y="4180320"/>
              <a:ext cx="4680" cy="1188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1954800" y="4211280"/>
              <a:ext cx="78840" cy="4392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1954800" y="4209480"/>
              <a:ext cx="9360" cy="126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2006280" y="4247280"/>
              <a:ext cx="31320" cy="4500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2020320" y="4244040"/>
              <a:ext cx="17280" cy="11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2006280" y="4292640"/>
              <a:ext cx="24480" cy="457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2006280" y="4291200"/>
              <a:ext cx="18000" cy="324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2020320" y="4314600"/>
              <a:ext cx="66600" cy="2844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2013480" y="4330440"/>
              <a:ext cx="17280" cy="151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2076480" y="4314600"/>
              <a:ext cx="15120" cy="12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1728000" y="4311720"/>
              <a:ext cx="186480" cy="4500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1600200" y="4306680"/>
              <a:ext cx="134280" cy="169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1728000" y="4311720"/>
              <a:ext cx="6480" cy="1188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1478520" y="4253400"/>
              <a:ext cx="121680" cy="7020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1597320" y="4311720"/>
              <a:ext cx="2520" cy="118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1307880" y="4220640"/>
              <a:ext cx="177120" cy="4500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1478520" y="4253400"/>
              <a:ext cx="6480" cy="1260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1251720" y="4150080"/>
              <a:ext cx="67320" cy="79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1307880" y="4220640"/>
              <a:ext cx="11160" cy="9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1085760" y="4066920"/>
              <a:ext cx="181800" cy="8928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1251720" y="4148280"/>
              <a:ext cx="15840" cy="79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925920" y="3900960"/>
              <a:ext cx="174960" cy="17208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1085760" y="4066920"/>
              <a:ext cx="15120" cy="6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1990800" y="4185000"/>
              <a:ext cx="96120" cy="10944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1058400" y="3847680"/>
              <a:ext cx="123480" cy="8568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1049760" y="3840840"/>
              <a:ext cx="42480" cy="6120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1087560" y="3840840"/>
              <a:ext cx="92160" cy="4392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1085760" y="3840840"/>
              <a:ext cx="6480" cy="136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1145880" y="3878640"/>
              <a:ext cx="44640" cy="5904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1163880" y="3878640"/>
              <a:ext cx="1800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1058400" y="3895920"/>
              <a:ext cx="94320" cy="4392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1145880" y="3926160"/>
              <a:ext cx="9000" cy="136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1058400" y="3895920"/>
              <a:ext cx="18000" cy="61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1" name=""/>
          <p:cNvGrpSpPr/>
          <p:nvPr/>
        </p:nvGrpSpPr>
        <p:grpSpPr>
          <a:xfrm>
            <a:off x="2987640" y="4221000"/>
            <a:ext cx="1152720" cy="792360"/>
            <a:chOff x="2987640" y="4221000"/>
            <a:chExt cx="1152720" cy="792360"/>
          </a:xfrm>
        </p:grpSpPr>
        <p:sp>
          <p:nvSpPr>
            <p:cNvPr id="10012" name=""/>
            <p:cNvSpPr/>
            <p:nvPr/>
          </p:nvSpPr>
          <p:spPr>
            <a:xfrm>
              <a:off x="3042720" y="4563720"/>
              <a:ext cx="1440" cy="1440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3169440" y="4326120"/>
              <a:ext cx="147240" cy="8280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3309120" y="432612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3048480" y="4396320"/>
              <a:ext cx="126720" cy="3168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3169440" y="4396320"/>
              <a:ext cx="7200" cy="126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3048480" y="4414680"/>
              <a:ext cx="3600" cy="1332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3000960" y="4243680"/>
              <a:ext cx="3960" cy="1512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3057840" y="4223160"/>
              <a:ext cx="7200" cy="12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2993760" y="4418640"/>
              <a:ext cx="7200" cy="15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2987640" y="4285440"/>
              <a:ext cx="7920" cy="14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3140640" y="4228560"/>
              <a:ext cx="72000" cy="4140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3140640" y="4254840"/>
              <a:ext cx="7560" cy="151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3205440" y="4228560"/>
              <a:ext cx="7200" cy="12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3265920" y="4347000"/>
              <a:ext cx="94680" cy="10188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3354840" y="434700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3201480" y="4435560"/>
              <a:ext cx="73800" cy="2052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3265920" y="443556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3133440" y="4435560"/>
              <a:ext cx="69840" cy="6372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3197520" y="443556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3052080" y="4478760"/>
              <a:ext cx="84960" cy="2448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3133440" y="4486680"/>
              <a:ext cx="5400" cy="126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2997000" y="4226760"/>
              <a:ext cx="1136880" cy="77904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3727440" y="4953240"/>
              <a:ext cx="94680" cy="4860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3816360" y="4987080"/>
              <a:ext cx="119160" cy="2628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3814560" y="4987080"/>
              <a:ext cx="7200" cy="15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3933360" y="4962600"/>
              <a:ext cx="109800" cy="507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3933360" y="4998240"/>
              <a:ext cx="3960" cy="1512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4036320" y="4906440"/>
              <a:ext cx="69840" cy="694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4036320" y="4962600"/>
              <a:ext cx="9360" cy="15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4094640" y="4838400"/>
              <a:ext cx="45720" cy="7668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4094640" y="4906440"/>
              <a:ext cx="12960" cy="111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4121280" y="4725360"/>
              <a:ext cx="19080" cy="11664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4127040" y="4838400"/>
              <a:ext cx="13320" cy="720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4052880" y="4635000"/>
              <a:ext cx="81000" cy="957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4121280" y="4721760"/>
              <a:ext cx="12600" cy="90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3967920" y="4610160"/>
              <a:ext cx="92160" cy="3564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4052880" y="4633200"/>
              <a:ext cx="11160" cy="129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3856320" y="4580640"/>
              <a:ext cx="117000" cy="4284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3967920" y="461016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3750480" y="4546440"/>
              <a:ext cx="111240" cy="4680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3856320" y="4580640"/>
              <a:ext cx="5400" cy="126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3640680" y="4505040"/>
              <a:ext cx="115200" cy="5472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3750480" y="454644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3555360" y="4452480"/>
              <a:ext cx="92160" cy="6444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3638880" y="4505040"/>
              <a:ext cx="8640" cy="133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3485520" y="4407480"/>
              <a:ext cx="79200" cy="5652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3555360" y="4452480"/>
              <a:ext cx="9360" cy="115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3398400" y="4349160"/>
              <a:ext cx="96120" cy="6948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3485520" y="4407480"/>
              <a:ext cx="9000" cy="111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3328200" y="4279680"/>
              <a:ext cx="79200" cy="8064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3398400" y="434916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3269880" y="4232520"/>
              <a:ext cx="68040" cy="5832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3328200" y="427968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3182400" y="4221000"/>
              <a:ext cx="92880" cy="2448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3269880" y="4232520"/>
              <a:ext cx="9360" cy="12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3101400" y="4221000"/>
              <a:ext cx="84960" cy="468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3179160" y="4221000"/>
              <a:ext cx="7200" cy="1332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012120" y="4254840"/>
              <a:ext cx="96120" cy="860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099600" y="4254840"/>
              <a:ext cx="8640" cy="126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2989800" y="4334040"/>
              <a:ext cx="36000" cy="9180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3010680" y="4330080"/>
              <a:ext cx="15120" cy="111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2989800" y="4424040"/>
              <a:ext cx="47160" cy="9396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2989800" y="442404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3023640" y="4512960"/>
              <a:ext cx="87120" cy="972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3021840" y="4512960"/>
              <a:ext cx="15120" cy="93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3099600" y="4599000"/>
              <a:ext cx="120960" cy="979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3099600" y="4599000"/>
              <a:ext cx="11160" cy="111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3211200" y="4686120"/>
              <a:ext cx="115200" cy="9180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3211200" y="468612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3318840" y="4766760"/>
              <a:ext cx="130680" cy="9396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3317040" y="476676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3441600" y="4848120"/>
              <a:ext cx="153000" cy="7092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3441600" y="4848120"/>
              <a:ext cx="7560" cy="129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3589200" y="4903920"/>
              <a:ext cx="144000" cy="6228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3587760" y="4903920"/>
              <a:ext cx="7200" cy="15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3727440" y="4951080"/>
              <a:ext cx="7920" cy="151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3118320" y="4266360"/>
              <a:ext cx="945720" cy="62820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3977640" y="4825080"/>
              <a:ext cx="84960" cy="756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4051440" y="4738680"/>
              <a:ext cx="18360" cy="9180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4051440" y="482508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4005720" y="4665240"/>
              <a:ext cx="64080" cy="7884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4056840" y="4734720"/>
              <a:ext cx="12600" cy="9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3839400" y="4610160"/>
              <a:ext cx="173880" cy="6588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4005720" y="4663080"/>
              <a:ext cx="11160" cy="13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3674520" y="4556160"/>
              <a:ext cx="170640" cy="6768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3839400" y="461016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3517920" y="4476960"/>
              <a:ext cx="164160" cy="9252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3674520" y="4556160"/>
              <a:ext cx="7560" cy="133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3409560" y="4393800"/>
              <a:ext cx="115200" cy="9396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3515400" y="447696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3307680" y="4326120"/>
              <a:ext cx="111240" cy="7956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3409560" y="4393800"/>
              <a:ext cx="9360" cy="115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3241080" y="4260600"/>
              <a:ext cx="75960" cy="770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3307680" y="4326120"/>
              <a:ext cx="9360" cy="115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3160080" y="4260600"/>
              <a:ext cx="88920" cy="3744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3241080" y="4258800"/>
              <a:ext cx="9360" cy="14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3110760" y="4286880"/>
              <a:ext cx="58320" cy="7740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3156120" y="4285440"/>
              <a:ext cx="1332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3110760" y="4360320"/>
              <a:ext cx="26280" cy="9972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3110760" y="4356360"/>
              <a:ext cx="15120" cy="7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3123720" y="4454640"/>
              <a:ext cx="87120" cy="10296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3122280" y="4454640"/>
              <a:ext cx="15120" cy="93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3201480" y="4546440"/>
              <a:ext cx="130680" cy="8820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3200040" y="4546440"/>
              <a:ext cx="11160" cy="13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3324240" y="4622040"/>
              <a:ext cx="147600" cy="10512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3324240" y="4622040"/>
              <a:ext cx="7920" cy="126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3464640" y="4714200"/>
              <a:ext cx="177480" cy="11304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3464640" y="4714200"/>
              <a:ext cx="7200" cy="1332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3636720" y="4812120"/>
              <a:ext cx="160920" cy="6192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3634920" y="4812120"/>
              <a:ext cx="7200" cy="15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3794040" y="4859280"/>
              <a:ext cx="189000" cy="4320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3794040" y="4859280"/>
              <a:ext cx="3600" cy="1512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3977640" y="4887360"/>
              <a:ext cx="9360" cy="15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164040" y="4273560"/>
              <a:ext cx="900000" cy="6040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4040280" y="4787640"/>
              <a:ext cx="29520" cy="748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4045680" y="4718160"/>
              <a:ext cx="24120" cy="7344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4056840" y="4787640"/>
              <a:ext cx="12600" cy="54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005720" y="4665240"/>
              <a:ext cx="52560" cy="597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045680" y="4716360"/>
              <a:ext cx="12600" cy="864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3863520" y="4633200"/>
              <a:ext cx="149760" cy="4320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4005720" y="4663080"/>
              <a:ext cx="11160" cy="13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3" name=""/>
            <p:cNvSpPr/>
            <p:nvPr/>
          </p:nvSpPr>
          <p:spPr>
            <a:xfrm>
              <a:off x="3727440" y="4591800"/>
              <a:ext cx="140040" cy="5436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4" name=""/>
            <p:cNvSpPr/>
            <p:nvPr/>
          </p:nvSpPr>
          <p:spPr>
            <a:xfrm>
              <a:off x="3862080" y="4633200"/>
              <a:ext cx="5400" cy="129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5" name=""/>
            <p:cNvSpPr/>
            <p:nvPr/>
          </p:nvSpPr>
          <p:spPr>
            <a:xfrm>
              <a:off x="3570480" y="4529520"/>
              <a:ext cx="164520" cy="748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6" name=""/>
            <p:cNvSpPr/>
            <p:nvPr/>
          </p:nvSpPr>
          <p:spPr>
            <a:xfrm>
              <a:off x="3727440" y="4591800"/>
              <a:ext cx="7920" cy="126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7" name=""/>
            <p:cNvSpPr/>
            <p:nvPr/>
          </p:nvSpPr>
          <p:spPr>
            <a:xfrm>
              <a:off x="3434400" y="4440960"/>
              <a:ext cx="143640" cy="9972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8" name=""/>
            <p:cNvSpPr/>
            <p:nvPr/>
          </p:nvSpPr>
          <p:spPr>
            <a:xfrm>
              <a:off x="3568320" y="452952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9" name=""/>
            <p:cNvSpPr/>
            <p:nvPr/>
          </p:nvSpPr>
          <p:spPr>
            <a:xfrm>
              <a:off x="3345120" y="4371480"/>
              <a:ext cx="98640" cy="80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0" name=""/>
            <p:cNvSpPr/>
            <p:nvPr/>
          </p:nvSpPr>
          <p:spPr>
            <a:xfrm>
              <a:off x="3434400" y="444096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1" name=""/>
            <p:cNvSpPr/>
            <p:nvPr/>
          </p:nvSpPr>
          <p:spPr>
            <a:xfrm>
              <a:off x="3264120" y="4290840"/>
              <a:ext cx="90720" cy="9180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2" name=""/>
            <p:cNvSpPr/>
            <p:nvPr/>
          </p:nvSpPr>
          <p:spPr>
            <a:xfrm>
              <a:off x="3345120" y="437148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3" name=""/>
            <p:cNvSpPr/>
            <p:nvPr/>
          </p:nvSpPr>
          <p:spPr>
            <a:xfrm>
              <a:off x="3201480" y="4267800"/>
              <a:ext cx="69840" cy="3564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4" name=""/>
            <p:cNvSpPr/>
            <p:nvPr/>
          </p:nvSpPr>
          <p:spPr>
            <a:xfrm>
              <a:off x="3264120" y="4290840"/>
              <a:ext cx="9360" cy="126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5" name=""/>
            <p:cNvSpPr/>
            <p:nvPr/>
          </p:nvSpPr>
          <p:spPr>
            <a:xfrm>
              <a:off x="3158280" y="4270320"/>
              <a:ext cx="52920" cy="5976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6" name=""/>
            <p:cNvSpPr/>
            <p:nvPr/>
          </p:nvSpPr>
          <p:spPr>
            <a:xfrm>
              <a:off x="3200040" y="4266360"/>
              <a:ext cx="11160" cy="151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7" name=""/>
            <p:cNvSpPr/>
            <p:nvPr/>
          </p:nvSpPr>
          <p:spPr>
            <a:xfrm>
              <a:off x="3156120" y="4320720"/>
              <a:ext cx="49320" cy="6588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8" name=""/>
            <p:cNvSpPr/>
            <p:nvPr/>
          </p:nvSpPr>
          <p:spPr>
            <a:xfrm>
              <a:off x="3154320" y="4320720"/>
              <a:ext cx="15120" cy="93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9" name=""/>
            <p:cNvSpPr/>
            <p:nvPr/>
          </p:nvSpPr>
          <p:spPr>
            <a:xfrm>
              <a:off x="3197520" y="4375440"/>
              <a:ext cx="84960" cy="3168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0" name=""/>
            <p:cNvSpPr/>
            <p:nvPr/>
          </p:nvSpPr>
          <p:spPr>
            <a:xfrm>
              <a:off x="3192120" y="4375440"/>
              <a:ext cx="13320" cy="151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1" name=""/>
            <p:cNvSpPr/>
            <p:nvPr/>
          </p:nvSpPr>
          <p:spPr>
            <a:xfrm>
              <a:off x="3275640" y="4393800"/>
              <a:ext cx="84960" cy="756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2" name=""/>
            <p:cNvSpPr/>
            <p:nvPr/>
          </p:nvSpPr>
          <p:spPr>
            <a:xfrm>
              <a:off x="3275640" y="4392360"/>
              <a:ext cx="9360" cy="15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3" name=""/>
            <p:cNvSpPr/>
            <p:nvPr/>
          </p:nvSpPr>
          <p:spPr>
            <a:xfrm>
              <a:off x="3350880" y="4458240"/>
              <a:ext cx="98280" cy="8244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4" name=""/>
            <p:cNvSpPr/>
            <p:nvPr/>
          </p:nvSpPr>
          <p:spPr>
            <a:xfrm>
              <a:off x="3350880" y="445824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5" name=""/>
            <p:cNvSpPr/>
            <p:nvPr/>
          </p:nvSpPr>
          <p:spPr>
            <a:xfrm>
              <a:off x="3441600" y="4529520"/>
              <a:ext cx="117360" cy="6372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6" name=""/>
            <p:cNvSpPr/>
            <p:nvPr/>
          </p:nvSpPr>
          <p:spPr>
            <a:xfrm>
              <a:off x="3439800" y="452952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7" name=""/>
            <p:cNvSpPr/>
            <p:nvPr/>
          </p:nvSpPr>
          <p:spPr>
            <a:xfrm>
              <a:off x="3551400" y="4580640"/>
              <a:ext cx="155520" cy="7668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8" name=""/>
            <p:cNvSpPr/>
            <p:nvPr/>
          </p:nvSpPr>
          <p:spPr>
            <a:xfrm>
              <a:off x="3551400" y="4580640"/>
              <a:ext cx="7920" cy="126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9" name=""/>
            <p:cNvSpPr/>
            <p:nvPr/>
          </p:nvSpPr>
          <p:spPr>
            <a:xfrm>
              <a:off x="3700800" y="4642920"/>
              <a:ext cx="130680" cy="6156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0" name=""/>
            <p:cNvSpPr/>
            <p:nvPr/>
          </p:nvSpPr>
          <p:spPr>
            <a:xfrm>
              <a:off x="3699360" y="4642920"/>
              <a:ext cx="7920" cy="14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1" name=""/>
            <p:cNvSpPr/>
            <p:nvPr/>
          </p:nvSpPr>
          <p:spPr>
            <a:xfrm>
              <a:off x="3827520" y="4690080"/>
              <a:ext cx="115200" cy="5004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2" name=""/>
            <p:cNvSpPr/>
            <p:nvPr/>
          </p:nvSpPr>
          <p:spPr>
            <a:xfrm>
              <a:off x="3827520" y="4690080"/>
              <a:ext cx="3960" cy="144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3" name=""/>
            <p:cNvSpPr/>
            <p:nvPr/>
          </p:nvSpPr>
          <p:spPr>
            <a:xfrm>
              <a:off x="3937320" y="4727520"/>
              <a:ext cx="66240" cy="5256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4" name=""/>
            <p:cNvSpPr/>
            <p:nvPr/>
          </p:nvSpPr>
          <p:spPr>
            <a:xfrm>
              <a:off x="3937320" y="4725360"/>
              <a:ext cx="7920" cy="151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5" name=""/>
            <p:cNvSpPr/>
            <p:nvPr/>
          </p:nvSpPr>
          <p:spPr>
            <a:xfrm>
              <a:off x="3980880" y="4770720"/>
              <a:ext cx="26280" cy="5400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6" name=""/>
            <p:cNvSpPr/>
            <p:nvPr/>
          </p:nvSpPr>
          <p:spPr>
            <a:xfrm>
              <a:off x="3992760" y="4766760"/>
              <a:ext cx="14400" cy="133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7" name=""/>
            <p:cNvSpPr/>
            <p:nvPr/>
          </p:nvSpPr>
          <p:spPr>
            <a:xfrm>
              <a:off x="3980880" y="4825080"/>
              <a:ext cx="20520" cy="547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8" name=""/>
            <p:cNvSpPr/>
            <p:nvPr/>
          </p:nvSpPr>
          <p:spPr>
            <a:xfrm>
              <a:off x="3980880" y="482328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9" name=""/>
            <p:cNvSpPr/>
            <p:nvPr/>
          </p:nvSpPr>
          <p:spPr>
            <a:xfrm>
              <a:off x="3992760" y="4851360"/>
              <a:ext cx="56160" cy="3384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0" name=""/>
            <p:cNvSpPr/>
            <p:nvPr/>
          </p:nvSpPr>
          <p:spPr>
            <a:xfrm>
              <a:off x="3987000" y="4870440"/>
              <a:ext cx="14400" cy="18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1" name=""/>
            <p:cNvSpPr/>
            <p:nvPr/>
          </p:nvSpPr>
          <p:spPr>
            <a:xfrm>
              <a:off x="4040280" y="4851360"/>
              <a:ext cx="12600" cy="151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2" name=""/>
            <p:cNvSpPr/>
            <p:nvPr/>
          </p:nvSpPr>
          <p:spPr>
            <a:xfrm>
              <a:off x="3746520" y="4848120"/>
              <a:ext cx="156960" cy="5436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3" name=""/>
            <p:cNvSpPr/>
            <p:nvPr/>
          </p:nvSpPr>
          <p:spPr>
            <a:xfrm>
              <a:off x="3638880" y="4842000"/>
              <a:ext cx="113040" cy="2052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4" name=""/>
            <p:cNvSpPr/>
            <p:nvPr/>
          </p:nvSpPr>
          <p:spPr>
            <a:xfrm>
              <a:off x="3746520" y="4848120"/>
              <a:ext cx="5400" cy="14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5" name=""/>
            <p:cNvSpPr/>
            <p:nvPr/>
          </p:nvSpPr>
          <p:spPr>
            <a:xfrm>
              <a:off x="3536280" y="4777920"/>
              <a:ext cx="102600" cy="8460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6" name=""/>
            <p:cNvSpPr/>
            <p:nvPr/>
          </p:nvSpPr>
          <p:spPr>
            <a:xfrm>
              <a:off x="3636720" y="4848120"/>
              <a:ext cx="2160" cy="144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7" name=""/>
            <p:cNvSpPr/>
            <p:nvPr/>
          </p:nvSpPr>
          <p:spPr>
            <a:xfrm>
              <a:off x="3392640" y="4738680"/>
              <a:ext cx="149040" cy="5436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8" name=""/>
            <p:cNvSpPr/>
            <p:nvPr/>
          </p:nvSpPr>
          <p:spPr>
            <a:xfrm>
              <a:off x="3536280" y="4777920"/>
              <a:ext cx="5400" cy="1512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9" name=""/>
            <p:cNvSpPr/>
            <p:nvPr/>
          </p:nvSpPr>
          <p:spPr>
            <a:xfrm>
              <a:off x="3345120" y="4654080"/>
              <a:ext cx="56880" cy="957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0" name=""/>
            <p:cNvSpPr/>
            <p:nvPr/>
          </p:nvSpPr>
          <p:spPr>
            <a:xfrm>
              <a:off x="3392640" y="4738680"/>
              <a:ext cx="9360" cy="11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1" name=""/>
            <p:cNvSpPr/>
            <p:nvPr/>
          </p:nvSpPr>
          <p:spPr>
            <a:xfrm>
              <a:off x="3205440" y="4554360"/>
              <a:ext cx="153000" cy="10692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2" name=""/>
            <p:cNvSpPr/>
            <p:nvPr/>
          </p:nvSpPr>
          <p:spPr>
            <a:xfrm>
              <a:off x="3345120" y="4651920"/>
              <a:ext cx="13320" cy="9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3" name=""/>
            <p:cNvSpPr/>
            <p:nvPr/>
          </p:nvSpPr>
          <p:spPr>
            <a:xfrm>
              <a:off x="3070800" y="4354920"/>
              <a:ext cx="147240" cy="20664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205440" y="4554360"/>
              <a:ext cx="12600" cy="72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67920" y="4695480"/>
              <a:ext cx="81000" cy="13140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182400" y="4290840"/>
              <a:ext cx="104040" cy="10296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175200" y="4282920"/>
              <a:ext cx="36000" cy="7344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3207240" y="4282920"/>
              <a:ext cx="77760" cy="5256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3205440" y="4282920"/>
              <a:ext cx="5400" cy="1656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3256200" y="4328280"/>
              <a:ext cx="37440" cy="7092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3271680" y="4328280"/>
              <a:ext cx="15120" cy="7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2" name=""/>
            <p:cNvSpPr/>
            <p:nvPr/>
          </p:nvSpPr>
          <p:spPr>
            <a:xfrm>
              <a:off x="3182400" y="4349160"/>
              <a:ext cx="79200" cy="5256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3" name=""/>
            <p:cNvSpPr/>
            <p:nvPr/>
          </p:nvSpPr>
          <p:spPr>
            <a:xfrm>
              <a:off x="3256200" y="4385160"/>
              <a:ext cx="7560" cy="165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4" name=""/>
            <p:cNvSpPr/>
            <p:nvPr/>
          </p:nvSpPr>
          <p:spPr>
            <a:xfrm>
              <a:off x="3182400" y="4349160"/>
              <a:ext cx="15120" cy="7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5" name=""/>
          <p:cNvGrpSpPr/>
          <p:nvPr/>
        </p:nvGrpSpPr>
        <p:grpSpPr>
          <a:xfrm>
            <a:off x="2556000" y="4508640"/>
            <a:ext cx="1158840" cy="733320"/>
            <a:chOff x="2556000" y="4508640"/>
            <a:chExt cx="1158840" cy="733320"/>
          </a:xfrm>
        </p:grpSpPr>
        <p:sp>
          <p:nvSpPr>
            <p:cNvPr id="10196" name=""/>
            <p:cNvSpPr/>
            <p:nvPr/>
          </p:nvSpPr>
          <p:spPr>
            <a:xfrm>
              <a:off x="2611440" y="4825800"/>
              <a:ext cx="1440" cy="1332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26"/>
                  </a:moveTo>
                  <a:lnTo>
                    <a:pt x="3" y="26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7" name=""/>
            <p:cNvSpPr/>
            <p:nvPr/>
          </p:nvSpPr>
          <p:spPr>
            <a:xfrm>
              <a:off x="2738880" y="4605840"/>
              <a:ext cx="148320" cy="76680"/>
            </a:xfrm>
            <a:custGeom>
              <a:avLst/>
              <a:gdLst/>
              <a:ahLst/>
              <a:rect l="l" t="t" r="r" b="b"/>
              <a:pathLst>
                <a:path w="262" h="148">
                  <a:moveTo>
                    <a:pt x="262" y="24"/>
                  </a:moveTo>
                  <a:lnTo>
                    <a:pt x="248" y="0"/>
                  </a:lnTo>
                  <a:lnTo>
                    <a:pt x="0" y="125"/>
                  </a:lnTo>
                  <a:lnTo>
                    <a:pt x="13" y="148"/>
                  </a:lnTo>
                  <a:lnTo>
                    <a:pt x="26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8" name=""/>
            <p:cNvSpPr/>
            <p:nvPr/>
          </p:nvSpPr>
          <p:spPr>
            <a:xfrm>
              <a:off x="2879280" y="4605840"/>
              <a:ext cx="7920" cy="12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9" name=""/>
            <p:cNvSpPr/>
            <p:nvPr/>
          </p:nvSpPr>
          <p:spPr>
            <a:xfrm>
              <a:off x="2617200" y="4671000"/>
              <a:ext cx="127080" cy="29520"/>
            </a:xfrm>
            <a:custGeom>
              <a:avLst/>
              <a:gdLst/>
              <a:ahLst/>
              <a:rect l="l" t="t" r="r" b="b"/>
              <a:pathLst>
                <a:path w="225" h="57">
                  <a:moveTo>
                    <a:pt x="225" y="23"/>
                  </a:moveTo>
                  <a:lnTo>
                    <a:pt x="218" y="0"/>
                  </a:lnTo>
                  <a:lnTo>
                    <a:pt x="0" y="33"/>
                  </a:lnTo>
                  <a:lnTo>
                    <a:pt x="7" y="57"/>
                  </a:lnTo>
                  <a:lnTo>
                    <a:pt x="225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0" name=""/>
            <p:cNvSpPr/>
            <p:nvPr/>
          </p:nvSpPr>
          <p:spPr>
            <a:xfrm>
              <a:off x="2738880" y="467100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1" name=""/>
            <p:cNvSpPr/>
            <p:nvPr/>
          </p:nvSpPr>
          <p:spPr>
            <a:xfrm>
              <a:off x="2617200" y="4687920"/>
              <a:ext cx="3600" cy="1224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7" y="24"/>
                  </a:moveTo>
                  <a:lnTo>
                    <a:pt x="3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2" name=""/>
            <p:cNvSpPr/>
            <p:nvPr/>
          </p:nvSpPr>
          <p:spPr>
            <a:xfrm>
              <a:off x="2569320" y="4529520"/>
              <a:ext cx="3960" cy="140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3" name=""/>
            <p:cNvSpPr/>
            <p:nvPr/>
          </p:nvSpPr>
          <p:spPr>
            <a:xfrm>
              <a:off x="2626560" y="451044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23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4" name=""/>
            <p:cNvSpPr/>
            <p:nvPr/>
          </p:nvSpPr>
          <p:spPr>
            <a:xfrm>
              <a:off x="2562120" y="469152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3" y="27"/>
                  </a:moveTo>
                  <a:lnTo>
                    <a:pt x="13" y="3"/>
                  </a:lnTo>
                  <a:lnTo>
                    <a:pt x="0" y="27"/>
                  </a:lnTo>
                  <a:lnTo>
                    <a:pt x="6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5" name=""/>
            <p:cNvSpPr/>
            <p:nvPr/>
          </p:nvSpPr>
          <p:spPr>
            <a:xfrm>
              <a:off x="2556000" y="456804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3"/>
                  </a:moveTo>
                  <a:lnTo>
                    <a:pt x="7" y="0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6" name=""/>
            <p:cNvSpPr/>
            <p:nvPr/>
          </p:nvSpPr>
          <p:spPr>
            <a:xfrm>
              <a:off x="2710080" y="4515480"/>
              <a:ext cx="72360" cy="381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0"/>
                  </a:moveTo>
                  <a:lnTo>
                    <a:pt x="14" y="74"/>
                  </a:lnTo>
                  <a:lnTo>
                    <a:pt x="128" y="23"/>
                  </a:lnTo>
                  <a:lnTo>
                    <a:pt x="11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7" name=""/>
            <p:cNvSpPr/>
            <p:nvPr/>
          </p:nvSpPr>
          <p:spPr>
            <a:xfrm>
              <a:off x="2710080" y="4539960"/>
              <a:ext cx="756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27"/>
                  </a:moveTo>
                  <a:lnTo>
                    <a:pt x="14" y="2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8" name=""/>
            <p:cNvSpPr/>
            <p:nvPr/>
          </p:nvSpPr>
          <p:spPr>
            <a:xfrm>
              <a:off x="2775240" y="4515480"/>
              <a:ext cx="7200" cy="11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9" name=""/>
            <p:cNvSpPr/>
            <p:nvPr/>
          </p:nvSpPr>
          <p:spPr>
            <a:xfrm>
              <a:off x="2835720" y="4625280"/>
              <a:ext cx="95040" cy="9432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168" y="24"/>
                  </a:moveTo>
                  <a:lnTo>
                    <a:pt x="151" y="31"/>
                  </a:lnTo>
                  <a:lnTo>
                    <a:pt x="138" y="37"/>
                  </a:lnTo>
                  <a:lnTo>
                    <a:pt x="128" y="47"/>
                  </a:lnTo>
                  <a:lnTo>
                    <a:pt x="118" y="54"/>
                  </a:lnTo>
                  <a:lnTo>
                    <a:pt x="101" y="74"/>
                  </a:lnTo>
                  <a:lnTo>
                    <a:pt x="87" y="94"/>
                  </a:lnTo>
                  <a:lnTo>
                    <a:pt x="74" y="115"/>
                  </a:lnTo>
                  <a:lnTo>
                    <a:pt x="61" y="138"/>
                  </a:lnTo>
                  <a:lnTo>
                    <a:pt x="50" y="148"/>
                  </a:lnTo>
                  <a:lnTo>
                    <a:pt x="40" y="158"/>
                  </a:lnTo>
                  <a:lnTo>
                    <a:pt x="30" y="172"/>
                  </a:lnTo>
                  <a:lnTo>
                    <a:pt x="17" y="182"/>
                  </a:lnTo>
                  <a:lnTo>
                    <a:pt x="0" y="158"/>
                  </a:lnTo>
                  <a:lnTo>
                    <a:pt x="14" y="152"/>
                  </a:lnTo>
                  <a:lnTo>
                    <a:pt x="20" y="141"/>
                  </a:lnTo>
                  <a:lnTo>
                    <a:pt x="30" y="131"/>
                  </a:lnTo>
                  <a:lnTo>
                    <a:pt x="37" y="121"/>
                  </a:lnTo>
                  <a:lnTo>
                    <a:pt x="50" y="101"/>
                  </a:lnTo>
                  <a:lnTo>
                    <a:pt x="64" y="81"/>
                  </a:lnTo>
                  <a:lnTo>
                    <a:pt x="81" y="58"/>
                  </a:lnTo>
                  <a:lnTo>
                    <a:pt x="97" y="37"/>
                  </a:lnTo>
                  <a:lnTo>
                    <a:pt x="111" y="27"/>
                  </a:lnTo>
                  <a:lnTo>
                    <a:pt x="124" y="17"/>
                  </a:lnTo>
                  <a:lnTo>
                    <a:pt x="141" y="7"/>
                  </a:lnTo>
                  <a:lnTo>
                    <a:pt x="158" y="0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0" name=""/>
            <p:cNvSpPr/>
            <p:nvPr/>
          </p:nvSpPr>
          <p:spPr>
            <a:xfrm>
              <a:off x="2925000" y="4625280"/>
              <a:ext cx="576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1" name=""/>
            <p:cNvSpPr/>
            <p:nvPr/>
          </p:nvSpPr>
          <p:spPr>
            <a:xfrm>
              <a:off x="2771280" y="4707000"/>
              <a:ext cx="74160" cy="1908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4"/>
                  </a:moveTo>
                  <a:lnTo>
                    <a:pt x="121" y="27"/>
                  </a:lnTo>
                  <a:lnTo>
                    <a:pt x="111" y="30"/>
                  </a:lnTo>
                  <a:lnTo>
                    <a:pt x="91" y="37"/>
                  </a:lnTo>
                  <a:lnTo>
                    <a:pt x="74" y="37"/>
                  </a:lnTo>
                  <a:lnTo>
                    <a:pt x="54" y="34"/>
                  </a:lnTo>
                  <a:lnTo>
                    <a:pt x="20" y="27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57" y="7"/>
                  </a:lnTo>
                  <a:lnTo>
                    <a:pt x="74" y="10"/>
                  </a:lnTo>
                  <a:lnTo>
                    <a:pt x="87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4" y="0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2" name=""/>
            <p:cNvSpPr/>
            <p:nvPr/>
          </p:nvSpPr>
          <p:spPr>
            <a:xfrm>
              <a:off x="2835720" y="470700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7" y="20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3" name=""/>
            <p:cNvSpPr/>
            <p:nvPr/>
          </p:nvSpPr>
          <p:spPr>
            <a:xfrm>
              <a:off x="2702520" y="4707000"/>
              <a:ext cx="70200" cy="5904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24"/>
                  </a:moveTo>
                  <a:lnTo>
                    <a:pt x="121" y="24"/>
                  </a:lnTo>
                  <a:lnTo>
                    <a:pt x="118" y="27"/>
                  </a:lnTo>
                  <a:lnTo>
                    <a:pt x="104" y="37"/>
                  </a:lnTo>
                  <a:lnTo>
                    <a:pt x="91" y="47"/>
                  </a:lnTo>
                  <a:lnTo>
                    <a:pt x="77" y="64"/>
                  </a:lnTo>
                  <a:lnTo>
                    <a:pt x="44" y="94"/>
                  </a:lnTo>
                  <a:lnTo>
                    <a:pt x="27" y="108"/>
                  </a:lnTo>
                  <a:lnTo>
                    <a:pt x="10" y="114"/>
                  </a:lnTo>
                  <a:lnTo>
                    <a:pt x="0" y="91"/>
                  </a:lnTo>
                  <a:lnTo>
                    <a:pt x="13" y="84"/>
                  </a:lnTo>
                  <a:lnTo>
                    <a:pt x="27" y="74"/>
                  </a:lnTo>
                  <a:lnTo>
                    <a:pt x="57" y="44"/>
                  </a:lnTo>
                  <a:lnTo>
                    <a:pt x="74" y="30"/>
                  </a:lnTo>
                  <a:lnTo>
                    <a:pt x="87" y="17"/>
                  </a:lnTo>
                  <a:lnTo>
                    <a:pt x="101" y="4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4" name=""/>
            <p:cNvSpPr/>
            <p:nvPr/>
          </p:nvSpPr>
          <p:spPr>
            <a:xfrm>
              <a:off x="2766960" y="4707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5" name=""/>
            <p:cNvSpPr/>
            <p:nvPr/>
          </p:nvSpPr>
          <p:spPr>
            <a:xfrm>
              <a:off x="2620800" y="4746960"/>
              <a:ext cx="85320" cy="2268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151" y="37"/>
                  </a:moveTo>
                  <a:lnTo>
                    <a:pt x="131" y="44"/>
                  </a:lnTo>
                  <a:lnTo>
                    <a:pt x="107" y="44"/>
                  </a:lnTo>
                  <a:lnTo>
                    <a:pt x="87" y="41"/>
                  </a:lnTo>
                  <a:lnTo>
                    <a:pt x="70" y="37"/>
                  </a:lnTo>
                  <a:lnTo>
                    <a:pt x="50" y="34"/>
                  </a:lnTo>
                  <a:lnTo>
                    <a:pt x="37" y="31"/>
                  </a:lnTo>
                  <a:lnTo>
                    <a:pt x="20" y="27"/>
                  </a:lnTo>
                  <a:lnTo>
                    <a:pt x="3" y="27"/>
                  </a:lnTo>
                  <a:lnTo>
                    <a:pt x="0" y="4"/>
                  </a:lnTo>
                  <a:lnTo>
                    <a:pt x="20" y="0"/>
                  </a:lnTo>
                  <a:lnTo>
                    <a:pt x="40" y="4"/>
                  </a:lnTo>
                  <a:lnTo>
                    <a:pt x="57" y="7"/>
                  </a:lnTo>
                  <a:lnTo>
                    <a:pt x="74" y="14"/>
                  </a:lnTo>
                  <a:lnTo>
                    <a:pt x="94" y="17"/>
                  </a:lnTo>
                  <a:lnTo>
                    <a:pt x="107" y="17"/>
                  </a:lnTo>
                  <a:lnTo>
                    <a:pt x="124" y="17"/>
                  </a:lnTo>
                  <a:lnTo>
                    <a:pt x="147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6" name=""/>
            <p:cNvSpPr/>
            <p:nvPr/>
          </p:nvSpPr>
          <p:spPr>
            <a:xfrm>
              <a:off x="2702520" y="4754520"/>
              <a:ext cx="576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7" y="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7" name=""/>
            <p:cNvSpPr/>
            <p:nvPr/>
          </p:nvSpPr>
          <p:spPr>
            <a:xfrm>
              <a:off x="2565360" y="4514040"/>
              <a:ext cx="1143000" cy="721080"/>
            </a:xfrm>
            <a:custGeom>
              <a:avLst/>
              <a:gdLst/>
              <a:ahLst/>
              <a:rect l="l" t="t" r="r" b="b"/>
              <a:pathLst>
                <a:path w="2018" h="1390">
                  <a:moveTo>
                    <a:pt x="1303" y="1306"/>
                  </a:moveTo>
                  <a:lnTo>
                    <a:pt x="1458" y="1369"/>
                  </a:lnTo>
                  <a:lnTo>
                    <a:pt x="1666" y="1390"/>
                  </a:lnTo>
                  <a:lnTo>
                    <a:pt x="1854" y="1326"/>
                  </a:lnTo>
                  <a:lnTo>
                    <a:pt x="1961" y="1222"/>
                  </a:lnTo>
                  <a:lnTo>
                    <a:pt x="2018" y="1097"/>
                  </a:lnTo>
                  <a:lnTo>
                    <a:pt x="2008" y="889"/>
                  </a:lnTo>
                  <a:lnTo>
                    <a:pt x="1884" y="735"/>
                  </a:lnTo>
                  <a:lnTo>
                    <a:pt x="1730" y="695"/>
                  </a:lnTo>
                  <a:lnTo>
                    <a:pt x="1532" y="641"/>
                  </a:lnTo>
                  <a:lnTo>
                    <a:pt x="1343" y="580"/>
                  </a:lnTo>
                  <a:lnTo>
                    <a:pt x="1149" y="507"/>
                  </a:lnTo>
                  <a:lnTo>
                    <a:pt x="1001" y="413"/>
                  </a:lnTo>
                  <a:lnTo>
                    <a:pt x="877" y="332"/>
                  </a:lnTo>
                  <a:lnTo>
                    <a:pt x="722" y="228"/>
                  </a:lnTo>
                  <a:lnTo>
                    <a:pt x="598" y="104"/>
                  </a:lnTo>
                  <a:lnTo>
                    <a:pt x="494" y="20"/>
                  </a:lnTo>
                  <a:lnTo>
                    <a:pt x="329" y="0"/>
                  </a:lnTo>
                  <a:lnTo>
                    <a:pt x="192" y="60"/>
                  </a:lnTo>
                  <a:lnTo>
                    <a:pt x="37" y="194"/>
                  </a:lnTo>
                  <a:lnTo>
                    <a:pt x="0" y="355"/>
                  </a:lnTo>
                  <a:lnTo>
                    <a:pt x="57" y="517"/>
                  </a:lnTo>
                  <a:lnTo>
                    <a:pt x="192" y="674"/>
                  </a:lnTo>
                  <a:lnTo>
                    <a:pt x="390" y="829"/>
                  </a:lnTo>
                  <a:lnTo>
                    <a:pt x="578" y="973"/>
                  </a:lnTo>
                  <a:lnTo>
                    <a:pt x="796" y="1118"/>
                  </a:lnTo>
                  <a:lnTo>
                    <a:pt x="1055" y="1222"/>
                  </a:lnTo>
                  <a:lnTo>
                    <a:pt x="1303" y="1306"/>
                  </a:lnTo>
                  <a:close/>
                </a:path>
              </a:pathLst>
            </a:custGeom>
            <a:solidFill>
              <a:srgbClr val="c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8" name=""/>
            <p:cNvSpPr/>
            <p:nvPr/>
          </p:nvSpPr>
          <p:spPr>
            <a:xfrm>
              <a:off x="3299760" y="5186520"/>
              <a:ext cx="95040" cy="45000"/>
            </a:xfrm>
            <a:custGeom>
              <a:avLst/>
              <a:gdLst/>
              <a:ahLst/>
              <a:rect l="l" t="t" r="r" b="b"/>
              <a:pathLst>
                <a:path w="168" h="87">
                  <a:moveTo>
                    <a:pt x="14" y="0"/>
                  </a:moveTo>
                  <a:lnTo>
                    <a:pt x="0" y="23"/>
                  </a:lnTo>
                  <a:lnTo>
                    <a:pt x="155" y="87"/>
                  </a:lnTo>
                  <a:lnTo>
                    <a:pt x="168" y="6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9" name=""/>
            <p:cNvSpPr/>
            <p:nvPr/>
          </p:nvSpPr>
          <p:spPr>
            <a:xfrm>
              <a:off x="3389040" y="5217840"/>
              <a:ext cx="119880" cy="24120"/>
            </a:xfrm>
            <a:custGeom>
              <a:avLst/>
              <a:gdLst/>
              <a:ahLst/>
              <a:rect l="l" t="t" r="r" b="b"/>
              <a:pathLst>
                <a:path w="212" h="47">
                  <a:moveTo>
                    <a:pt x="4" y="0"/>
                  </a:moveTo>
                  <a:lnTo>
                    <a:pt x="0" y="27"/>
                  </a:lnTo>
                  <a:lnTo>
                    <a:pt x="208" y="47"/>
                  </a:lnTo>
                  <a:lnTo>
                    <a:pt x="212" y="2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0" name=""/>
            <p:cNvSpPr/>
            <p:nvPr/>
          </p:nvSpPr>
          <p:spPr>
            <a:xfrm>
              <a:off x="3387600" y="521784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1" name=""/>
            <p:cNvSpPr/>
            <p:nvPr/>
          </p:nvSpPr>
          <p:spPr>
            <a:xfrm>
              <a:off x="3506760" y="5194800"/>
              <a:ext cx="110160" cy="471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64"/>
                  </a:moveTo>
                  <a:lnTo>
                    <a:pt x="7" y="91"/>
                  </a:lnTo>
                  <a:lnTo>
                    <a:pt x="195" y="27"/>
                  </a:lnTo>
                  <a:lnTo>
                    <a:pt x="18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2" name=""/>
            <p:cNvSpPr/>
            <p:nvPr/>
          </p:nvSpPr>
          <p:spPr>
            <a:xfrm>
              <a:off x="3506760" y="5227920"/>
              <a:ext cx="396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3" name=""/>
            <p:cNvSpPr/>
            <p:nvPr/>
          </p:nvSpPr>
          <p:spPr>
            <a:xfrm>
              <a:off x="3610080" y="5142960"/>
              <a:ext cx="70200" cy="640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104"/>
                  </a:moveTo>
                  <a:lnTo>
                    <a:pt x="17" y="124"/>
                  </a:lnTo>
                  <a:lnTo>
                    <a:pt x="124" y="20"/>
                  </a:lnTo>
                  <a:lnTo>
                    <a:pt x="107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4" name=""/>
            <p:cNvSpPr/>
            <p:nvPr/>
          </p:nvSpPr>
          <p:spPr>
            <a:xfrm>
              <a:off x="3610080" y="519480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7"/>
                  </a:moveTo>
                  <a:lnTo>
                    <a:pt x="17" y="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5" name=""/>
            <p:cNvSpPr/>
            <p:nvPr/>
          </p:nvSpPr>
          <p:spPr>
            <a:xfrm>
              <a:off x="3668760" y="5079960"/>
              <a:ext cx="45720" cy="709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0" y="124"/>
                  </a:moveTo>
                  <a:lnTo>
                    <a:pt x="23" y="137"/>
                  </a:lnTo>
                  <a:lnTo>
                    <a:pt x="81" y="13"/>
                  </a:lnTo>
                  <a:lnTo>
                    <a:pt x="57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6" name=""/>
            <p:cNvSpPr/>
            <p:nvPr/>
          </p:nvSpPr>
          <p:spPr>
            <a:xfrm>
              <a:off x="3668760" y="5142960"/>
              <a:ext cx="12960" cy="100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7" name=""/>
            <p:cNvSpPr/>
            <p:nvPr/>
          </p:nvSpPr>
          <p:spPr>
            <a:xfrm>
              <a:off x="3695760" y="4975200"/>
              <a:ext cx="19080" cy="10800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0" y="208"/>
                  </a:moveTo>
                  <a:lnTo>
                    <a:pt x="34" y="2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8" name=""/>
            <p:cNvSpPr/>
            <p:nvPr/>
          </p:nvSpPr>
          <p:spPr>
            <a:xfrm>
              <a:off x="3701160" y="5079960"/>
              <a:ext cx="13320" cy="64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9" name=""/>
            <p:cNvSpPr/>
            <p:nvPr/>
          </p:nvSpPr>
          <p:spPr>
            <a:xfrm>
              <a:off x="3627000" y="4891680"/>
              <a:ext cx="81360" cy="885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124" y="171"/>
                  </a:moveTo>
                  <a:lnTo>
                    <a:pt x="144" y="155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12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0" name=""/>
            <p:cNvSpPr/>
            <p:nvPr/>
          </p:nvSpPr>
          <p:spPr>
            <a:xfrm>
              <a:off x="3695760" y="4972320"/>
              <a:ext cx="12960" cy="82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6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1" name=""/>
            <p:cNvSpPr/>
            <p:nvPr/>
          </p:nvSpPr>
          <p:spPr>
            <a:xfrm>
              <a:off x="3541320" y="4869000"/>
              <a:ext cx="92520" cy="33120"/>
            </a:xfrm>
            <a:custGeom>
              <a:avLst/>
              <a:gdLst/>
              <a:ahLst/>
              <a:rect l="l" t="t" r="r" b="b"/>
              <a:pathLst>
                <a:path w="164" h="64">
                  <a:moveTo>
                    <a:pt x="154" y="64"/>
                  </a:moveTo>
                  <a:lnTo>
                    <a:pt x="16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2" name=""/>
            <p:cNvSpPr/>
            <p:nvPr/>
          </p:nvSpPr>
          <p:spPr>
            <a:xfrm>
              <a:off x="3627000" y="4890240"/>
              <a:ext cx="11160" cy="118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3"/>
                  </a:moveTo>
                  <a:lnTo>
                    <a:pt x="20" y="0"/>
                  </a:ln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3" name=""/>
            <p:cNvSpPr/>
            <p:nvPr/>
          </p:nvSpPr>
          <p:spPr>
            <a:xfrm>
              <a:off x="3429360" y="4841640"/>
              <a:ext cx="117720" cy="39600"/>
            </a:xfrm>
            <a:custGeom>
              <a:avLst/>
              <a:gdLst/>
              <a:ahLst/>
              <a:rect l="l" t="t" r="r" b="b"/>
              <a:pathLst>
                <a:path w="208" h="77">
                  <a:moveTo>
                    <a:pt x="198" y="77"/>
                  </a:moveTo>
                  <a:lnTo>
                    <a:pt x="208" y="5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19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4" name=""/>
            <p:cNvSpPr/>
            <p:nvPr/>
          </p:nvSpPr>
          <p:spPr>
            <a:xfrm>
              <a:off x="3541320" y="4869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0"/>
                  </a:move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5" name=""/>
            <p:cNvSpPr/>
            <p:nvPr/>
          </p:nvSpPr>
          <p:spPr>
            <a:xfrm>
              <a:off x="3322800" y="4809960"/>
              <a:ext cx="111960" cy="4320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88" y="84"/>
                  </a:moveTo>
                  <a:lnTo>
                    <a:pt x="198" y="6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6" name=""/>
            <p:cNvSpPr/>
            <p:nvPr/>
          </p:nvSpPr>
          <p:spPr>
            <a:xfrm>
              <a:off x="3429360" y="48416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23"/>
                  </a:moveTo>
                  <a:lnTo>
                    <a:pt x="1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7" name=""/>
            <p:cNvSpPr/>
            <p:nvPr/>
          </p:nvSpPr>
          <p:spPr>
            <a:xfrm>
              <a:off x="3212280" y="4771440"/>
              <a:ext cx="115920" cy="50760"/>
            </a:xfrm>
            <a:custGeom>
              <a:avLst/>
              <a:gdLst/>
              <a:ahLst/>
              <a:rect l="l" t="t" r="r" b="b"/>
              <a:pathLst>
                <a:path w="205" h="98">
                  <a:moveTo>
                    <a:pt x="195" y="98"/>
                  </a:moveTo>
                  <a:lnTo>
                    <a:pt x="205" y="7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9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8" name=""/>
            <p:cNvSpPr/>
            <p:nvPr/>
          </p:nvSpPr>
          <p:spPr>
            <a:xfrm>
              <a:off x="3322800" y="480996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9" name=""/>
            <p:cNvSpPr/>
            <p:nvPr/>
          </p:nvSpPr>
          <p:spPr>
            <a:xfrm>
              <a:off x="3126960" y="4722840"/>
              <a:ext cx="92520" cy="5940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48" y="115"/>
                  </a:moveTo>
                  <a:lnTo>
                    <a:pt x="164" y="94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4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0" name=""/>
            <p:cNvSpPr/>
            <p:nvPr/>
          </p:nvSpPr>
          <p:spPr>
            <a:xfrm>
              <a:off x="3210840" y="4771440"/>
              <a:ext cx="8640" cy="122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24"/>
                  </a:moveTo>
                  <a:lnTo>
                    <a:pt x="0" y="2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1" name=""/>
            <p:cNvSpPr/>
            <p:nvPr/>
          </p:nvSpPr>
          <p:spPr>
            <a:xfrm>
              <a:off x="3056400" y="4681080"/>
              <a:ext cx="79560" cy="52200"/>
            </a:xfrm>
            <a:custGeom>
              <a:avLst/>
              <a:gdLst/>
              <a:ahLst/>
              <a:rect l="l" t="t" r="r" b="b"/>
              <a:pathLst>
                <a:path w="141" h="101">
                  <a:moveTo>
                    <a:pt x="124" y="101"/>
                  </a:moveTo>
                  <a:lnTo>
                    <a:pt x="141" y="80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1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3126960" y="4722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3" name=""/>
            <p:cNvSpPr/>
            <p:nvPr/>
          </p:nvSpPr>
          <p:spPr>
            <a:xfrm>
              <a:off x="2968920" y="4627080"/>
              <a:ext cx="96840" cy="6408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55" y="124"/>
                  </a:moveTo>
                  <a:lnTo>
                    <a:pt x="171" y="10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4" name=""/>
            <p:cNvSpPr/>
            <p:nvPr/>
          </p:nvSpPr>
          <p:spPr>
            <a:xfrm>
              <a:off x="3056400" y="4681080"/>
              <a:ext cx="900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0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5" name=""/>
            <p:cNvSpPr/>
            <p:nvPr/>
          </p:nvSpPr>
          <p:spPr>
            <a:xfrm>
              <a:off x="2898720" y="4563000"/>
              <a:ext cx="79560" cy="7452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144"/>
                  </a:moveTo>
                  <a:lnTo>
                    <a:pt x="141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6" name=""/>
            <p:cNvSpPr/>
            <p:nvPr/>
          </p:nvSpPr>
          <p:spPr>
            <a:xfrm>
              <a:off x="2968920" y="4627080"/>
              <a:ext cx="9360" cy="10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7" name=""/>
            <p:cNvSpPr/>
            <p:nvPr/>
          </p:nvSpPr>
          <p:spPr>
            <a:xfrm>
              <a:off x="2839680" y="4519440"/>
              <a:ext cx="68400" cy="540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04" y="104"/>
                  </a:moveTo>
                  <a:lnTo>
                    <a:pt x="121" y="8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8" name=""/>
            <p:cNvSpPr/>
            <p:nvPr/>
          </p:nvSpPr>
          <p:spPr>
            <a:xfrm>
              <a:off x="2898720" y="45630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2751840" y="4508640"/>
              <a:ext cx="93240" cy="2268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65" y="44"/>
                  </a:moveTo>
                  <a:lnTo>
                    <a:pt x="165" y="2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2839680" y="4519440"/>
              <a:ext cx="9360" cy="118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0" y="0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2670120" y="4508640"/>
              <a:ext cx="85320" cy="4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51" y="24"/>
                  </a:moveTo>
                  <a:lnTo>
                    <a:pt x="138" y="0"/>
                  </a:lnTo>
                  <a:lnTo>
                    <a:pt x="0" y="61"/>
                  </a:lnTo>
                  <a:lnTo>
                    <a:pt x="13" y="84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2748600" y="4508640"/>
              <a:ext cx="7200" cy="12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6" y="0"/>
                  </a:moveTo>
                  <a:lnTo>
                    <a:pt x="0" y="0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2580840" y="4539960"/>
              <a:ext cx="96840" cy="795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171" y="20"/>
                  </a:moveTo>
                  <a:lnTo>
                    <a:pt x="155" y="0"/>
                  </a:lnTo>
                  <a:lnTo>
                    <a:pt x="0" y="134"/>
                  </a:lnTo>
                  <a:lnTo>
                    <a:pt x="17" y="154"/>
                  </a:lnTo>
                  <a:lnTo>
                    <a:pt x="1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2668680" y="4539960"/>
              <a:ext cx="8640" cy="118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3" y="0"/>
                  </a:moveTo>
                  <a:lnTo>
                    <a:pt x="0" y="0"/>
                  </a:lnTo>
                  <a:lnTo>
                    <a:pt x="16" y="20"/>
                  </a:lnTo>
                  <a:lnTo>
                    <a:pt x="16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2558160" y="4613040"/>
              <a:ext cx="36000" cy="84960"/>
            </a:xfrm>
            <a:custGeom>
              <a:avLst/>
              <a:gdLst/>
              <a:ahLst/>
              <a:rect l="l" t="t" r="r" b="b"/>
              <a:pathLst>
                <a:path w="64" h="164">
                  <a:moveTo>
                    <a:pt x="64" y="3"/>
                  </a:moveTo>
                  <a:lnTo>
                    <a:pt x="37" y="0"/>
                  </a:lnTo>
                  <a:lnTo>
                    <a:pt x="0" y="161"/>
                  </a:lnTo>
                  <a:lnTo>
                    <a:pt x="27" y="164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6" name=""/>
            <p:cNvSpPr/>
            <p:nvPr/>
          </p:nvSpPr>
          <p:spPr>
            <a:xfrm>
              <a:off x="2579040" y="4609800"/>
              <a:ext cx="15120" cy="100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3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27" y="10"/>
                  </a:lnTo>
                  <a:lnTo>
                    <a:pt x="20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7" name=""/>
            <p:cNvSpPr/>
            <p:nvPr/>
          </p:nvSpPr>
          <p:spPr>
            <a:xfrm>
              <a:off x="2558160" y="4696560"/>
              <a:ext cx="47520" cy="8712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27" y="0"/>
                  </a:moveTo>
                  <a:lnTo>
                    <a:pt x="0" y="7"/>
                  </a:lnTo>
                  <a:lnTo>
                    <a:pt x="57" y="168"/>
                  </a:lnTo>
                  <a:lnTo>
                    <a:pt x="84" y="16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8" name=""/>
            <p:cNvSpPr/>
            <p:nvPr/>
          </p:nvSpPr>
          <p:spPr>
            <a:xfrm>
              <a:off x="2558160" y="469656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9" name=""/>
            <p:cNvSpPr/>
            <p:nvPr/>
          </p:nvSpPr>
          <p:spPr>
            <a:xfrm>
              <a:off x="2592000" y="4778640"/>
              <a:ext cx="87480" cy="9000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20" y="0"/>
                  </a:moveTo>
                  <a:lnTo>
                    <a:pt x="0" y="17"/>
                  </a:lnTo>
                  <a:lnTo>
                    <a:pt x="135" y="174"/>
                  </a:lnTo>
                  <a:lnTo>
                    <a:pt x="155" y="1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0" name=""/>
            <p:cNvSpPr/>
            <p:nvPr/>
          </p:nvSpPr>
          <p:spPr>
            <a:xfrm>
              <a:off x="2590200" y="477864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1" name=""/>
            <p:cNvSpPr/>
            <p:nvPr/>
          </p:nvSpPr>
          <p:spPr>
            <a:xfrm>
              <a:off x="2668680" y="4858560"/>
              <a:ext cx="121680" cy="9072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16" y="0"/>
                  </a:moveTo>
                  <a:lnTo>
                    <a:pt x="0" y="20"/>
                  </a:lnTo>
                  <a:lnTo>
                    <a:pt x="198" y="175"/>
                  </a:lnTo>
                  <a:lnTo>
                    <a:pt x="215" y="15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2" name=""/>
            <p:cNvSpPr/>
            <p:nvPr/>
          </p:nvSpPr>
          <p:spPr>
            <a:xfrm>
              <a:off x="2668680" y="4858560"/>
              <a:ext cx="11160" cy="10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3" name=""/>
            <p:cNvSpPr/>
            <p:nvPr/>
          </p:nvSpPr>
          <p:spPr>
            <a:xfrm>
              <a:off x="2780640" y="4939200"/>
              <a:ext cx="115920" cy="84960"/>
            </a:xfrm>
            <a:custGeom>
              <a:avLst/>
              <a:gdLst/>
              <a:ahLst/>
              <a:rect l="l" t="t" r="r" b="b"/>
              <a:pathLst>
                <a:path w="205" h="164">
                  <a:moveTo>
                    <a:pt x="17" y="0"/>
                  </a:moveTo>
                  <a:lnTo>
                    <a:pt x="0" y="20"/>
                  </a:lnTo>
                  <a:lnTo>
                    <a:pt x="188" y="164"/>
                  </a:lnTo>
                  <a:lnTo>
                    <a:pt x="205" y="1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4" name=""/>
            <p:cNvSpPr/>
            <p:nvPr/>
          </p:nvSpPr>
          <p:spPr>
            <a:xfrm>
              <a:off x="2780640" y="49392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5" name=""/>
            <p:cNvSpPr/>
            <p:nvPr/>
          </p:nvSpPr>
          <p:spPr>
            <a:xfrm>
              <a:off x="2889000" y="5013720"/>
              <a:ext cx="131400" cy="8712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14" y="0"/>
                  </a:moveTo>
                  <a:lnTo>
                    <a:pt x="0" y="24"/>
                  </a:lnTo>
                  <a:lnTo>
                    <a:pt x="218" y="168"/>
                  </a:lnTo>
                  <a:lnTo>
                    <a:pt x="232" y="14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6" name=""/>
            <p:cNvSpPr/>
            <p:nvPr/>
          </p:nvSpPr>
          <p:spPr>
            <a:xfrm>
              <a:off x="2887200" y="50137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7" name=""/>
            <p:cNvSpPr/>
            <p:nvPr/>
          </p:nvSpPr>
          <p:spPr>
            <a:xfrm>
              <a:off x="3012480" y="5088960"/>
              <a:ext cx="153720" cy="65880"/>
            </a:xfrm>
            <a:custGeom>
              <a:avLst/>
              <a:gdLst/>
              <a:ahLst/>
              <a:rect l="l" t="t" r="r" b="b"/>
              <a:pathLst>
                <a:path w="272" h="127">
                  <a:moveTo>
                    <a:pt x="14" y="0"/>
                  </a:moveTo>
                  <a:lnTo>
                    <a:pt x="0" y="23"/>
                  </a:lnTo>
                  <a:lnTo>
                    <a:pt x="259" y="127"/>
                  </a:lnTo>
                  <a:lnTo>
                    <a:pt x="272" y="10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8" name=""/>
            <p:cNvSpPr/>
            <p:nvPr/>
          </p:nvSpPr>
          <p:spPr>
            <a:xfrm>
              <a:off x="3012480" y="5088960"/>
              <a:ext cx="756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9" name=""/>
            <p:cNvSpPr/>
            <p:nvPr/>
          </p:nvSpPr>
          <p:spPr>
            <a:xfrm>
              <a:off x="3160800" y="5140800"/>
              <a:ext cx="144720" cy="57600"/>
            </a:xfrm>
            <a:custGeom>
              <a:avLst/>
              <a:gdLst/>
              <a:ahLst/>
              <a:rect l="l" t="t" r="r" b="b"/>
              <a:pathLst>
                <a:path w="256" h="111">
                  <a:moveTo>
                    <a:pt x="7" y="0"/>
                  </a:moveTo>
                  <a:lnTo>
                    <a:pt x="0" y="27"/>
                  </a:lnTo>
                  <a:lnTo>
                    <a:pt x="249" y="111"/>
                  </a:lnTo>
                  <a:lnTo>
                    <a:pt x="25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0" name=""/>
            <p:cNvSpPr/>
            <p:nvPr/>
          </p:nvSpPr>
          <p:spPr>
            <a:xfrm>
              <a:off x="3159360" y="514080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1" name=""/>
            <p:cNvSpPr/>
            <p:nvPr/>
          </p:nvSpPr>
          <p:spPr>
            <a:xfrm>
              <a:off x="3299760" y="5184360"/>
              <a:ext cx="79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2" name=""/>
            <p:cNvSpPr/>
            <p:nvPr/>
          </p:nvSpPr>
          <p:spPr>
            <a:xfrm>
              <a:off x="2687400" y="4550400"/>
              <a:ext cx="950760" cy="581400"/>
            </a:xfrm>
            <a:custGeom>
              <a:avLst/>
              <a:gdLst/>
              <a:ahLst/>
              <a:rect l="l" t="t" r="r" b="b"/>
              <a:pathLst>
                <a:path w="1679" h="1121">
                  <a:moveTo>
                    <a:pt x="1535" y="1121"/>
                  </a:moveTo>
                  <a:lnTo>
                    <a:pt x="1669" y="1007"/>
                  </a:lnTo>
                  <a:lnTo>
                    <a:pt x="1679" y="843"/>
                  </a:lnTo>
                  <a:lnTo>
                    <a:pt x="1585" y="719"/>
                  </a:lnTo>
                  <a:lnTo>
                    <a:pt x="1286" y="625"/>
                  </a:lnTo>
                  <a:lnTo>
                    <a:pt x="994" y="527"/>
                  </a:lnTo>
                  <a:lnTo>
                    <a:pt x="715" y="386"/>
                  </a:lnTo>
                  <a:lnTo>
                    <a:pt x="527" y="238"/>
                  </a:lnTo>
                  <a:lnTo>
                    <a:pt x="346" y="118"/>
                  </a:lnTo>
                  <a:lnTo>
                    <a:pt x="229" y="0"/>
                  </a:lnTo>
                  <a:lnTo>
                    <a:pt x="81" y="44"/>
                  </a:lnTo>
                  <a:lnTo>
                    <a:pt x="0" y="168"/>
                  </a:lnTo>
                  <a:lnTo>
                    <a:pt x="20" y="343"/>
                  </a:lnTo>
                  <a:lnTo>
                    <a:pt x="155" y="510"/>
                  </a:lnTo>
                  <a:lnTo>
                    <a:pt x="373" y="645"/>
                  </a:lnTo>
                  <a:lnTo>
                    <a:pt x="621" y="809"/>
                  </a:lnTo>
                  <a:lnTo>
                    <a:pt x="924" y="987"/>
                  </a:lnTo>
                  <a:lnTo>
                    <a:pt x="1202" y="1071"/>
                  </a:lnTo>
                  <a:lnTo>
                    <a:pt x="1535" y="1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3" name=""/>
            <p:cNvSpPr/>
            <p:nvPr/>
          </p:nvSpPr>
          <p:spPr>
            <a:xfrm>
              <a:off x="3551040" y="5067720"/>
              <a:ext cx="85320" cy="698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14"/>
                  </a:moveTo>
                  <a:lnTo>
                    <a:pt x="17" y="135"/>
                  </a:lnTo>
                  <a:lnTo>
                    <a:pt x="151" y="20"/>
                  </a:lnTo>
                  <a:lnTo>
                    <a:pt x="134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4" name=""/>
            <p:cNvSpPr/>
            <p:nvPr/>
          </p:nvSpPr>
          <p:spPr>
            <a:xfrm>
              <a:off x="3625200" y="4987800"/>
              <a:ext cx="18360" cy="84960"/>
            </a:xfrm>
            <a:custGeom>
              <a:avLst/>
              <a:gdLst/>
              <a:ahLst/>
              <a:rect l="l" t="t" r="r" b="b"/>
              <a:pathLst>
                <a:path w="33" h="164">
                  <a:moveTo>
                    <a:pt x="0" y="164"/>
                  </a:moveTo>
                  <a:lnTo>
                    <a:pt x="23" y="164"/>
                  </a:lnTo>
                  <a:lnTo>
                    <a:pt x="33" y="0"/>
                  </a:lnTo>
                  <a:lnTo>
                    <a:pt x="10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5" name=""/>
            <p:cNvSpPr/>
            <p:nvPr/>
          </p:nvSpPr>
          <p:spPr>
            <a:xfrm>
              <a:off x="3625200" y="5067720"/>
              <a:ext cx="12960" cy="104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0" y="20"/>
                  </a:moveTo>
                  <a:lnTo>
                    <a:pt x="23" y="1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6" name=""/>
            <p:cNvSpPr/>
            <p:nvPr/>
          </p:nvSpPr>
          <p:spPr>
            <a:xfrm>
              <a:off x="3579480" y="4919760"/>
              <a:ext cx="64440" cy="7272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94" y="141"/>
                  </a:moveTo>
                  <a:lnTo>
                    <a:pt x="114" y="124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94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7" name=""/>
            <p:cNvSpPr/>
            <p:nvPr/>
          </p:nvSpPr>
          <p:spPr>
            <a:xfrm>
              <a:off x="3630960" y="4984200"/>
              <a:ext cx="12960" cy="8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7"/>
                  </a:moveTo>
                  <a:lnTo>
                    <a:pt x="23" y="0"/>
                  </a:lnTo>
                  <a:lnTo>
                    <a:pt x="3" y="17"/>
                  </a:lnTo>
                  <a:lnTo>
                    <a:pt x="0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8" name=""/>
            <p:cNvSpPr/>
            <p:nvPr/>
          </p:nvSpPr>
          <p:spPr>
            <a:xfrm>
              <a:off x="3412440" y="4869000"/>
              <a:ext cx="174600" cy="61200"/>
            </a:xfrm>
            <a:custGeom>
              <a:avLst/>
              <a:gdLst/>
              <a:ahLst/>
              <a:rect l="l" t="t" r="r" b="b"/>
              <a:pathLst>
                <a:path w="309" h="118">
                  <a:moveTo>
                    <a:pt x="298" y="118"/>
                  </a:moveTo>
                  <a:lnTo>
                    <a:pt x="309" y="94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298" y="1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9" name=""/>
            <p:cNvSpPr/>
            <p:nvPr/>
          </p:nvSpPr>
          <p:spPr>
            <a:xfrm>
              <a:off x="3579480" y="491760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4" y="0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0" name=""/>
            <p:cNvSpPr/>
            <p:nvPr/>
          </p:nvSpPr>
          <p:spPr>
            <a:xfrm>
              <a:off x="3246480" y="4818600"/>
              <a:ext cx="171360" cy="62640"/>
            </a:xfrm>
            <a:custGeom>
              <a:avLst/>
              <a:gdLst/>
              <a:ahLst/>
              <a:rect l="l" t="t" r="r" b="b"/>
              <a:pathLst>
                <a:path w="303" h="121">
                  <a:moveTo>
                    <a:pt x="293" y="121"/>
                  </a:moveTo>
                  <a:lnTo>
                    <a:pt x="303" y="97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93" y="1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1" name=""/>
            <p:cNvSpPr/>
            <p:nvPr/>
          </p:nvSpPr>
          <p:spPr>
            <a:xfrm>
              <a:off x="3412440" y="486900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2" name=""/>
            <p:cNvSpPr/>
            <p:nvPr/>
          </p:nvSpPr>
          <p:spPr>
            <a:xfrm>
              <a:off x="3088800" y="4745520"/>
              <a:ext cx="165240" cy="85320"/>
            </a:xfrm>
            <a:custGeom>
              <a:avLst/>
              <a:gdLst/>
              <a:ahLst/>
              <a:rect l="l" t="t" r="r" b="b"/>
              <a:pathLst>
                <a:path w="292" h="165">
                  <a:moveTo>
                    <a:pt x="278" y="165"/>
                  </a:moveTo>
                  <a:lnTo>
                    <a:pt x="292" y="14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6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3" name=""/>
            <p:cNvSpPr/>
            <p:nvPr/>
          </p:nvSpPr>
          <p:spPr>
            <a:xfrm>
              <a:off x="3246480" y="4818600"/>
              <a:ext cx="7560" cy="12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4" name=""/>
            <p:cNvSpPr/>
            <p:nvPr/>
          </p:nvSpPr>
          <p:spPr>
            <a:xfrm>
              <a:off x="2980080" y="4668840"/>
              <a:ext cx="115920" cy="8712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188" y="168"/>
                  </a:moveTo>
                  <a:lnTo>
                    <a:pt x="205" y="148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8" y="16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5" name=""/>
            <p:cNvSpPr/>
            <p:nvPr/>
          </p:nvSpPr>
          <p:spPr>
            <a:xfrm>
              <a:off x="3086640" y="47455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6" name=""/>
            <p:cNvSpPr/>
            <p:nvPr/>
          </p:nvSpPr>
          <p:spPr>
            <a:xfrm>
              <a:off x="2877480" y="4605840"/>
              <a:ext cx="111960" cy="7344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1" y="142"/>
                  </a:moveTo>
                  <a:lnTo>
                    <a:pt x="198" y="121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181" y="1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7" name=""/>
            <p:cNvSpPr/>
            <p:nvPr/>
          </p:nvSpPr>
          <p:spPr>
            <a:xfrm>
              <a:off x="2980080" y="4668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8" name=""/>
            <p:cNvSpPr/>
            <p:nvPr/>
          </p:nvSpPr>
          <p:spPr>
            <a:xfrm>
              <a:off x="2810880" y="4545360"/>
              <a:ext cx="76320" cy="712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18" y="138"/>
                  </a:moveTo>
                  <a:lnTo>
                    <a:pt x="135" y="117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18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9" name=""/>
            <p:cNvSpPr/>
            <p:nvPr/>
          </p:nvSpPr>
          <p:spPr>
            <a:xfrm>
              <a:off x="2877480" y="4605840"/>
              <a:ext cx="9360" cy="108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0" name=""/>
            <p:cNvSpPr/>
            <p:nvPr/>
          </p:nvSpPr>
          <p:spPr>
            <a:xfrm>
              <a:off x="2729160" y="4545360"/>
              <a:ext cx="89280" cy="34560"/>
            </a:xfrm>
            <a:custGeom>
              <a:avLst/>
              <a:gdLst/>
              <a:ahLst/>
              <a:rect l="l" t="t" r="r" b="b"/>
              <a:pathLst>
                <a:path w="158" h="67">
                  <a:moveTo>
                    <a:pt x="158" y="23"/>
                  </a:moveTo>
                  <a:lnTo>
                    <a:pt x="148" y="0"/>
                  </a:lnTo>
                  <a:lnTo>
                    <a:pt x="0" y="44"/>
                  </a:lnTo>
                  <a:lnTo>
                    <a:pt x="10" y="67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1" name=""/>
            <p:cNvSpPr/>
            <p:nvPr/>
          </p:nvSpPr>
          <p:spPr>
            <a:xfrm>
              <a:off x="2810880" y="4543920"/>
              <a:ext cx="9360" cy="1332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7" y="3"/>
                  </a:moveTo>
                  <a:lnTo>
                    <a:pt x="14" y="0"/>
                  </a:lnTo>
                  <a:lnTo>
                    <a:pt x="4" y="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2" name=""/>
            <p:cNvSpPr/>
            <p:nvPr/>
          </p:nvSpPr>
          <p:spPr>
            <a:xfrm>
              <a:off x="2679840" y="4569480"/>
              <a:ext cx="58680" cy="7164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4" y="13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23" y="138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3" name=""/>
            <p:cNvSpPr/>
            <p:nvPr/>
          </p:nvSpPr>
          <p:spPr>
            <a:xfrm>
              <a:off x="2725200" y="4568040"/>
              <a:ext cx="13320" cy="118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" y="16"/>
                  </a:lnTo>
                  <a:lnTo>
                    <a:pt x="17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4" name=""/>
            <p:cNvSpPr/>
            <p:nvPr/>
          </p:nvSpPr>
          <p:spPr>
            <a:xfrm>
              <a:off x="2679840" y="4637520"/>
              <a:ext cx="26280" cy="92160"/>
            </a:xfrm>
            <a:custGeom>
              <a:avLst/>
              <a:gdLst/>
              <a:ahLst/>
              <a:rect l="l" t="t" r="r" b="b"/>
              <a:pathLst>
                <a:path w="47" h="178">
                  <a:moveTo>
                    <a:pt x="27" y="0"/>
                  </a:moveTo>
                  <a:lnTo>
                    <a:pt x="0" y="3"/>
                  </a:lnTo>
                  <a:lnTo>
                    <a:pt x="20" y="178"/>
                  </a:lnTo>
                  <a:lnTo>
                    <a:pt x="47" y="17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5" name=""/>
            <p:cNvSpPr/>
            <p:nvPr/>
          </p:nvSpPr>
          <p:spPr>
            <a:xfrm>
              <a:off x="2679840" y="4633920"/>
              <a:ext cx="15120" cy="720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6" name=""/>
            <p:cNvSpPr/>
            <p:nvPr/>
          </p:nvSpPr>
          <p:spPr>
            <a:xfrm>
              <a:off x="2692800" y="4725000"/>
              <a:ext cx="87840" cy="95400"/>
            </a:xfrm>
            <a:custGeom>
              <a:avLst/>
              <a:gdLst/>
              <a:ahLst/>
              <a:rect l="l" t="t" r="r" b="b"/>
              <a:pathLst>
                <a:path w="155" h="184">
                  <a:moveTo>
                    <a:pt x="20" y="0"/>
                  </a:moveTo>
                  <a:lnTo>
                    <a:pt x="0" y="17"/>
                  </a:lnTo>
                  <a:lnTo>
                    <a:pt x="135" y="184"/>
                  </a:lnTo>
                  <a:lnTo>
                    <a:pt x="155" y="16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7" name=""/>
            <p:cNvSpPr/>
            <p:nvPr/>
          </p:nvSpPr>
          <p:spPr>
            <a:xfrm>
              <a:off x="2691360" y="472500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8" name=""/>
            <p:cNvSpPr/>
            <p:nvPr/>
          </p:nvSpPr>
          <p:spPr>
            <a:xfrm>
              <a:off x="2771280" y="4809960"/>
              <a:ext cx="131400" cy="81720"/>
            </a:xfrm>
            <a:custGeom>
              <a:avLst/>
              <a:gdLst/>
              <a:ahLst/>
              <a:rect l="l" t="t" r="r" b="b"/>
              <a:pathLst>
                <a:path w="232" h="158">
                  <a:moveTo>
                    <a:pt x="13" y="0"/>
                  </a:moveTo>
                  <a:lnTo>
                    <a:pt x="0" y="24"/>
                  </a:lnTo>
                  <a:lnTo>
                    <a:pt x="218" y="158"/>
                  </a:lnTo>
                  <a:lnTo>
                    <a:pt x="232" y="13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9" name=""/>
            <p:cNvSpPr/>
            <p:nvPr/>
          </p:nvSpPr>
          <p:spPr>
            <a:xfrm>
              <a:off x="2769480" y="480996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0"/>
                  </a:moveTo>
                  <a:lnTo>
                    <a:pt x="3" y="2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0" name=""/>
            <p:cNvSpPr/>
            <p:nvPr/>
          </p:nvSpPr>
          <p:spPr>
            <a:xfrm>
              <a:off x="2894400" y="4879800"/>
              <a:ext cx="148320" cy="97200"/>
            </a:xfrm>
            <a:custGeom>
              <a:avLst/>
              <a:gdLst/>
              <a:ahLst/>
              <a:rect l="l" t="t" r="r" b="b"/>
              <a:pathLst>
                <a:path w="262" h="188">
                  <a:moveTo>
                    <a:pt x="14" y="0"/>
                  </a:moveTo>
                  <a:lnTo>
                    <a:pt x="0" y="23"/>
                  </a:lnTo>
                  <a:lnTo>
                    <a:pt x="249" y="188"/>
                  </a:lnTo>
                  <a:lnTo>
                    <a:pt x="262" y="16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1" name=""/>
            <p:cNvSpPr/>
            <p:nvPr/>
          </p:nvSpPr>
          <p:spPr>
            <a:xfrm>
              <a:off x="2894400" y="487980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0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2" name=""/>
            <p:cNvSpPr/>
            <p:nvPr/>
          </p:nvSpPr>
          <p:spPr>
            <a:xfrm>
              <a:off x="3035520" y="4965120"/>
              <a:ext cx="178200" cy="1047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13" y="0"/>
                  </a:moveTo>
                  <a:lnTo>
                    <a:pt x="0" y="24"/>
                  </a:lnTo>
                  <a:lnTo>
                    <a:pt x="302" y="202"/>
                  </a:lnTo>
                  <a:lnTo>
                    <a:pt x="315" y="17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3" name=""/>
            <p:cNvSpPr/>
            <p:nvPr/>
          </p:nvSpPr>
          <p:spPr>
            <a:xfrm>
              <a:off x="3035520" y="4965120"/>
              <a:ext cx="7200" cy="12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lnTo>
                    <a:pt x="13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4" name=""/>
            <p:cNvSpPr/>
            <p:nvPr/>
          </p:nvSpPr>
          <p:spPr>
            <a:xfrm>
              <a:off x="3208320" y="5055840"/>
              <a:ext cx="161640" cy="57240"/>
            </a:xfrm>
            <a:custGeom>
              <a:avLst/>
              <a:gdLst/>
              <a:ahLst/>
              <a:rect l="l" t="t" r="r" b="b"/>
              <a:pathLst>
                <a:path w="286" h="111">
                  <a:moveTo>
                    <a:pt x="7" y="0"/>
                  </a:moveTo>
                  <a:lnTo>
                    <a:pt x="0" y="27"/>
                  </a:lnTo>
                  <a:lnTo>
                    <a:pt x="279" y="111"/>
                  </a:lnTo>
                  <a:lnTo>
                    <a:pt x="286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5" name=""/>
            <p:cNvSpPr/>
            <p:nvPr/>
          </p:nvSpPr>
          <p:spPr>
            <a:xfrm>
              <a:off x="3206880" y="5055840"/>
              <a:ext cx="7200" cy="136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3" y="27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6" name=""/>
            <p:cNvSpPr/>
            <p:nvPr/>
          </p:nvSpPr>
          <p:spPr>
            <a:xfrm>
              <a:off x="3366360" y="5099400"/>
              <a:ext cx="190080" cy="3996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" y="0"/>
                  </a:moveTo>
                  <a:lnTo>
                    <a:pt x="0" y="27"/>
                  </a:lnTo>
                  <a:lnTo>
                    <a:pt x="332" y="77"/>
                  </a:lnTo>
                  <a:lnTo>
                    <a:pt x="336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7" name=""/>
            <p:cNvSpPr/>
            <p:nvPr/>
          </p:nvSpPr>
          <p:spPr>
            <a:xfrm>
              <a:off x="3366360" y="5099400"/>
              <a:ext cx="3600" cy="136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8" name=""/>
            <p:cNvSpPr/>
            <p:nvPr/>
          </p:nvSpPr>
          <p:spPr>
            <a:xfrm>
              <a:off x="3551040" y="512532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6" y="27"/>
                  </a:moveTo>
                  <a:lnTo>
                    <a:pt x="13" y="27"/>
                  </a:lnTo>
                  <a:lnTo>
                    <a:pt x="17" y="2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9" name=""/>
            <p:cNvSpPr/>
            <p:nvPr/>
          </p:nvSpPr>
          <p:spPr>
            <a:xfrm>
              <a:off x="2733120" y="4557240"/>
              <a:ext cx="905040" cy="559080"/>
            </a:xfrm>
            <a:custGeom>
              <a:avLst/>
              <a:gdLst/>
              <a:ahLst/>
              <a:rect l="l" t="t" r="r" b="b"/>
              <a:pathLst>
                <a:path w="1598" h="1078">
                  <a:moveTo>
                    <a:pt x="1568" y="1045"/>
                  </a:moveTo>
                  <a:lnTo>
                    <a:pt x="1598" y="920"/>
                  </a:lnTo>
                  <a:lnTo>
                    <a:pt x="1578" y="796"/>
                  </a:lnTo>
                  <a:lnTo>
                    <a:pt x="1504" y="706"/>
                  </a:lnTo>
                  <a:lnTo>
                    <a:pt x="1246" y="652"/>
                  </a:lnTo>
                  <a:lnTo>
                    <a:pt x="1007" y="578"/>
                  </a:lnTo>
                  <a:lnTo>
                    <a:pt x="728" y="467"/>
                  </a:lnTo>
                  <a:lnTo>
                    <a:pt x="490" y="309"/>
                  </a:lnTo>
                  <a:lnTo>
                    <a:pt x="332" y="185"/>
                  </a:lnTo>
                  <a:lnTo>
                    <a:pt x="188" y="41"/>
                  </a:lnTo>
                  <a:lnTo>
                    <a:pt x="74" y="0"/>
                  </a:lnTo>
                  <a:lnTo>
                    <a:pt x="0" y="91"/>
                  </a:lnTo>
                  <a:lnTo>
                    <a:pt x="64" y="195"/>
                  </a:lnTo>
                  <a:lnTo>
                    <a:pt x="208" y="225"/>
                  </a:lnTo>
                  <a:lnTo>
                    <a:pt x="342" y="340"/>
                  </a:lnTo>
                  <a:lnTo>
                    <a:pt x="500" y="467"/>
                  </a:lnTo>
                  <a:lnTo>
                    <a:pt x="695" y="558"/>
                  </a:lnTo>
                  <a:lnTo>
                    <a:pt x="957" y="672"/>
                  </a:lnTo>
                  <a:lnTo>
                    <a:pt x="1182" y="756"/>
                  </a:lnTo>
                  <a:lnTo>
                    <a:pt x="1380" y="820"/>
                  </a:lnTo>
                  <a:lnTo>
                    <a:pt x="1484" y="890"/>
                  </a:lnTo>
                  <a:lnTo>
                    <a:pt x="1464" y="984"/>
                  </a:lnTo>
                  <a:lnTo>
                    <a:pt x="1474" y="1078"/>
                  </a:lnTo>
                  <a:lnTo>
                    <a:pt x="1568" y="1045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0" name=""/>
            <p:cNvSpPr/>
            <p:nvPr/>
          </p:nvSpPr>
          <p:spPr>
            <a:xfrm>
              <a:off x="3614040" y="5032800"/>
              <a:ext cx="29880" cy="6948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0" y="124"/>
                  </a:moveTo>
                  <a:lnTo>
                    <a:pt x="23" y="134"/>
                  </a:lnTo>
                  <a:lnTo>
                    <a:pt x="53" y="10"/>
                  </a:lnTo>
                  <a:lnTo>
                    <a:pt x="3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619800" y="4968720"/>
              <a:ext cx="24120" cy="67680"/>
            </a:xfrm>
            <a:custGeom>
              <a:avLst/>
              <a:gdLst/>
              <a:ahLst/>
              <a:rect l="l" t="t" r="r" b="b"/>
              <a:pathLst>
                <a:path w="43" h="131">
                  <a:moveTo>
                    <a:pt x="20" y="131"/>
                  </a:moveTo>
                  <a:lnTo>
                    <a:pt x="43" y="124"/>
                  </a:lnTo>
                  <a:lnTo>
                    <a:pt x="23" y="0"/>
                  </a:lnTo>
                  <a:lnTo>
                    <a:pt x="0" y="7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630960" y="5032800"/>
              <a:ext cx="12960" cy="50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10"/>
                  </a:move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579480" y="4919760"/>
              <a:ext cx="52920" cy="5508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74" y="107"/>
                  </a:moveTo>
                  <a:lnTo>
                    <a:pt x="94" y="91"/>
                  </a:lnTo>
                  <a:lnTo>
                    <a:pt x="20" y="0"/>
                  </a:lnTo>
                  <a:lnTo>
                    <a:pt x="0" y="17"/>
                  </a:lnTo>
                  <a:lnTo>
                    <a:pt x="74" y="10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19800" y="4966920"/>
              <a:ext cx="12960" cy="7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3"/>
                  </a:moveTo>
                  <a:lnTo>
                    <a:pt x="23" y="0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3436560" y="4890240"/>
              <a:ext cx="150480" cy="3996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59" y="77"/>
                  </a:moveTo>
                  <a:lnTo>
                    <a:pt x="266" y="53"/>
                  </a:lnTo>
                  <a:lnTo>
                    <a:pt x="7" y="0"/>
                  </a:lnTo>
                  <a:lnTo>
                    <a:pt x="0" y="23"/>
                  </a:lnTo>
                  <a:lnTo>
                    <a:pt x="259" y="7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3579480" y="4917600"/>
              <a:ext cx="11160" cy="12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4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3299760" y="4851720"/>
              <a:ext cx="140760" cy="50040"/>
            </a:xfrm>
            <a:custGeom>
              <a:avLst/>
              <a:gdLst/>
              <a:ahLst/>
              <a:rect l="l" t="t" r="r" b="b"/>
              <a:pathLst>
                <a:path w="249" h="97">
                  <a:moveTo>
                    <a:pt x="239" y="97"/>
                  </a:moveTo>
                  <a:lnTo>
                    <a:pt x="249" y="7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39" y="9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8" name=""/>
            <p:cNvSpPr/>
            <p:nvPr/>
          </p:nvSpPr>
          <p:spPr>
            <a:xfrm>
              <a:off x="3435120" y="48902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23"/>
                  </a:lnTo>
                  <a:lnTo>
                    <a:pt x="10" y="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9" name=""/>
            <p:cNvSpPr/>
            <p:nvPr/>
          </p:nvSpPr>
          <p:spPr>
            <a:xfrm>
              <a:off x="3142080" y="4794120"/>
              <a:ext cx="165240" cy="69480"/>
            </a:xfrm>
            <a:custGeom>
              <a:avLst/>
              <a:gdLst/>
              <a:ahLst/>
              <a:rect l="l" t="t" r="r" b="b"/>
              <a:pathLst>
                <a:path w="292" h="134">
                  <a:moveTo>
                    <a:pt x="278" y="134"/>
                  </a:moveTo>
                  <a:lnTo>
                    <a:pt x="292" y="111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78" y="1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0" name=""/>
            <p:cNvSpPr/>
            <p:nvPr/>
          </p:nvSpPr>
          <p:spPr>
            <a:xfrm>
              <a:off x="3299760" y="485172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1" name=""/>
            <p:cNvSpPr/>
            <p:nvPr/>
          </p:nvSpPr>
          <p:spPr>
            <a:xfrm>
              <a:off x="3004920" y="4712400"/>
              <a:ext cx="144360" cy="92160"/>
            </a:xfrm>
            <a:custGeom>
              <a:avLst/>
              <a:gdLst/>
              <a:ahLst/>
              <a:rect l="l" t="t" r="r" b="b"/>
              <a:pathLst>
                <a:path w="255" h="178">
                  <a:moveTo>
                    <a:pt x="238" y="178"/>
                  </a:moveTo>
                  <a:lnTo>
                    <a:pt x="255" y="158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2" name=""/>
            <p:cNvSpPr/>
            <p:nvPr/>
          </p:nvSpPr>
          <p:spPr>
            <a:xfrm>
              <a:off x="3139920" y="47941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4" y="24"/>
                  </a:moveTo>
                  <a:lnTo>
                    <a:pt x="0" y="20"/>
                  </a:lnTo>
                  <a:lnTo>
                    <a:pt x="17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3" name=""/>
            <p:cNvSpPr/>
            <p:nvPr/>
          </p:nvSpPr>
          <p:spPr>
            <a:xfrm>
              <a:off x="2915640" y="4647960"/>
              <a:ext cx="99000" cy="7452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58" y="144"/>
                  </a:moveTo>
                  <a:lnTo>
                    <a:pt x="175" y="12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58" y="14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4" name=""/>
            <p:cNvSpPr/>
            <p:nvPr/>
          </p:nvSpPr>
          <p:spPr>
            <a:xfrm>
              <a:off x="3004920" y="47124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5" name=""/>
            <p:cNvSpPr/>
            <p:nvPr/>
          </p:nvSpPr>
          <p:spPr>
            <a:xfrm>
              <a:off x="2833920" y="4573440"/>
              <a:ext cx="91080" cy="849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144" y="164"/>
                  </a:moveTo>
                  <a:lnTo>
                    <a:pt x="161" y="144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6" name=""/>
            <p:cNvSpPr/>
            <p:nvPr/>
          </p:nvSpPr>
          <p:spPr>
            <a:xfrm>
              <a:off x="2915640" y="464796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7" name=""/>
            <p:cNvSpPr/>
            <p:nvPr/>
          </p:nvSpPr>
          <p:spPr>
            <a:xfrm>
              <a:off x="2771280" y="4551840"/>
              <a:ext cx="70200" cy="33120"/>
            </a:xfrm>
            <a:custGeom>
              <a:avLst/>
              <a:gdLst/>
              <a:ahLst/>
              <a:rect l="l" t="t" r="r" b="b"/>
              <a:pathLst>
                <a:path w="124" h="64">
                  <a:moveTo>
                    <a:pt x="114" y="64"/>
                  </a:moveTo>
                  <a:lnTo>
                    <a:pt x="124" y="41"/>
                  </a:lnTo>
                  <a:lnTo>
                    <a:pt x="10" y="0"/>
                  </a:lnTo>
                  <a:lnTo>
                    <a:pt x="0" y="24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8" name=""/>
            <p:cNvSpPr/>
            <p:nvPr/>
          </p:nvSpPr>
          <p:spPr>
            <a:xfrm>
              <a:off x="2833920" y="4573440"/>
              <a:ext cx="9360" cy="118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13" y="0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9" name=""/>
            <p:cNvSpPr/>
            <p:nvPr/>
          </p:nvSpPr>
          <p:spPr>
            <a:xfrm>
              <a:off x="2727360" y="4554000"/>
              <a:ext cx="53280" cy="55440"/>
            </a:xfrm>
            <a:custGeom>
              <a:avLst/>
              <a:gdLst/>
              <a:ahLst/>
              <a:rect l="l" t="t" r="r" b="b"/>
              <a:pathLst>
                <a:path w="94" h="107">
                  <a:moveTo>
                    <a:pt x="94" y="17"/>
                  </a:moveTo>
                  <a:lnTo>
                    <a:pt x="74" y="0"/>
                  </a:lnTo>
                  <a:lnTo>
                    <a:pt x="0" y="90"/>
                  </a:lnTo>
                  <a:lnTo>
                    <a:pt x="20" y="107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0" name=""/>
            <p:cNvSpPr/>
            <p:nvPr/>
          </p:nvSpPr>
          <p:spPr>
            <a:xfrm>
              <a:off x="2769480" y="4550400"/>
              <a:ext cx="11160" cy="136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3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20" y="24"/>
                  </a:lnTo>
                  <a:lnTo>
                    <a:pt x="3" y="2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1" name=""/>
            <p:cNvSpPr/>
            <p:nvPr/>
          </p:nvSpPr>
          <p:spPr>
            <a:xfrm>
              <a:off x="2725200" y="4600800"/>
              <a:ext cx="49680" cy="6084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24" y="0"/>
                  </a:moveTo>
                  <a:lnTo>
                    <a:pt x="0" y="14"/>
                  </a:lnTo>
                  <a:lnTo>
                    <a:pt x="64" y="118"/>
                  </a:lnTo>
                  <a:lnTo>
                    <a:pt x="88" y="10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2" name=""/>
            <p:cNvSpPr/>
            <p:nvPr/>
          </p:nvSpPr>
          <p:spPr>
            <a:xfrm>
              <a:off x="2723760" y="4600800"/>
              <a:ext cx="15120" cy="8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7" y="0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27" y="0"/>
                  </a:lnTo>
                  <a:lnTo>
                    <a:pt x="27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3" name=""/>
            <p:cNvSpPr/>
            <p:nvPr/>
          </p:nvSpPr>
          <p:spPr>
            <a:xfrm>
              <a:off x="2766960" y="4651560"/>
              <a:ext cx="85320" cy="2952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7" y="0"/>
                  </a:moveTo>
                  <a:lnTo>
                    <a:pt x="0" y="27"/>
                  </a:lnTo>
                  <a:lnTo>
                    <a:pt x="145" y="57"/>
                  </a:lnTo>
                  <a:lnTo>
                    <a:pt x="151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4" name=""/>
            <p:cNvSpPr/>
            <p:nvPr/>
          </p:nvSpPr>
          <p:spPr>
            <a:xfrm>
              <a:off x="2761560" y="4651560"/>
              <a:ext cx="13320" cy="13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0"/>
                  </a:moveTo>
                  <a:lnTo>
                    <a:pt x="4" y="27"/>
                  </a:lnTo>
                  <a:lnTo>
                    <a:pt x="10" y="27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5" name=""/>
            <p:cNvSpPr/>
            <p:nvPr/>
          </p:nvSpPr>
          <p:spPr>
            <a:xfrm>
              <a:off x="2845440" y="4668840"/>
              <a:ext cx="85320" cy="6984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7" y="0"/>
                  </a:moveTo>
                  <a:lnTo>
                    <a:pt x="0" y="21"/>
                  </a:lnTo>
                  <a:lnTo>
                    <a:pt x="134" y="135"/>
                  </a:lnTo>
                  <a:lnTo>
                    <a:pt x="151" y="1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6" name=""/>
            <p:cNvSpPr/>
            <p:nvPr/>
          </p:nvSpPr>
          <p:spPr>
            <a:xfrm>
              <a:off x="2845440" y="4667040"/>
              <a:ext cx="9360" cy="13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0"/>
                  </a:moveTo>
                  <a:lnTo>
                    <a:pt x="17" y="3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7" name=""/>
            <p:cNvSpPr/>
            <p:nvPr/>
          </p:nvSpPr>
          <p:spPr>
            <a:xfrm>
              <a:off x="2921400" y="4728240"/>
              <a:ext cx="99000" cy="76320"/>
            </a:xfrm>
            <a:custGeom>
              <a:avLst/>
              <a:gdLst/>
              <a:ahLst/>
              <a:rect l="l" t="t" r="r" b="b"/>
              <a:pathLst>
                <a:path w="175" h="147">
                  <a:moveTo>
                    <a:pt x="17" y="0"/>
                  </a:moveTo>
                  <a:lnTo>
                    <a:pt x="0" y="20"/>
                  </a:lnTo>
                  <a:lnTo>
                    <a:pt x="158" y="147"/>
                  </a:lnTo>
                  <a:lnTo>
                    <a:pt x="175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8" name=""/>
            <p:cNvSpPr/>
            <p:nvPr/>
          </p:nvSpPr>
          <p:spPr>
            <a:xfrm>
              <a:off x="2921400" y="4728240"/>
              <a:ext cx="9360" cy="10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9" name=""/>
            <p:cNvSpPr/>
            <p:nvPr/>
          </p:nvSpPr>
          <p:spPr>
            <a:xfrm>
              <a:off x="3012480" y="4794120"/>
              <a:ext cx="118080" cy="59040"/>
            </a:xfrm>
            <a:custGeom>
              <a:avLst/>
              <a:gdLst/>
              <a:ahLst/>
              <a:rect l="l" t="t" r="r" b="b"/>
              <a:pathLst>
                <a:path w="209" h="114">
                  <a:moveTo>
                    <a:pt x="14" y="0"/>
                  </a:moveTo>
                  <a:lnTo>
                    <a:pt x="0" y="24"/>
                  </a:lnTo>
                  <a:lnTo>
                    <a:pt x="195" y="114"/>
                  </a:lnTo>
                  <a:lnTo>
                    <a:pt x="209" y="9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0" name=""/>
            <p:cNvSpPr/>
            <p:nvPr/>
          </p:nvSpPr>
          <p:spPr>
            <a:xfrm>
              <a:off x="3010680" y="4794120"/>
              <a:ext cx="936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0"/>
                  </a:moveTo>
                  <a:lnTo>
                    <a:pt x="3" y="24"/>
                  </a:ln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1" name=""/>
            <p:cNvSpPr/>
            <p:nvPr/>
          </p:nvSpPr>
          <p:spPr>
            <a:xfrm>
              <a:off x="3123000" y="4841640"/>
              <a:ext cx="156240" cy="70920"/>
            </a:xfrm>
            <a:custGeom>
              <a:avLst/>
              <a:gdLst/>
              <a:ahLst/>
              <a:rect l="l" t="t" r="r" b="b"/>
              <a:pathLst>
                <a:path w="276" h="137">
                  <a:moveTo>
                    <a:pt x="14" y="0"/>
                  </a:moveTo>
                  <a:lnTo>
                    <a:pt x="0" y="23"/>
                  </a:lnTo>
                  <a:lnTo>
                    <a:pt x="262" y="137"/>
                  </a:lnTo>
                  <a:lnTo>
                    <a:pt x="276" y="1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2" name=""/>
            <p:cNvSpPr/>
            <p:nvPr/>
          </p:nvSpPr>
          <p:spPr>
            <a:xfrm>
              <a:off x="3123000" y="4841640"/>
              <a:ext cx="7920" cy="11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3" name=""/>
            <p:cNvSpPr/>
            <p:nvPr/>
          </p:nvSpPr>
          <p:spPr>
            <a:xfrm>
              <a:off x="3273120" y="4899240"/>
              <a:ext cx="131400" cy="5688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7" y="0"/>
                  </a:moveTo>
                  <a:lnTo>
                    <a:pt x="0" y="26"/>
                  </a:lnTo>
                  <a:lnTo>
                    <a:pt x="225" y="110"/>
                  </a:lnTo>
                  <a:lnTo>
                    <a:pt x="232" y="8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4" name=""/>
            <p:cNvSpPr/>
            <p:nvPr/>
          </p:nvSpPr>
          <p:spPr>
            <a:xfrm>
              <a:off x="3271320" y="4899240"/>
              <a:ext cx="7920" cy="1332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6"/>
                  </a:moveTo>
                  <a:lnTo>
                    <a:pt x="3" y="26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5" name=""/>
            <p:cNvSpPr/>
            <p:nvPr/>
          </p:nvSpPr>
          <p:spPr>
            <a:xfrm>
              <a:off x="3400560" y="4942800"/>
              <a:ext cx="115920" cy="4644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7" y="0"/>
                  </a:moveTo>
                  <a:lnTo>
                    <a:pt x="0" y="26"/>
                  </a:lnTo>
                  <a:lnTo>
                    <a:pt x="199" y="90"/>
                  </a:lnTo>
                  <a:lnTo>
                    <a:pt x="205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6" name=""/>
            <p:cNvSpPr/>
            <p:nvPr/>
          </p:nvSpPr>
          <p:spPr>
            <a:xfrm>
              <a:off x="3400560" y="4942800"/>
              <a:ext cx="3960" cy="133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7" name=""/>
            <p:cNvSpPr/>
            <p:nvPr/>
          </p:nvSpPr>
          <p:spPr>
            <a:xfrm>
              <a:off x="3511080" y="4977360"/>
              <a:ext cx="66600" cy="4860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4" y="0"/>
                  </a:moveTo>
                  <a:lnTo>
                    <a:pt x="0" y="23"/>
                  </a:lnTo>
                  <a:lnTo>
                    <a:pt x="104" y="94"/>
                  </a:lnTo>
                  <a:lnTo>
                    <a:pt x="118" y="7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8" name=""/>
            <p:cNvSpPr/>
            <p:nvPr/>
          </p:nvSpPr>
          <p:spPr>
            <a:xfrm>
              <a:off x="3511080" y="4975200"/>
              <a:ext cx="7920" cy="13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0" y="0"/>
                  </a:moveTo>
                  <a:lnTo>
                    <a:pt x="14" y="4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9" name=""/>
            <p:cNvSpPr/>
            <p:nvPr/>
          </p:nvSpPr>
          <p:spPr>
            <a:xfrm>
              <a:off x="3554640" y="5017320"/>
              <a:ext cx="26280" cy="5004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47" y="3"/>
                  </a:moveTo>
                  <a:lnTo>
                    <a:pt x="21" y="0"/>
                  </a:lnTo>
                  <a:lnTo>
                    <a:pt x="0" y="94"/>
                  </a:lnTo>
                  <a:lnTo>
                    <a:pt x="27" y="97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0" name=""/>
            <p:cNvSpPr/>
            <p:nvPr/>
          </p:nvSpPr>
          <p:spPr>
            <a:xfrm>
              <a:off x="3566520" y="5013720"/>
              <a:ext cx="14760" cy="122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0" y="0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1" name=""/>
            <p:cNvSpPr/>
            <p:nvPr/>
          </p:nvSpPr>
          <p:spPr>
            <a:xfrm>
              <a:off x="3554640" y="5067720"/>
              <a:ext cx="20880" cy="5076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27" y="0"/>
                  </a:moveTo>
                  <a:lnTo>
                    <a:pt x="0" y="4"/>
                  </a:lnTo>
                  <a:lnTo>
                    <a:pt x="11" y="98"/>
                  </a:lnTo>
                  <a:lnTo>
                    <a:pt x="37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2" name=""/>
            <p:cNvSpPr/>
            <p:nvPr/>
          </p:nvSpPr>
          <p:spPr>
            <a:xfrm>
              <a:off x="3554640" y="5066280"/>
              <a:ext cx="1512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3" name=""/>
            <p:cNvSpPr/>
            <p:nvPr/>
          </p:nvSpPr>
          <p:spPr>
            <a:xfrm>
              <a:off x="3566520" y="5092200"/>
              <a:ext cx="56520" cy="313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0" y="34"/>
                  </a:moveTo>
                  <a:lnTo>
                    <a:pt x="6" y="61"/>
                  </a:lnTo>
                  <a:lnTo>
                    <a:pt x="100" y="27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4" name=""/>
            <p:cNvSpPr/>
            <p:nvPr/>
          </p:nvSpPr>
          <p:spPr>
            <a:xfrm>
              <a:off x="3560760" y="5109840"/>
              <a:ext cx="14760" cy="169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7"/>
                  </a:moveTo>
                  <a:lnTo>
                    <a:pt x="0" y="33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2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5" name=""/>
            <p:cNvSpPr/>
            <p:nvPr/>
          </p:nvSpPr>
          <p:spPr>
            <a:xfrm>
              <a:off x="3614040" y="5092200"/>
              <a:ext cx="12960" cy="13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6" y="27"/>
                  </a:moveTo>
                  <a:lnTo>
                    <a:pt x="23" y="24"/>
                  </a:lnTo>
                  <a:lnTo>
                    <a:pt x="23" y="2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d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6" name=""/>
            <p:cNvSpPr/>
            <p:nvPr/>
          </p:nvSpPr>
          <p:spPr>
            <a:xfrm>
              <a:off x="3318840" y="5088960"/>
              <a:ext cx="157680" cy="50040"/>
            </a:xfrm>
            <a:custGeom>
              <a:avLst/>
              <a:gdLst/>
              <a:ahLst/>
              <a:rect l="l" t="t" r="r" b="b"/>
              <a:pathLst>
                <a:path w="279" h="97">
                  <a:moveTo>
                    <a:pt x="279" y="87"/>
                  </a:moveTo>
                  <a:lnTo>
                    <a:pt x="252" y="94"/>
                  </a:lnTo>
                  <a:lnTo>
                    <a:pt x="232" y="97"/>
                  </a:lnTo>
                  <a:lnTo>
                    <a:pt x="212" y="97"/>
                  </a:lnTo>
                  <a:lnTo>
                    <a:pt x="191" y="97"/>
                  </a:lnTo>
                  <a:lnTo>
                    <a:pt x="155" y="94"/>
                  </a:lnTo>
                  <a:lnTo>
                    <a:pt x="124" y="83"/>
                  </a:lnTo>
                  <a:lnTo>
                    <a:pt x="94" y="70"/>
                  </a:lnTo>
                  <a:lnTo>
                    <a:pt x="64" y="53"/>
                  </a:lnTo>
                  <a:lnTo>
                    <a:pt x="34" y="4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44" y="16"/>
                  </a:lnTo>
                  <a:lnTo>
                    <a:pt x="77" y="30"/>
                  </a:lnTo>
                  <a:lnTo>
                    <a:pt x="104" y="47"/>
                  </a:lnTo>
                  <a:lnTo>
                    <a:pt x="134" y="60"/>
                  </a:lnTo>
                  <a:lnTo>
                    <a:pt x="161" y="67"/>
                  </a:lnTo>
                  <a:lnTo>
                    <a:pt x="191" y="73"/>
                  </a:lnTo>
                  <a:lnTo>
                    <a:pt x="208" y="73"/>
                  </a:lnTo>
                  <a:lnTo>
                    <a:pt x="228" y="70"/>
                  </a:lnTo>
                  <a:lnTo>
                    <a:pt x="249" y="67"/>
                  </a:lnTo>
                  <a:lnTo>
                    <a:pt x="272" y="60"/>
                  </a:lnTo>
                  <a:lnTo>
                    <a:pt x="27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7" name=""/>
            <p:cNvSpPr/>
            <p:nvPr/>
          </p:nvSpPr>
          <p:spPr>
            <a:xfrm>
              <a:off x="3210840" y="5083200"/>
              <a:ext cx="113760" cy="19080"/>
            </a:xfrm>
            <a:custGeom>
              <a:avLst/>
              <a:gdLst/>
              <a:ahLst/>
              <a:rect l="l" t="t" r="r" b="b"/>
              <a:pathLst>
                <a:path w="201" h="37">
                  <a:moveTo>
                    <a:pt x="191" y="37"/>
                  </a:moveTo>
                  <a:lnTo>
                    <a:pt x="168" y="31"/>
                  </a:lnTo>
                  <a:lnTo>
                    <a:pt x="144" y="27"/>
                  </a:lnTo>
                  <a:lnTo>
                    <a:pt x="124" y="27"/>
                  </a:lnTo>
                  <a:lnTo>
                    <a:pt x="100" y="31"/>
                  </a:lnTo>
                  <a:lnTo>
                    <a:pt x="53" y="37"/>
                  </a:lnTo>
                  <a:lnTo>
                    <a:pt x="26" y="3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50" y="11"/>
                  </a:lnTo>
                  <a:lnTo>
                    <a:pt x="97" y="4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74" y="4"/>
                  </a:lnTo>
                  <a:lnTo>
                    <a:pt x="201" y="11"/>
                  </a:lnTo>
                  <a:lnTo>
                    <a:pt x="1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8" name=""/>
            <p:cNvSpPr/>
            <p:nvPr/>
          </p:nvSpPr>
          <p:spPr>
            <a:xfrm>
              <a:off x="3318840" y="5088960"/>
              <a:ext cx="5400" cy="1332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0" y="2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9" name=""/>
            <p:cNvSpPr/>
            <p:nvPr/>
          </p:nvSpPr>
          <p:spPr>
            <a:xfrm>
              <a:off x="3107520" y="5024160"/>
              <a:ext cx="102960" cy="7812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78" y="151"/>
                  </a:moveTo>
                  <a:lnTo>
                    <a:pt x="161" y="148"/>
                  </a:lnTo>
                  <a:lnTo>
                    <a:pt x="145" y="145"/>
                  </a:lnTo>
                  <a:lnTo>
                    <a:pt x="131" y="138"/>
                  </a:lnTo>
                  <a:lnTo>
                    <a:pt x="118" y="128"/>
                  </a:lnTo>
                  <a:lnTo>
                    <a:pt x="91" y="108"/>
                  </a:lnTo>
                  <a:lnTo>
                    <a:pt x="67" y="88"/>
                  </a:lnTo>
                  <a:lnTo>
                    <a:pt x="31" y="47"/>
                  </a:lnTo>
                  <a:lnTo>
                    <a:pt x="14" y="34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47" y="27"/>
                  </a:lnTo>
                  <a:lnTo>
                    <a:pt x="88" y="67"/>
                  </a:lnTo>
                  <a:lnTo>
                    <a:pt x="108" y="88"/>
                  </a:lnTo>
                  <a:lnTo>
                    <a:pt x="131" y="108"/>
                  </a:lnTo>
                  <a:lnTo>
                    <a:pt x="145" y="114"/>
                  </a:lnTo>
                  <a:lnTo>
                    <a:pt x="155" y="118"/>
                  </a:lnTo>
                  <a:lnTo>
                    <a:pt x="168" y="121"/>
                  </a:lnTo>
                  <a:lnTo>
                    <a:pt x="182" y="125"/>
                  </a:lnTo>
                  <a:lnTo>
                    <a:pt x="17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0" name=""/>
            <p:cNvSpPr/>
            <p:nvPr/>
          </p:nvSpPr>
          <p:spPr>
            <a:xfrm>
              <a:off x="3208320" y="5088960"/>
              <a:ext cx="2160" cy="1332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26"/>
                  </a:moveTo>
                  <a:lnTo>
                    <a:pt x="0" y="26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1" name=""/>
            <p:cNvSpPr/>
            <p:nvPr/>
          </p:nvSpPr>
          <p:spPr>
            <a:xfrm>
              <a:off x="2963160" y="4987800"/>
              <a:ext cx="149760" cy="50040"/>
            </a:xfrm>
            <a:custGeom>
              <a:avLst/>
              <a:gdLst/>
              <a:ahLst/>
              <a:rect l="l" t="t" r="r" b="b"/>
              <a:pathLst>
                <a:path w="265" h="97">
                  <a:moveTo>
                    <a:pt x="255" y="97"/>
                  </a:moveTo>
                  <a:lnTo>
                    <a:pt x="222" y="87"/>
                  </a:lnTo>
                  <a:lnTo>
                    <a:pt x="188" y="80"/>
                  </a:lnTo>
                  <a:lnTo>
                    <a:pt x="124" y="70"/>
                  </a:lnTo>
                  <a:lnTo>
                    <a:pt x="94" y="64"/>
                  </a:lnTo>
                  <a:lnTo>
                    <a:pt x="64" y="54"/>
                  </a:lnTo>
                  <a:lnTo>
                    <a:pt x="47" y="47"/>
                  </a:lnTo>
                  <a:lnTo>
                    <a:pt x="30" y="40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17" y="0"/>
                  </a:lnTo>
                  <a:lnTo>
                    <a:pt x="30" y="10"/>
                  </a:lnTo>
                  <a:lnTo>
                    <a:pt x="44" y="17"/>
                  </a:lnTo>
                  <a:lnTo>
                    <a:pt x="57" y="23"/>
                  </a:lnTo>
                  <a:lnTo>
                    <a:pt x="71" y="30"/>
                  </a:lnTo>
                  <a:lnTo>
                    <a:pt x="101" y="37"/>
                  </a:lnTo>
                  <a:lnTo>
                    <a:pt x="131" y="43"/>
                  </a:lnTo>
                  <a:lnTo>
                    <a:pt x="192" y="54"/>
                  </a:lnTo>
                  <a:lnTo>
                    <a:pt x="225" y="60"/>
                  </a:lnTo>
                  <a:lnTo>
                    <a:pt x="265" y="70"/>
                  </a:lnTo>
                  <a:lnTo>
                    <a:pt x="25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2" name=""/>
            <p:cNvSpPr/>
            <p:nvPr/>
          </p:nvSpPr>
          <p:spPr>
            <a:xfrm>
              <a:off x="3107520" y="5024160"/>
              <a:ext cx="5400" cy="136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0"/>
                  </a:move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3" name=""/>
            <p:cNvSpPr/>
            <p:nvPr/>
          </p:nvSpPr>
          <p:spPr>
            <a:xfrm>
              <a:off x="2915640" y="4909320"/>
              <a:ext cx="57240" cy="8856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84" y="171"/>
                  </a:moveTo>
                  <a:lnTo>
                    <a:pt x="74" y="164"/>
                  </a:lnTo>
                  <a:lnTo>
                    <a:pt x="64" y="154"/>
                  </a:lnTo>
                  <a:lnTo>
                    <a:pt x="51" y="137"/>
                  </a:lnTo>
                  <a:lnTo>
                    <a:pt x="44" y="124"/>
                  </a:lnTo>
                  <a:lnTo>
                    <a:pt x="40" y="114"/>
                  </a:lnTo>
                  <a:lnTo>
                    <a:pt x="30" y="94"/>
                  </a:lnTo>
                  <a:lnTo>
                    <a:pt x="17" y="53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23"/>
                  </a:lnTo>
                  <a:lnTo>
                    <a:pt x="44" y="43"/>
                  </a:lnTo>
                  <a:lnTo>
                    <a:pt x="57" y="87"/>
                  </a:lnTo>
                  <a:lnTo>
                    <a:pt x="64" y="104"/>
                  </a:lnTo>
                  <a:lnTo>
                    <a:pt x="67" y="114"/>
                  </a:lnTo>
                  <a:lnTo>
                    <a:pt x="74" y="121"/>
                  </a:lnTo>
                  <a:lnTo>
                    <a:pt x="84" y="137"/>
                  </a:lnTo>
                  <a:lnTo>
                    <a:pt x="94" y="144"/>
                  </a:lnTo>
                  <a:lnTo>
                    <a:pt x="101" y="151"/>
                  </a:lnTo>
                  <a:lnTo>
                    <a:pt x="8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4" name=""/>
            <p:cNvSpPr/>
            <p:nvPr/>
          </p:nvSpPr>
          <p:spPr>
            <a:xfrm>
              <a:off x="2963160" y="4987800"/>
              <a:ext cx="9360" cy="10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0"/>
                  </a:moveTo>
                  <a:lnTo>
                    <a:pt x="1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5" name=""/>
            <p:cNvSpPr/>
            <p:nvPr/>
          </p:nvSpPr>
          <p:spPr>
            <a:xfrm>
              <a:off x="2775240" y="4817160"/>
              <a:ext cx="153720" cy="99000"/>
            </a:xfrm>
            <a:custGeom>
              <a:avLst/>
              <a:gdLst/>
              <a:ahLst/>
              <a:rect l="l" t="t" r="r" b="b"/>
              <a:pathLst>
                <a:path w="272" h="191">
                  <a:moveTo>
                    <a:pt x="248" y="191"/>
                  </a:moveTo>
                  <a:lnTo>
                    <a:pt x="238" y="174"/>
                  </a:lnTo>
                  <a:lnTo>
                    <a:pt x="225" y="161"/>
                  </a:lnTo>
                  <a:lnTo>
                    <a:pt x="211" y="151"/>
                  </a:lnTo>
                  <a:lnTo>
                    <a:pt x="198" y="141"/>
                  </a:lnTo>
                  <a:lnTo>
                    <a:pt x="181" y="131"/>
                  </a:lnTo>
                  <a:lnTo>
                    <a:pt x="164" y="124"/>
                  </a:lnTo>
                  <a:lnTo>
                    <a:pt x="127" y="111"/>
                  </a:lnTo>
                  <a:lnTo>
                    <a:pt x="90" y="94"/>
                  </a:lnTo>
                  <a:lnTo>
                    <a:pt x="74" y="84"/>
                  </a:lnTo>
                  <a:lnTo>
                    <a:pt x="57" y="74"/>
                  </a:lnTo>
                  <a:lnTo>
                    <a:pt x="40" y="64"/>
                  </a:lnTo>
                  <a:lnTo>
                    <a:pt x="23" y="50"/>
                  </a:lnTo>
                  <a:lnTo>
                    <a:pt x="10" y="33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33" y="17"/>
                  </a:lnTo>
                  <a:lnTo>
                    <a:pt x="43" y="30"/>
                  </a:lnTo>
                  <a:lnTo>
                    <a:pt x="57" y="43"/>
                  </a:lnTo>
                  <a:lnTo>
                    <a:pt x="70" y="53"/>
                  </a:lnTo>
                  <a:lnTo>
                    <a:pt x="87" y="60"/>
                  </a:lnTo>
                  <a:lnTo>
                    <a:pt x="104" y="70"/>
                  </a:lnTo>
                  <a:lnTo>
                    <a:pt x="137" y="84"/>
                  </a:lnTo>
                  <a:lnTo>
                    <a:pt x="174" y="100"/>
                  </a:lnTo>
                  <a:lnTo>
                    <a:pt x="194" y="107"/>
                  </a:lnTo>
                  <a:lnTo>
                    <a:pt x="211" y="117"/>
                  </a:lnTo>
                  <a:lnTo>
                    <a:pt x="228" y="131"/>
                  </a:lnTo>
                  <a:lnTo>
                    <a:pt x="245" y="144"/>
                  </a:lnTo>
                  <a:lnTo>
                    <a:pt x="258" y="158"/>
                  </a:lnTo>
                  <a:lnTo>
                    <a:pt x="272" y="178"/>
                  </a:lnTo>
                  <a:lnTo>
                    <a:pt x="24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2915640" y="4907520"/>
              <a:ext cx="13320" cy="8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4"/>
                  </a:moveTo>
                  <a:lnTo>
                    <a:pt x="24" y="0"/>
                  </a:lnTo>
                  <a:lnTo>
                    <a:pt x="24" y="4"/>
                  </a:lnTo>
                  <a:lnTo>
                    <a:pt x="0" y="17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2639880" y="4632480"/>
              <a:ext cx="148320" cy="191160"/>
            </a:xfrm>
            <a:custGeom>
              <a:avLst/>
              <a:gdLst/>
              <a:ahLst/>
              <a:rect l="l" t="t" r="r" b="b"/>
              <a:pathLst>
                <a:path w="262" h="369">
                  <a:moveTo>
                    <a:pt x="239" y="369"/>
                  </a:moveTo>
                  <a:lnTo>
                    <a:pt x="235" y="359"/>
                  </a:lnTo>
                  <a:lnTo>
                    <a:pt x="225" y="349"/>
                  </a:lnTo>
                  <a:lnTo>
                    <a:pt x="219" y="342"/>
                  </a:lnTo>
                  <a:lnTo>
                    <a:pt x="212" y="332"/>
                  </a:lnTo>
                  <a:lnTo>
                    <a:pt x="188" y="312"/>
                  </a:lnTo>
                  <a:lnTo>
                    <a:pt x="165" y="295"/>
                  </a:lnTo>
                  <a:lnTo>
                    <a:pt x="111" y="255"/>
                  </a:lnTo>
                  <a:lnTo>
                    <a:pt x="84" y="235"/>
                  </a:lnTo>
                  <a:lnTo>
                    <a:pt x="61" y="215"/>
                  </a:lnTo>
                  <a:lnTo>
                    <a:pt x="37" y="191"/>
                  </a:lnTo>
                  <a:lnTo>
                    <a:pt x="27" y="181"/>
                  </a:lnTo>
                  <a:lnTo>
                    <a:pt x="20" y="168"/>
                  </a:lnTo>
                  <a:lnTo>
                    <a:pt x="10" y="158"/>
                  </a:lnTo>
                  <a:lnTo>
                    <a:pt x="7" y="144"/>
                  </a:lnTo>
                  <a:lnTo>
                    <a:pt x="0" y="131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4"/>
                  </a:lnTo>
                  <a:lnTo>
                    <a:pt x="17" y="57"/>
                  </a:lnTo>
                  <a:lnTo>
                    <a:pt x="27" y="44"/>
                  </a:lnTo>
                  <a:lnTo>
                    <a:pt x="41" y="30"/>
                  </a:lnTo>
                  <a:lnTo>
                    <a:pt x="74" y="0"/>
                  </a:lnTo>
                  <a:lnTo>
                    <a:pt x="91" y="20"/>
                  </a:lnTo>
                  <a:lnTo>
                    <a:pt x="57" y="47"/>
                  </a:lnTo>
                  <a:lnTo>
                    <a:pt x="47" y="60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30" y="94"/>
                  </a:lnTo>
                  <a:lnTo>
                    <a:pt x="27" y="104"/>
                  </a:lnTo>
                  <a:lnTo>
                    <a:pt x="27" y="114"/>
                  </a:lnTo>
                  <a:lnTo>
                    <a:pt x="27" y="124"/>
                  </a:lnTo>
                  <a:lnTo>
                    <a:pt x="30" y="134"/>
                  </a:lnTo>
                  <a:lnTo>
                    <a:pt x="34" y="144"/>
                  </a:lnTo>
                  <a:lnTo>
                    <a:pt x="41" y="154"/>
                  </a:lnTo>
                  <a:lnTo>
                    <a:pt x="47" y="164"/>
                  </a:lnTo>
                  <a:lnTo>
                    <a:pt x="57" y="174"/>
                  </a:lnTo>
                  <a:lnTo>
                    <a:pt x="77" y="195"/>
                  </a:lnTo>
                  <a:lnTo>
                    <a:pt x="101" y="215"/>
                  </a:lnTo>
                  <a:lnTo>
                    <a:pt x="128" y="235"/>
                  </a:lnTo>
                  <a:lnTo>
                    <a:pt x="182" y="272"/>
                  </a:lnTo>
                  <a:lnTo>
                    <a:pt x="205" y="292"/>
                  </a:lnTo>
                  <a:lnTo>
                    <a:pt x="229" y="312"/>
                  </a:lnTo>
                  <a:lnTo>
                    <a:pt x="239" y="322"/>
                  </a:lnTo>
                  <a:lnTo>
                    <a:pt x="249" y="332"/>
                  </a:lnTo>
                  <a:lnTo>
                    <a:pt x="255" y="346"/>
                  </a:lnTo>
                  <a:lnTo>
                    <a:pt x="262" y="356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2775240" y="4817160"/>
              <a:ext cx="12960" cy="6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3"/>
                  </a:move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3541320" y="4947840"/>
              <a:ext cx="81360" cy="12168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7" y="228"/>
                  </a:moveTo>
                  <a:lnTo>
                    <a:pt x="111" y="204"/>
                  </a:lnTo>
                  <a:lnTo>
                    <a:pt x="114" y="181"/>
                  </a:lnTo>
                  <a:lnTo>
                    <a:pt x="117" y="141"/>
                  </a:lnTo>
                  <a:lnTo>
                    <a:pt x="117" y="127"/>
                  </a:lnTo>
                  <a:lnTo>
                    <a:pt x="114" y="114"/>
                  </a:lnTo>
                  <a:lnTo>
                    <a:pt x="111" y="100"/>
                  </a:lnTo>
                  <a:lnTo>
                    <a:pt x="107" y="87"/>
                  </a:lnTo>
                  <a:lnTo>
                    <a:pt x="101" y="77"/>
                  </a:lnTo>
                  <a:lnTo>
                    <a:pt x="91" y="70"/>
                  </a:lnTo>
                  <a:lnTo>
                    <a:pt x="81" y="60"/>
                  </a:lnTo>
                  <a:lnTo>
                    <a:pt x="70" y="53"/>
                  </a:lnTo>
                  <a:lnTo>
                    <a:pt x="57" y="47"/>
                  </a:lnTo>
                  <a:lnTo>
                    <a:pt x="40" y="40"/>
                  </a:lnTo>
                  <a:lnTo>
                    <a:pt x="20" y="33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30" y="6"/>
                  </a:lnTo>
                  <a:lnTo>
                    <a:pt x="50" y="13"/>
                  </a:lnTo>
                  <a:lnTo>
                    <a:pt x="67" y="23"/>
                  </a:lnTo>
                  <a:lnTo>
                    <a:pt x="84" y="30"/>
                  </a:lnTo>
                  <a:lnTo>
                    <a:pt x="97" y="40"/>
                  </a:lnTo>
                  <a:lnTo>
                    <a:pt x="111" y="50"/>
                  </a:lnTo>
                  <a:lnTo>
                    <a:pt x="121" y="60"/>
                  </a:lnTo>
                  <a:lnTo>
                    <a:pt x="128" y="73"/>
                  </a:lnTo>
                  <a:lnTo>
                    <a:pt x="138" y="90"/>
                  </a:lnTo>
                  <a:lnTo>
                    <a:pt x="141" y="107"/>
                  </a:lnTo>
                  <a:lnTo>
                    <a:pt x="141" y="124"/>
                  </a:lnTo>
                  <a:lnTo>
                    <a:pt x="144" y="144"/>
                  </a:lnTo>
                  <a:lnTo>
                    <a:pt x="141" y="184"/>
                  </a:lnTo>
                  <a:lnTo>
                    <a:pt x="138" y="208"/>
                  </a:lnTo>
                  <a:lnTo>
                    <a:pt x="131" y="235"/>
                  </a:lnTo>
                  <a:lnTo>
                    <a:pt x="107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0" name=""/>
            <p:cNvSpPr/>
            <p:nvPr/>
          </p:nvSpPr>
          <p:spPr>
            <a:xfrm>
              <a:off x="2751840" y="4573440"/>
              <a:ext cx="104760" cy="9540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4" y="110"/>
                  </a:moveTo>
                  <a:lnTo>
                    <a:pt x="7" y="90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4" y="10"/>
                  </a:lnTo>
                  <a:lnTo>
                    <a:pt x="31" y="6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8" y="6"/>
                  </a:lnTo>
                  <a:lnTo>
                    <a:pt x="115" y="13"/>
                  </a:lnTo>
                  <a:lnTo>
                    <a:pt x="131" y="27"/>
                  </a:lnTo>
                  <a:lnTo>
                    <a:pt x="148" y="40"/>
                  </a:lnTo>
                  <a:lnTo>
                    <a:pt x="162" y="57"/>
                  </a:lnTo>
                  <a:lnTo>
                    <a:pt x="172" y="74"/>
                  </a:lnTo>
                  <a:lnTo>
                    <a:pt x="178" y="94"/>
                  </a:lnTo>
                  <a:lnTo>
                    <a:pt x="182" y="110"/>
                  </a:lnTo>
                  <a:lnTo>
                    <a:pt x="185" y="127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75" y="158"/>
                  </a:lnTo>
                  <a:lnTo>
                    <a:pt x="165" y="168"/>
                  </a:lnTo>
                  <a:lnTo>
                    <a:pt x="162" y="174"/>
                  </a:lnTo>
                  <a:lnTo>
                    <a:pt x="155" y="178"/>
                  </a:lnTo>
                  <a:lnTo>
                    <a:pt x="138" y="181"/>
                  </a:lnTo>
                  <a:lnTo>
                    <a:pt x="121" y="184"/>
                  </a:lnTo>
                  <a:lnTo>
                    <a:pt x="104" y="181"/>
                  </a:lnTo>
                  <a:lnTo>
                    <a:pt x="88" y="178"/>
                  </a:lnTo>
                  <a:lnTo>
                    <a:pt x="71" y="168"/>
                  </a:lnTo>
                  <a:lnTo>
                    <a:pt x="54" y="158"/>
                  </a:lnTo>
                  <a:lnTo>
                    <a:pt x="37" y="144"/>
                  </a:lnTo>
                  <a:lnTo>
                    <a:pt x="24" y="127"/>
                  </a:lnTo>
                  <a:lnTo>
                    <a:pt x="1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2744640" y="4565880"/>
              <a:ext cx="36000" cy="67680"/>
            </a:xfrm>
            <a:custGeom>
              <a:avLst/>
              <a:gdLst/>
              <a:ahLst/>
              <a:rect l="l" t="t" r="r" b="b"/>
              <a:pathLst>
                <a:path w="64" h="131">
                  <a:moveTo>
                    <a:pt x="13" y="131"/>
                  </a:moveTo>
                  <a:lnTo>
                    <a:pt x="7" y="111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10" y="34"/>
                  </a:lnTo>
                  <a:lnTo>
                    <a:pt x="23" y="20"/>
                  </a:lnTo>
                  <a:lnTo>
                    <a:pt x="30" y="14"/>
                  </a:lnTo>
                  <a:lnTo>
                    <a:pt x="37" y="7"/>
                  </a:lnTo>
                  <a:lnTo>
                    <a:pt x="54" y="0"/>
                  </a:lnTo>
                  <a:lnTo>
                    <a:pt x="64" y="27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34" y="47"/>
                  </a:lnTo>
                  <a:lnTo>
                    <a:pt x="30" y="61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7" y="84"/>
                  </a:lnTo>
                  <a:lnTo>
                    <a:pt x="34" y="101"/>
                  </a:lnTo>
                  <a:lnTo>
                    <a:pt x="40" y="118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2776680" y="4565880"/>
              <a:ext cx="78120" cy="486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7"/>
                  </a:lnTo>
                  <a:lnTo>
                    <a:pt x="77" y="17"/>
                  </a:lnTo>
                  <a:lnTo>
                    <a:pt x="97" y="30"/>
                  </a:lnTo>
                  <a:lnTo>
                    <a:pt x="114" y="44"/>
                  </a:lnTo>
                  <a:lnTo>
                    <a:pt x="128" y="61"/>
                  </a:lnTo>
                  <a:lnTo>
                    <a:pt x="138" y="81"/>
                  </a:lnTo>
                  <a:lnTo>
                    <a:pt x="114" y="94"/>
                  </a:lnTo>
                  <a:lnTo>
                    <a:pt x="104" y="77"/>
                  </a:lnTo>
                  <a:lnTo>
                    <a:pt x="91" y="64"/>
                  </a:lnTo>
                  <a:lnTo>
                    <a:pt x="77" y="51"/>
                  </a:lnTo>
                  <a:lnTo>
                    <a:pt x="64" y="41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20" y="27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2775240" y="4565880"/>
              <a:ext cx="5400" cy="154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3" y="0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2826000" y="4608000"/>
              <a:ext cx="37800" cy="6588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54" y="0"/>
                  </a:moveTo>
                  <a:lnTo>
                    <a:pt x="61" y="20"/>
                  </a:lnTo>
                  <a:lnTo>
                    <a:pt x="67" y="40"/>
                  </a:lnTo>
                  <a:lnTo>
                    <a:pt x="67" y="60"/>
                  </a:lnTo>
                  <a:lnTo>
                    <a:pt x="64" y="70"/>
                  </a:lnTo>
                  <a:lnTo>
                    <a:pt x="64" y="80"/>
                  </a:lnTo>
                  <a:lnTo>
                    <a:pt x="54" y="97"/>
                  </a:lnTo>
                  <a:lnTo>
                    <a:pt x="44" y="111"/>
                  </a:lnTo>
                  <a:lnTo>
                    <a:pt x="37" y="117"/>
                  </a:lnTo>
                  <a:lnTo>
                    <a:pt x="27" y="124"/>
                  </a:lnTo>
                  <a:lnTo>
                    <a:pt x="14" y="127"/>
                  </a:lnTo>
                  <a:lnTo>
                    <a:pt x="0" y="104"/>
                  </a:lnTo>
                  <a:lnTo>
                    <a:pt x="17" y="97"/>
                  </a:lnTo>
                  <a:lnTo>
                    <a:pt x="20" y="94"/>
                  </a:lnTo>
                  <a:lnTo>
                    <a:pt x="24" y="91"/>
                  </a:lnTo>
                  <a:lnTo>
                    <a:pt x="31" y="8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43"/>
                  </a:lnTo>
                  <a:lnTo>
                    <a:pt x="34" y="30"/>
                  </a:lnTo>
                  <a:lnTo>
                    <a:pt x="27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2841480" y="4608000"/>
              <a:ext cx="151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0"/>
                  </a:moveTo>
                  <a:lnTo>
                    <a:pt x="27" y="0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2751840" y="4627080"/>
              <a:ext cx="79560" cy="48600"/>
            </a:xfrm>
            <a:custGeom>
              <a:avLst/>
              <a:gdLst/>
              <a:ahLst/>
              <a:rect l="l" t="t" r="r" b="b"/>
              <a:pathLst>
                <a:path w="141" h="94">
                  <a:moveTo>
                    <a:pt x="141" y="94"/>
                  </a:moveTo>
                  <a:lnTo>
                    <a:pt x="121" y="94"/>
                  </a:lnTo>
                  <a:lnTo>
                    <a:pt x="101" y="94"/>
                  </a:lnTo>
                  <a:lnTo>
                    <a:pt x="81" y="87"/>
                  </a:lnTo>
                  <a:lnTo>
                    <a:pt x="61" y="77"/>
                  </a:lnTo>
                  <a:lnTo>
                    <a:pt x="44" y="64"/>
                  </a:lnTo>
                  <a:lnTo>
                    <a:pt x="27" y="50"/>
                  </a:lnTo>
                  <a:lnTo>
                    <a:pt x="14" y="3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34" y="17"/>
                  </a:lnTo>
                  <a:lnTo>
                    <a:pt x="47" y="30"/>
                  </a:lnTo>
                  <a:lnTo>
                    <a:pt x="61" y="43"/>
                  </a:lnTo>
                  <a:lnTo>
                    <a:pt x="78" y="54"/>
                  </a:lnTo>
                  <a:lnTo>
                    <a:pt x="91" y="60"/>
                  </a:lnTo>
                  <a:lnTo>
                    <a:pt x="108" y="64"/>
                  </a:lnTo>
                  <a:lnTo>
                    <a:pt x="121" y="67"/>
                  </a:lnTo>
                  <a:lnTo>
                    <a:pt x="135" y="6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2826000" y="4660560"/>
              <a:ext cx="7560" cy="154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26"/>
                  </a:moveTo>
                  <a:lnTo>
                    <a:pt x="10" y="30"/>
                  </a:lnTo>
                  <a:lnTo>
                    <a:pt x="4" y="0"/>
                  </a:lnTo>
                  <a:lnTo>
                    <a:pt x="0" y="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2751840" y="4627080"/>
              <a:ext cx="15120" cy="6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9" name="">
            <a:hlinkClick r:id="" action="ppaction://hlinkshowjump?jump=nextslide"/>
          </p:cNvPr>
          <p:cNvSpPr/>
          <p:nvPr/>
        </p:nvSpPr>
        <p:spPr>
          <a:xfrm>
            <a:off x="7885080" y="5732640"/>
            <a:ext cx="1258920" cy="1125360"/>
          </a:xfrm>
          <a:custGeom>
            <a:avLst/>
            <a:gdLst>
              <a:gd name="textAreaLeft" fmla="*/ 72720 w 1258920"/>
              <a:gd name="textAreaRight" fmla="*/ 1186200 w 125892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0" name=""/>
          <p:cNvSpPr/>
          <p:nvPr/>
        </p:nvSpPr>
        <p:spPr>
          <a:xfrm>
            <a:off x="-38160" y="0"/>
            <a:ext cx="60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went pop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other went b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xit" presetID="51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8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82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9" dur="1230" fill="hold"/>
                                        <p:tgtEl>
                                          <p:spTgt spid="982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0" dur="1230"/>
                                        <p:tgtEl>
                                          <p:spTgt spid="9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2" dur="1230"/>
                                        <p:tgtEl>
                                          <p:spTgt spid="9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1">
                                  <p:stCondLst>
                                    <p:cond delay="2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0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0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8" dur="1230" fill="hold"/>
                                        <p:tgtEl>
                                          <p:spTgt spid="100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9" dur="1230"/>
                                        <p:tgtEl>
                                          <p:spTgt spid="10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1" dur="1230"/>
                                        <p:tgtEl>
                                          <p:spTgt spid="10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16:33:27Z</dcterms:created>
  <dc:creator>Richard Walter</dc:creator>
  <dc:description/>
  <dc:language>en-US</dc:language>
  <cp:lastModifiedBy>Richard Walter</cp:lastModifiedBy>
  <dcterms:modified xsi:type="dcterms:W3CDTF">2003-03-19T20:50:47Z</dcterms:modified>
  <cp:revision>5</cp:revision>
  <dc:subject/>
  <dc:title>Slide 1</dc:title>
</cp:coreProperties>
</file>